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AA2-3202-416D-969B-9A9A15D5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C5A-D9A6-4D71-A61B-74ED0D38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801-F5F1-4B75-B622-8463CC98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567-92C1-457D-B53C-582381F3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91D5-1CEE-41AD-A146-FBA3FC62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BC00-557E-4931-9FDD-4EC66AC1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E7B0-6BCD-480A-A3CC-E504F8B8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2AD8-ABC3-48B8-B46D-A0179F53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4D47-70A8-4B51-8FEC-1238080D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E6C1-F5FD-4C5C-83FC-1DF8E6E7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066E-459E-487C-BBFC-10B8BD3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85E-C541-4999-BEDE-4109E6C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BC26-4E84-4876-851B-C29CA41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800-92A4-470E-BB3C-4809F94A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A8CF-66F2-4159-B9BC-D7E378D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FB23-A6F4-4775-9B5A-2F2C676B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C849-8C8A-41F3-91CB-EEC10D4B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540-A3C8-4C43-A92F-C57AB80B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39C-42B3-440E-ABA8-F0433301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BF4-227A-4D67-8B0D-0E43BCE1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091-EF48-4FB0-8EBB-6263E356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6C3-0159-492C-83B2-8CF719C6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58E-3778-4E72-A01E-8B46CEAF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788-028C-4C56-AA73-DD0EBDAE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78E3-73A1-4443-815B-00B257069CE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A52C-488B-4F56-A2EE-52B4D9B0C70A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cc00"/>
                </a:solidFill>
                <a:latin typeface="Arial"/>
              </a:rPr>
              <a:t>*lingocall</a:t>
            </a:r>
            <a:br>
              <a:rPr sz="4400"/>
            </a:br>
            <a:r>
              <a:rPr b="1" lang="pt-BR" sz="4400" spc="-1" strike="noStrike">
                <a:solidFill>
                  <a:srgbClr val="7e9ce8"/>
                </a:solidFill>
                <a:latin typeface="Arial"/>
              </a:rPr>
              <a:t>O LINGO no seu programa em C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árlinton B. Feres Carva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uilherme A. de Oliv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. Dr. Marcone J. de Freitas So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2014920" y="4329720"/>
            <a:ext cx="1512720" cy="1152360"/>
          </a:xfrm>
          <a:prstGeom prst="leftArrow">
            <a:avLst>
              <a:gd name="adj1" fmla="val 50000"/>
              <a:gd name="adj2" fmla="val 32818"/>
            </a:avLst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penas uma definição de tip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def void (LINGOCALL)( void*[], int*, int*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otina de chamada do LINGOD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rregando a biblioteca LINGODLL.D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tendo o ponteiro do processador de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figurando os parâme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cutando o LIN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erificando er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rregando a biblioteca LINGODLL.D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/ Load the LINGO D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_hInstLINGO = ::LoadLibrary( "lingodll.dll"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nteiro do processador de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Get a pointer to the LINGO script processor - LGC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_pLINGOCall = (LINGOCALL*) ::GetProcAddress( (HMODULE) m_hInstLINGO, "LGCSCRIPT"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figurando os parâ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Build our list of pointers for LIN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* pArgs[4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Our command script (each line terminates with an ASCII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gs[0] = (void*)"SET ECHOIN 1\nSET TERSEO 1\nTAKE C:\\myApp\\myProg.LNG\nGO\nQUIT\n"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Capture all standard output in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gs[1] = (void*) "C:\\myApp\\CV.LOG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Let LINGO allocate working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gs[2] = NUL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utras configur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// Build the list of pointers to data transfer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uble dStart[7], dOnDuty[7], dStatus, dTotal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uble* pTransfer[3] = { &amp;dTotal, &amp;dStatus, NULL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gs[3] = pTransf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// We have initialized four pointer arg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 nArgs = 4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ecutando o LI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/ Pass the command script to LIN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nErrorCod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*m_pLINGOCall)( pArgs, &amp;nArgs, &amp;nErrorCod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Verificando er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// Any problem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f ( nErrorCode || dStatus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// Had a probl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intf("Desabilitado para Solve! ErrorCode=%i dStatus=%G\n", nErrorCode, dStatu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intf("Aguardando pressionar enter;"); getch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// Everything went ok ... load results into the dialog bo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// printf("LINGO EXECUTADO COM SUCESSO!\n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Finalizando a execuçã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/ Release LINGO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ibrary( m_hInstLINGO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2350400">
            <a:off x="5939640" y="1989000"/>
            <a:ext cx="1513080" cy="1152720"/>
          </a:xfrm>
          <a:prstGeom prst="leftArrow">
            <a:avLst>
              <a:gd name="adj1" fmla="val 50000"/>
              <a:gd name="adj2" fmla="val 32815"/>
            </a:avLst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piando o arquivo parcial.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0.00000000\n0.00000000\n0.00000000\n0.00000000\n0.00000000\n0.00000000\n0.00000000\n0.00000000\n0.00000000\n0.00000000\n1.0000000\n1.0000000\n0.00000000\n0.00000000\n0.00000000\n0.00000000..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emplo da leitura de uma matriz 0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loat bi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ool **solucao; //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matriz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e soluco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olucao =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ria_matriz_boo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tam, tam);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int x=0 ; x&lt;=j-i ; x++)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int y=0 ; y&lt;=j-i ; y++)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scanf(fparcial, "%f", &amp;bin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olucao[y][x]=(bool)bin;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úvi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133720"/>
            <a:ext cx="1513080" cy="1152360"/>
          </a:xfrm>
          <a:prstGeom prst="leftArrow">
            <a:avLst>
              <a:gd name="adj1" fmla="val 50000"/>
              <a:gd name="adj2" fmla="val 32826"/>
            </a:avLst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myProg.L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e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idades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/@file('ordem.dat')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/:v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triz(cidades,cidades):d,x,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dse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file('custo.dat'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file('ordem.dat');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d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n = @SIZE( cidades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[OBJECTIVE] min = fo; fo = @sum(matriz(i,j)|i#ne#j:d(i,j)*x(i,j)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!Restriçõe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text('parcial.dat')=x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POINTER(1) = OBJECTIV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POINTER(2) = @STATUS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d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0920" y="4221000"/>
            <a:ext cx="1513080" cy="1152720"/>
          </a:xfrm>
          <a:prstGeom prst="leftArrow">
            <a:avLst>
              <a:gd name="adj1" fmla="val 50000"/>
              <a:gd name="adj2" fmla="val 32815"/>
            </a:avLst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ipulação de arqu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*fobjs, *fcust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bjs = fopen(“objs.dat","w"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custo = fopen("custo.dat","w"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close(fobj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close(fcusto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eitura e escrita em arqu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printf(fcusto,"%5f\n",vfloat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scanf(fparcial, "%f", &amp;bi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piando um arquivo custo.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0.000000\n17.262677\n18.110770\n31.320920\n34.000000\n38.288379\n28.319605\n32.449961\n39.408121\n43.931765\n32.557641\n29.966648\n20.808652\n13.892444\n17.262677\n0.000000\n5.099020\n17.691806\n23.021729\n..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rando um arquivo custo.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int a=i ; a&lt;j ; a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printf(fcusto,"%5f\n",c[a]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 k=i; k&lt;j ; k++){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printf(fobj,"%d\n",s[k]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int a=i ; a&lt;j ; a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printf(fcusto,"%5f\n",c[k][a]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}; //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0:57:31Z</dcterms:created>
  <dc:creator>Darlinton B. Feres Carvalho</dc:creator>
  <dc:description/>
  <dc:language>en-US</dc:language>
  <cp:lastModifiedBy>Darlinton B. Feres Carvalho</cp:lastModifiedBy>
  <dcterms:modified xsi:type="dcterms:W3CDTF">2003-07-28T12:24:44Z</dcterms:modified>
  <cp:revision>18</cp:revision>
  <dc:subject/>
  <dc:title>lingocall O LINGO no seu programa em C</dc:title>
</cp:coreProperties>
</file>