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F27-BA5C-4F94-86C0-F06DC459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649-3C18-4696-BFBC-9A71FB3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470-19C2-4EFF-A3C8-82186C66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A43-B314-4F51-8C09-78D3FF4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B01-E819-4FAE-9D5A-BE87EB33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E1FA-8589-4E04-83E0-8F9C6911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105A-129C-41DC-A5E2-7B3C5855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84B-437F-4732-A1BF-0CFB2FEB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810-870E-4DE4-8BC3-13B2DC20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9B9-2FE4-4D99-AF46-ED405EF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9564-3438-49B0-819B-7BB1AC0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002-E125-4163-8568-A45BA67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3D7-8FBF-4818-91DB-134081F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5B9-31CA-43DF-898B-29ADCF7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09D1-37F1-4A05-88B1-77F9A0F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D16-318D-434E-95BA-0D5B6822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0351-2FC2-4968-9227-40C4287A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D75-306B-42BF-A57D-CA637DE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755-BCEF-403F-8CDE-19964E3D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235-F89D-4053-8D59-004D521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AE7-8D8D-480B-BFAD-E8B7D378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1CA-0B0B-463E-8B0D-A1405DF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84C-8345-4D71-A0D2-41A6FBF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575-CA81-430E-8B94-CAE4FFE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059-1403-49D4-8A28-E01CC84E92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4699-72AA-4590-B645-4ED8C4E6DD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mulação de Sistem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133720"/>
            <a:ext cx="4870440" cy="3163680"/>
          </a:xfrm>
          <a:custGeom>
            <a:avLst/>
            <a:gdLst/>
            <a:ahLst/>
            <a:rect l="l" t="t" r="r" b="b"/>
            <a:pathLst>
              <a:path w="3068" h="1993">
                <a:moveTo>
                  <a:pt x="258" y="338"/>
                </a:moveTo>
                <a:cubicBezTo>
                  <a:pt x="278" y="281"/>
                  <a:pt x="285" y="217"/>
                  <a:pt x="318" y="166"/>
                </a:cubicBezTo>
                <a:cubicBezTo>
                  <a:pt x="334" y="103"/>
                  <a:pt x="314" y="156"/>
                  <a:pt x="353" y="106"/>
                </a:cubicBezTo>
                <a:cubicBezTo>
                  <a:pt x="402" y="43"/>
                  <a:pt x="363" y="61"/>
                  <a:pt x="413" y="46"/>
                </a:cubicBezTo>
                <a:cubicBezTo>
                  <a:pt x="433" y="52"/>
                  <a:pt x="455" y="53"/>
                  <a:pt x="473" y="63"/>
                </a:cubicBezTo>
                <a:cubicBezTo>
                  <a:pt x="502" y="80"/>
                  <a:pt x="499" y="96"/>
                  <a:pt x="516" y="123"/>
                </a:cubicBezTo>
                <a:cubicBezTo>
                  <a:pt x="534" y="151"/>
                  <a:pt x="545" y="160"/>
                  <a:pt x="568" y="183"/>
                </a:cubicBezTo>
                <a:cubicBezTo>
                  <a:pt x="571" y="192"/>
                  <a:pt x="567" y="209"/>
                  <a:pt x="576" y="209"/>
                </a:cubicBezTo>
                <a:cubicBezTo>
                  <a:pt x="593" y="209"/>
                  <a:pt x="604" y="189"/>
                  <a:pt x="619" y="183"/>
                </a:cubicBezTo>
                <a:cubicBezTo>
                  <a:pt x="638" y="175"/>
                  <a:pt x="659" y="170"/>
                  <a:pt x="679" y="166"/>
                </a:cubicBezTo>
                <a:cubicBezTo>
                  <a:pt x="753" y="150"/>
                  <a:pt x="828" y="139"/>
                  <a:pt x="903" y="131"/>
                </a:cubicBezTo>
                <a:cubicBezTo>
                  <a:pt x="989" y="134"/>
                  <a:pt x="1127" y="157"/>
                  <a:pt x="1230" y="131"/>
                </a:cubicBezTo>
                <a:cubicBezTo>
                  <a:pt x="1247" y="127"/>
                  <a:pt x="1264" y="119"/>
                  <a:pt x="1281" y="114"/>
                </a:cubicBezTo>
                <a:cubicBezTo>
                  <a:pt x="1295" y="110"/>
                  <a:pt x="1310" y="109"/>
                  <a:pt x="1324" y="106"/>
                </a:cubicBezTo>
                <a:cubicBezTo>
                  <a:pt x="1347" y="101"/>
                  <a:pt x="1393" y="89"/>
                  <a:pt x="1393" y="89"/>
                </a:cubicBezTo>
                <a:cubicBezTo>
                  <a:pt x="1465" y="106"/>
                  <a:pt x="1450" y="156"/>
                  <a:pt x="1470" y="217"/>
                </a:cubicBezTo>
                <a:cubicBezTo>
                  <a:pt x="1550" y="168"/>
                  <a:pt x="1633" y="116"/>
                  <a:pt x="1720" y="80"/>
                </a:cubicBezTo>
                <a:cubicBezTo>
                  <a:pt x="1912" y="0"/>
                  <a:pt x="1657" y="126"/>
                  <a:pt x="1831" y="37"/>
                </a:cubicBezTo>
                <a:cubicBezTo>
                  <a:pt x="1940" y="46"/>
                  <a:pt x="1930" y="30"/>
                  <a:pt x="1986" y="89"/>
                </a:cubicBezTo>
                <a:cubicBezTo>
                  <a:pt x="2002" y="124"/>
                  <a:pt x="2026" y="156"/>
                  <a:pt x="2038" y="192"/>
                </a:cubicBezTo>
                <a:cubicBezTo>
                  <a:pt x="2044" y="208"/>
                  <a:pt x="2041" y="227"/>
                  <a:pt x="2046" y="243"/>
                </a:cubicBezTo>
                <a:cubicBezTo>
                  <a:pt x="2052" y="264"/>
                  <a:pt x="2063" y="283"/>
                  <a:pt x="2072" y="303"/>
                </a:cubicBezTo>
                <a:cubicBezTo>
                  <a:pt x="2083" y="356"/>
                  <a:pt x="2092" y="346"/>
                  <a:pt x="2106" y="389"/>
                </a:cubicBezTo>
                <a:cubicBezTo>
                  <a:pt x="2148" y="331"/>
                  <a:pt x="2092" y="399"/>
                  <a:pt x="2167" y="346"/>
                </a:cubicBezTo>
                <a:cubicBezTo>
                  <a:pt x="2184" y="334"/>
                  <a:pt x="2192" y="313"/>
                  <a:pt x="2210" y="303"/>
                </a:cubicBezTo>
                <a:cubicBezTo>
                  <a:pt x="2228" y="293"/>
                  <a:pt x="2250" y="293"/>
                  <a:pt x="2270" y="286"/>
                </a:cubicBezTo>
                <a:cubicBezTo>
                  <a:pt x="2333" y="263"/>
                  <a:pt x="2392" y="238"/>
                  <a:pt x="2459" y="226"/>
                </a:cubicBezTo>
                <a:cubicBezTo>
                  <a:pt x="2490" y="231"/>
                  <a:pt x="2525" y="229"/>
                  <a:pt x="2545" y="260"/>
                </a:cubicBezTo>
                <a:cubicBezTo>
                  <a:pt x="2590" y="328"/>
                  <a:pt x="2582" y="471"/>
                  <a:pt x="2588" y="544"/>
                </a:cubicBezTo>
                <a:cubicBezTo>
                  <a:pt x="2668" y="505"/>
                  <a:pt x="2632" y="517"/>
                  <a:pt x="2691" y="501"/>
                </a:cubicBezTo>
                <a:cubicBezTo>
                  <a:pt x="2696" y="501"/>
                  <a:pt x="2899" y="495"/>
                  <a:pt x="2958" y="527"/>
                </a:cubicBezTo>
                <a:cubicBezTo>
                  <a:pt x="3068" y="588"/>
                  <a:pt x="2888" y="526"/>
                  <a:pt x="3001" y="561"/>
                </a:cubicBezTo>
                <a:cubicBezTo>
                  <a:pt x="3007" y="579"/>
                  <a:pt x="3024" y="594"/>
                  <a:pt x="3026" y="613"/>
                </a:cubicBezTo>
                <a:cubicBezTo>
                  <a:pt x="3028" y="633"/>
                  <a:pt x="3025" y="654"/>
                  <a:pt x="3018" y="673"/>
                </a:cubicBezTo>
                <a:cubicBezTo>
                  <a:pt x="2994" y="737"/>
                  <a:pt x="2954" y="728"/>
                  <a:pt x="2906" y="759"/>
                </a:cubicBezTo>
                <a:cubicBezTo>
                  <a:pt x="2946" y="790"/>
                  <a:pt x="2957" y="800"/>
                  <a:pt x="2983" y="845"/>
                </a:cubicBezTo>
                <a:cubicBezTo>
                  <a:pt x="2986" y="859"/>
                  <a:pt x="2992" y="873"/>
                  <a:pt x="2992" y="888"/>
                </a:cubicBezTo>
                <a:cubicBezTo>
                  <a:pt x="2992" y="998"/>
                  <a:pt x="2926" y="1004"/>
                  <a:pt x="2837" y="1017"/>
                </a:cubicBezTo>
                <a:cubicBezTo>
                  <a:pt x="2788" y="1014"/>
                  <a:pt x="2739" y="1015"/>
                  <a:pt x="2691" y="1008"/>
                </a:cubicBezTo>
                <a:cubicBezTo>
                  <a:pt x="2682" y="1007"/>
                  <a:pt x="2709" y="996"/>
                  <a:pt x="2717" y="1000"/>
                </a:cubicBezTo>
                <a:cubicBezTo>
                  <a:pt x="2725" y="1004"/>
                  <a:pt x="2722" y="1017"/>
                  <a:pt x="2725" y="1026"/>
                </a:cubicBezTo>
                <a:cubicBezTo>
                  <a:pt x="2709" y="1210"/>
                  <a:pt x="2680" y="1301"/>
                  <a:pt x="2485" y="1352"/>
                </a:cubicBezTo>
                <a:cubicBezTo>
                  <a:pt x="2457" y="1359"/>
                  <a:pt x="2428" y="1365"/>
                  <a:pt x="2399" y="1369"/>
                </a:cubicBezTo>
                <a:cubicBezTo>
                  <a:pt x="2345" y="1377"/>
                  <a:pt x="2235" y="1387"/>
                  <a:pt x="2235" y="1387"/>
                </a:cubicBezTo>
                <a:cubicBezTo>
                  <a:pt x="2192" y="1384"/>
                  <a:pt x="2148" y="1389"/>
                  <a:pt x="2106" y="1378"/>
                </a:cubicBezTo>
                <a:cubicBezTo>
                  <a:pt x="2097" y="1376"/>
                  <a:pt x="2090" y="1355"/>
                  <a:pt x="2098" y="1352"/>
                </a:cubicBezTo>
                <a:cubicBezTo>
                  <a:pt x="2114" y="1346"/>
                  <a:pt x="2132" y="1358"/>
                  <a:pt x="2149" y="1361"/>
                </a:cubicBezTo>
                <a:cubicBezTo>
                  <a:pt x="2173" y="1373"/>
                  <a:pt x="2200" y="1383"/>
                  <a:pt x="2218" y="1404"/>
                </a:cubicBezTo>
                <a:cubicBezTo>
                  <a:pt x="2226" y="1414"/>
                  <a:pt x="2228" y="1428"/>
                  <a:pt x="2235" y="1438"/>
                </a:cubicBezTo>
                <a:cubicBezTo>
                  <a:pt x="2240" y="1445"/>
                  <a:pt x="2247" y="1449"/>
                  <a:pt x="2253" y="1455"/>
                </a:cubicBezTo>
                <a:cubicBezTo>
                  <a:pt x="2256" y="1481"/>
                  <a:pt x="2258" y="1507"/>
                  <a:pt x="2261" y="1533"/>
                </a:cubicBezTo>
                <a:cubicBezTo>
                  <a:pt x="2266" y="1570"/>
                  <a:pt x="2278" y="1645"/>
                  <a:pt x="2278" y="1645"/>
                </a:cubicBezTo>
                <a:cubicBezTo>
                  <a:pt x="2267" y="1763"/>
                  <a:pt x="2281" y="1747"/>
                  <a:pt x="2167" y="1774"/>
                </a:cubicBezTo>
                <a:cubicBezTo>
                  <a:pt x="2230" y="1799"/>
                  <a:pt x="2216" y="1811"/>
                  <a:pt x="2244" y="1868"/>
                </a:cubicBezTo>
                <a:cubicBezTo>
                  <a:pt x="2240" y="1893"/>
                  <a:pt x="2241" y="1927"/>
                  <a:pt x="2218" y="1945"/>
                </a:cubicBezTo>
                <a:cubicBezTo>
                  <a:pt x="2211" y="1951"/>
                  <a:pt x="2200" y="1950"/>
                  <a:pt x="2192" y="1954"/>
                </a:cubicBezTo>
                <a:cubicBezTo>
                  <a:pt x="2169" y="1965"/>
                  <a:pt x="2124" y="1988"/>
                  <a:pt x="2124" y="1988"/>
                </a:cubicBezTo>
                <a:cubicBezTo>
                  <a:pt x="1897" y="1977"/>
                  <a:pt x="1587" y="1993"/>
                  <a:pt x="1350" y="1920"/>
                </a:cubicBezTo>
                <a:cubicBezTo>
                  <a:pt x="1308" y="1856"/>
                  <a:pt x="1246" y="1870"/>
                  <a:pt x="1169" y="1859"/>
                </a:cubicBezTo>
                <a:cubicBezTo>
                  <a:pt x="1136" y="1843"/>
                  <a:pt x="1117" y="1825"/>
                  <a:pt x="1092" y="1799"/>
                </a:cubicBezTo>
                <a:cubicBezTo>
                  <a:pt x="1090" y="1792"/>
                  <a:pt x="1080" y="1756"/>
                  <a:pt x="1066" y="1756"/>
                </a:cubicBezTo>
                <a:cubicBezTo>
                  <a:pt x="1053" y="1756"/>
                  <a:pt x="1044" y="1770"/>
                  <a:pt x="1032" y="1774"/>
                </a:cubicBezTo>
                <a:cubicBezTo>
                  <a:pt x="990" y="1787"/>
                  <a:pt x="946" y="1790"/>
                  <a:pt x="903" y="1799"/>
                </a:cubicBezTo>
                <a:cubicBezTo>
                  <a:pt x="678" y="1788"/>
                  <a:pt x="530" y="1799"/>
                  <a:pt x="335" y="1722"/>
                </a:cubicBezTo>
                <a:cubicBezTo>
                  <a:pt x="309" y="1685"/>
                  <a:pt x="284" y="1647"/>
                  <a:pt x="258" y="1610"/>
                </a:cubicBezTo>
                <a:cubicBezTo>
                  <a:pt x="252" y="1601"/>
                  <a:pt x="241" y="1584"/>
                  <a:pt x="241" y="1584"/>
                </a:cubicBezTo>
                <a:cubicBezTo>
                  <a:pt x="236" y="1564"/>
                  <a:pt x="239" y="1539"/>
                  <a:pt x="224" y="1524"/>
                </a:cubicBezTo>
                <a:cubicBezTo>
                  <a:pt x="203" y="1503"/>
                  <a:pt x="149" y="1486"/>
                  <a:pt x="121" y="1464"/>
                </a:cubicBezTo>
                <a:cubicBezTo>
                  <a:pt x="91" y="1440"/>
                  <a:pt x="77" y="1402"/>
                  <a:pt x="60" y="1369"/>
                </a:cubicBezTo>
                <a:cubicBezTo>
                  <a:pt x="48" y="1318"/>
                  <a:pt x="17" y="1283"/>
                  <a:pt x="69" y="1249"/>
                </a:cubicBezTo>
                <a:cubicBezTo>
                  <a:pt x="75" y="1240"/>
                  <a:pt x="86" y="1233"/>
                  <a:pt x="86" y="1223"/>
                </a:cubicBezTo>
                <a:cubicBezTo>
                  <a:pt x="86" y="1213"/>
                  <a:pt x="72" y="1208"/>
                  <a:pt x="69" y="1198"/>
                </a:cubicBezTo>
                <a:cubicBezTo>
                  <a:pt x="58" y="1167"/>
                  <a:pt x="52" y="1135"/>
                  <a:pt x="43" y="1103"/>
                </a:cubicBezTo>
                <a:cubicBezTo>
                  <a:pt x="21" y="1027"/>
                  <a:pt x="20" y="947"/>
                  <a:pt x="0" y="871"/>
                </a:cubicBezTo>
                <a:cubicBezTo>
                  <a:pt x="6" y="853"/>
                  <a:pt x="25" y="838"/>
                  <a:pt x="26" y="819"/>
                </a:cubicBezTo>
                <a:cubicBezTo>
                  <a:pt x="34" y="713"/>
                  <a:pt x="30" y="607"/>
                  <a:pt x="35" y="501"/>
                </a:cubicBezTo>
                <a:cubicBezTo>
                  <a:pt x="39" y="413"/>
                  <a:pt x="188" y="406"/>
                  <a:pt x="250" y="398"/>
                </a:cubicBezTo>
                <a:cubicBezTo>
                  <a:pt x="256" y="379"/>
                  <a:pt x="275" y="353"/>
                  <a:pt x="258" y="338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stem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429000"/>
            <a:ext cx="2664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960" y="3645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97840" y="3645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38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 Pesquisa Operaciona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imização (PL, PI, PIM, FR,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imização x Simulaçã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Previs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que acontece com o aumento na demand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Investig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de está o gargalo no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Compar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melhor ter 3 ou 4 caix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agen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i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e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e de hipóte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Simulaçã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quer treina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s resultados não são ex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nálise dos 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208764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320" y="19162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0200" y="2349360"/>
            <a:ext cx="156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u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9000" y="3429000"/>
            <a:ext cx="1671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1480" y="4421160"/>
            <a:ext cx="145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u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5040" y="508464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et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1844640"/>
            <a:ext cx="230472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66760" y="19162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5120" y="2414520"/>
            <a:ext cx="190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et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05640" y="4508640"/>
            <a:ext cx="1377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 vali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3240" y="3284640"/>
            <a:ext cx="1410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38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1557360"/>
            <a:ext cx="230328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7760" y="1630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99600" y="2062080"/>
            <a:ext cx="160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44880" y="3054240"/>
            <a:ext cx="192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48800" y="3927600"/>
            <a:ext cx="95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3430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43044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4724280"/>
            <a:ext cx="223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73200" y="47260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1640" y="5300640"/>
            <a:ext cx="187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4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 – Formulação 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os objet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r que o problema está sendo estud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serão as respostas esperad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são os critérios de avaliaçã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as restrições são esperadas das soluçõ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 – Planejamento do Pro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ursos disponíve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os cená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onogr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as ativ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vantamento dos cu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 Formulação do Modelo Concei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boçar 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uxograma, DCA, Pseudocódi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çar de forma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ção do usuá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gumas questões devem ser respond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o discreto? Contínuo? Uma combinaçã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quanto detalha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 relatórios gera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 Formulação do Modelo Concei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apas na Construção de um mode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 – Coleta de macro informaçõ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is são as relações e regras que conduzem a dinâmica do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is são as fontes dos dados necessários à alimentação do mode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dados já se encontram na forma desejad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 – Coleta de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entre chega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de atend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anda por unidade de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r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 - Construção do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dificar o mode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ns de uso geral (Pascal, C, C++,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oftwares próprios (Arena, Promodel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7 – Verificação e Valid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modelo gera informações que satisfazem aos objetivos do estu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formações são confiávei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sui erros de programaçã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 – Projeto Experimen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tar um conjunto de experi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r que fatores devem ser vari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9 - Experiment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ecutar as simul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úmero de replica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de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quec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0 – Interpretação 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o o sistema está funcionan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á gargalo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lterações funcionara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 - Implement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 solução sugerida é a melho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projeto é viáve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anipulação do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ivisão do tempo em intervalos regula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imlação de vô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écnica do próximo ev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Fi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cas de est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inuamente a qualquer pont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inuamente em pontos discretos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retamente a qualquer pont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retamente em pontos discretos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istem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definido como um grupo de objetos que estão juntos em alguma interação e/ou interdependência, objetivando a realização de algum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escolha dos limites do que chamaremos sistema em estudo vai sempre depender do nosso interes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está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almente não envolvem a variável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inâ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resentam o estado do sistema em função do avanç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terminís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tilizam somente variáveis determinís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estocás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a ou mais variáveis do modelo são aleatóri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iscre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contínu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istemas de produ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ufatura e montag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vimentação de peças e matéria pr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locação de mão de ob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Áreas de armazenag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imensionar novos layouts e plantas industria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ncontrar e eliminar garga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de transporte e estocag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distribui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mazéns e entrepos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Computacio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comunic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Administrat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gurado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dores de crédi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ancei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de prestação de serviç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spita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ços de emergê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reitas (200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ado (199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aw &amp; Kelton (199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oares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2133720"/>
            <a:ext cx="8785440" cy="3454200"/>
            <a:chOff x="179280" y="2133720"/>
            <a:chExt cx="8785440" cy="3454200"/>
          </a:xfrm>
        </p:grpSpPr>
        <p:sp>
          <p:nvSpPr>
            <p:cNvPr id="93" name=""/>
            <p:cNvSpPr/>
            <p:nvPr/>
          </p:nvSpPr>
          <p:spPr>
            <a:xfrm>
              <a:off x="1763640" y="3429000"/>
              <a:ext cx="64764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763640" y="2349360"/>
              <a:ext cx="64764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9280" y="2637000"/>
              <a:ext cx="1871640" cy="107928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11280" y="2133720"/>
              <a:ext cx="2160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venção dir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11280" y="3933720"/>
              <a:ext cx="187164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erimen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 mode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2360" y="3213000"/>
              <a:ext cx="165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tóti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2360" y="4581360"/>
              <a:ext cx="1800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del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e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96360" y="400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olu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nalí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4720" y="5084640"/>
              <a:ext cx="1368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mu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284720" y="3429000"/>
              <a:ext cx="64764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84720" y="4221000"/>
              <a:ext cx="64764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32720" y="4292280"/>
              <a:ext cx="86364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720" y="4869000"/>
              <a:ext cx="79200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venção Dire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er experiência de tal forma que a tomada de decisões não impactem negativamente a performance do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rimentação com mode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na criação de um modelo que a depender da aplicação deve representar e/ou demonstrar a forma de funcionamento do sistema re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rimentação com mode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ótip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os matemá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luções analíti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 a técnica de solução de um problema pela análise de um modelo que descreve o comportamento do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giu como uma extensão do Método de Monte Car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Simul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uir teorias e hipóteses considerando as observações efetuadas e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ar o modelo para prever o comportamento futuro, isto é, os efeitos produzidos por alterações no sistema ou nos métodos empregados em sua operaçã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ão descrições de um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ualmente, esta descrição toma a forma de relações matemáticas e/ou lógic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odelagem depende do propósito e da complexidade do sistema sob investigaçã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0:40:25Z</dcterms:created>
  <dc:creator>Computer</dc:creator>
  <dc:description/>
  <dc:language>en-US</dc:language>
  <cp:lastModifiedBy>Computer</cp:lastModifiedBy>
  <dcterms:modified xsi:type="dcterms:W3CDTF">2006-02-04T12:39:58Z</dcterms:modified>
  <cp:revision>75</cp:revision>
  <dc:subject/>
  <dc:title>Simulação de Sistemas</dc:title>
</cp:coreProperties>
</file>