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62E-EBA3-42DD-AB43-C31EA5AF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180-3F72-47D2-9DDF-3B3508E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C37-DB1A-4BC2-8996-95E4F84D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D7C-3E95-415B-831C-298646D7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0BDE-3626-407D-A1EF-5F295B33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7441-8BC4-46B8-96A5-5C5103B5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A838-A254-4CD8-92DE-25728B66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808C-BD1F-4F1D-93AB-69B8541A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BAEB-9621-4993-8528-D1C3F0F9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6193-8E10-488C-99D4-8E1AF302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ADF3-B0F3-4D67-8EA9-0271D6A6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38A-A89E-40C5-B4C6-0759D50C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A8F4-000B-4D6F-B88B-E0B6143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888E-6B08-4EF9-BAC9-68AE517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7B5A-EDBC-4FBE-951D-C8EE9687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A613-E7C9-4B72-8427-4906C25D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7496-D8EE-4FDE-8CD1-28C58743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C4B-F9E4-46D9-8D07-FF088DA4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C95-B71E-4B01-9C95-0D0131B6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C8C-F272-4C8A-B221-2139441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E4B-451B-4B61-AD03-08092AE7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3A3-9A77-4FBC-9BB0-BA636C7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6CB-9A80-4432-AE88-C1A68F59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B87-DE8A-43A1-B872-E362D040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70DF-6FD2-4BCA-98A7-5F521F87D3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BE99-7F2E-43AC-8C18-AABF5C9893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.: Alexandre/DEC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mulação de Sistem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03640" y="1752480"/>
            <a:ext cx="356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ular manual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ula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 de fi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 de atendi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 to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xa de ocup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608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sistema em estudo é a parte de lavra de uma mineração a céu aber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 processos sã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egada de caminh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ga dos caminhões por uma carregadei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1844640"/>
          <a:ext cx="8280360" cy="4348080"/>
        </p:xfrm>
        <a:graphic>
          <a:graphicData uri="http://schemas.openxmlformats.org/drawingml/2006/table">
            <a:tbl>
              <a:tblPr/>
              <a:tblGrid>
                <a:gridCol w="1871640"/>
                <a:gridCol w="3529080"/>
                <a:gridCol w="28796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inhã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o da  chegada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o de atendimen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izar uma simulação man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ados do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úmero de caminh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egadeira ocupada ou liv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dança de est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minhão cheg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minhão sa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umindo qu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icialmente não há caminhão na carg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primeiro caminhão chega no tempo 2 minu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são do Caminh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9440" y="2021040"/>
            <a:ext cx="838512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são do Caminh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médio na fila = 0,36 minu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médio no atendimento = 1,6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médio no sistema = 2,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são da Carregadei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72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xa de ocupação = 64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são da Carregadei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8:06:42Z</dcterms:created>
  <dc:creator>Computer</dc:creator>
  <dc:description/>
  <dc:language>en-US</dc:language>
  <cp:lastModifiedBy>Computer</cp:lastModifiedBy>
  <dcterms:modified xsi:type="dcterms:W3CDTF">2006-02-04T00:16:48Z</dcterms:modified>
  <cp:revision>20</cp:revision>
  <dc:subject/>
  <dc:title>Simulação de Sistemas</dc:title>
</cp:coreProperties>
</file>