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CBA9-3D8A-491E-A880-2EC03C1AC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BD34-EC0C-47AF-9B17-817467A1D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448D-AA8C-42F3-905A-05ABB879C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9B84-264A-433F-A231-927134844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876-E760-40BD-B5B6-FAEEF0CF25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B17-0793-4676-8057-0615F1E1A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563-DB1E-435C-B2D7-5FF22E42C9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069-DF62-45E9-A7C4-239D1E14B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328-9BB7-4CD6-A015-D8B5971F89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422-D6B3-4845-8C19-C29B135316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D25-301E-4B49-BB19-7AA8EBF37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650B-9FCE-4F3F-A4A6-63E4EE490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6A2-C583-4DE1-912A-5BFEFC92D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F27-0923-43F0-B26C-18E6297CEC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AF8-AE0C-4DDB-B85C-AAE4C10DC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D58-26FC-439E-A8FC-E15B03140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08D-585D-40B3-BF7E-CCD934697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6828-F4E3-4E7B-9CD9-FEC6A9B7C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EAE5-5038-42FA-9FF8-02F19C643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F904-9CA8-4D1F-A952-66EAB8393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D18C-B994-4C2A-847F-731EC1D31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F36E-A73A-4127-870E-DA1DEB3B4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4C73-8C97-430E-919C-F236A9BF5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96C7-4A67-4F17-A71B-7F6B8B71B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D50B-5F38-4385-AB0F-D2E0ED433C35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4BBC-811D-4DE6-ADB6-D10DBCFE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730600" y="64764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3160" y="200664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560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447920" y="838080"/>
            <a:ext cx="1218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752480" y="990720"/>
            <a:ext cx="10670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90720"/>
            <a:ext cx="30492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857640" y="3352680"/>
            <a:ext cx="106668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553080" y="4648320"/>
            <a:ext cx="1371600" cy="99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105160" y="1219320"/>
            <a:ext cx="6858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95320" y="2286000"/>
            <a:ext cx="129564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5FB5-9E2C-4EF5-A123-7FE68705BD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47920" y="19836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828800" y="1386000"/>
          <a:ext cx="5638680" cy="219060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600"/>
                <a:gridCol w="939960"/>
                <a:gridCol w="9396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828800" y="4205160"/>
          <a:ext cx="5715000" cy="3808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90360"/>
                <a:gridCol w="914400"/>
                <a:gridCol w="952560"/>
                <a:gridCol w="9525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1815480" y="5195880"/>
            <a:ext cx="52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 2  (número de facilidades a serem localiz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44200" y="580536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 = 5 (número de local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2080" y="359568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de ligação entre as loc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8360" y="4586400"/>
            <a:ext cx="33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usto fixo de instalação da fac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6F8B-20C8-41BD-BABA-3D39E51E3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Sejam os seguintes dados de entr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Localida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úmero de facilidades (medianas) a serem localizad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ligação entre a localidade i e sua facilidade mais próxima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pt-BR" sz="2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usto de instalação da facilidade j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 as seguintes variáveis de decisã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5410080"/>
                <a:ext cx="31068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mediana j é instalad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920" y="4346640"/>
                <a:ext cx="5029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e a localidade  i é atendida pela facilidade j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659E-5587-4D87-AE83-E17FCF858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a P-mediana não Capac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362320" y="2209680"/>
                <a:ext cx="30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86000" y="4343400"/>
                <a:ext cx="4711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292480" y="5257800"/>
                <a:ext cx="16002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195800" y="5332320"/>
                <a:ext cx="1519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894120" y="5486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665440" y="1143000"/>
                <a:ext cx="30639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395440" y="3209760"/>
                <a:ext cx="13924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56272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243828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Cad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atendida por uma única facil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33526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4267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565440"/>
            <a:ext cx="289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facilidades devem ser instalad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4098960"/>
            <a:ext cx="1981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Um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atendida por uma única facil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omente se houver uma facilidade instalada na região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CDB1-7002-48BC-B1CF-50CFD35864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61A8-0848-40DC-AE4E-E756FB5624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11280" y="4952880"/>
                <a:ext cx="4737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sub/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51460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392720" y="5783400"/>
                <a:ext cx="10760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71500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40384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49528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257508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e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sai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18040" y="3489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chega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962520"/>
            <a:ext cx="2895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 exceto a origem, a quantidade de fluxo que chega à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menos a quantidade de fluxo que sai 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igual a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62920" y="502920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O máximo de fluxo no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 é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9292-025F-45DB-A4AB-2C219FDF46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é da classe NP-difícil: não existem algoritmos exatos que o resolvam em tempo pol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dimensões mais elevadas, a resolução por modelos de programação matemática é proibitiva em termos de tempos computa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é resolvido por meio de heu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ão garantem a otimalidade da solução f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duzem soluções finais de boa qualidade rapid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423C-9D30-4D80-9DD3-83417D366D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827840" y="1143000"/>
          <a:ext cx="1163880" cy="167472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746840" y="144792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>
            <a:stCxn id="317" idx="7"/>
            <a:endCxn id="311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16FC-15F8-4921-BAFD-8AE63A8CC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827840" y="1143000"/>
          <a:ext cx="1163880" cy="1400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31" idx="7"/>
            <a:endCxn id="325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25" idx="6"/>
            <a:endCxn id="328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665C-711B-4468-8D55-033C6793FC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827840" y="1143000"/>
          <a:ext cx="1163880" cy="1125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7" idx="7"/>
            <a:endCxn id="341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41" idx="6"/>
            <a:endCxn id="344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44" idx="3"/>
            <a:endCxn id="342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8720-F0EC-418E-9A51-2C9F57FEBF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3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219320"/>
            <a:ext cx="701028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as p-media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de programação matemá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Inserção mais bar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oblema de Roteamento de Veícu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Clarke e Wr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961B-7EBA-4234-88AB-09B11DB14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7827840" y="1143000"/>
          <a:ext cx="1163880" cy="851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5" idx="7"/>
            <a:endCxn id="35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59" idx="6"/>
            <a:endCxn id="36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62" idx="3"/>
            <a:endCxn id="360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60" idx="2"/>
            <a:endCxn id="36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2867-70C3-4526-861D-0BAEF4E57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827840" y="1143000"/>
          <a:ext cx="1163880" cy="576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>
            <a:stCxn id="385" idx="7"/>
            <a:endCxn id="37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9" idx="6"/>
            <a:endCxn id="38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"/>
          <p:cNvCxnSpPr>
            <a:stCxn id="382" idx="3"/>
            <a:endCxn id="380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80" idx="2"/>
            <a:endCxn id="38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84" idx="7"/>
            <a:endCxn id="383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8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B6AF-80BF-43CE-AF58-2FA4676319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33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: “Inserção forçad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>
            <a:stCxn id="405" idx="7"/>
            <a:endCxn id="400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0" idx="6"/>
            <a:endCxn id="402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02" idx="3"/>
            <a:endCxn id="401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01" idx="2"/>
            <a:endCxn id="404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6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04" idx="7"/>
            <a:endCxn id="403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03" idx="2"/>
            <a:endCxn id="405" idx="6"/>
          </p:cNvCxnSpPr>
          <p:nvPr/>
        </p:nvCxnSpPr>
        <p:spPr>
          <a:xfrm flipH="1">
            <a:off x="1269720" y="379728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018880" y="424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496B-1221-4DC2-AABA-E77CE9188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24000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944400" y="48006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27" idx="6"/>
            <a:endCxn id="425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26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6" idx="1"/>
            <a:endCxn id="427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8D9E-76A4-450C-93B0-1A5E8FF1B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6629400" y="1143000"/>
          <a:ext cx="235440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2 – 2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5 – 2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9 – 2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9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1 – 2 =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6527880" y="144792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 + 1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44" idx="6"/>
            <a:endCxn id="442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3"/>
            <a:endCxn id="443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3" idx="1"/>
            <a:endCxn id="444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44" idx="7"/>
            <a:endCxn id="43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8" idx="6"/>
            <a:endCxn id="442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89CB-5383-4525-AF3C-BCD7DE72F8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629400" y="1143000"/>
          <a:ext cx="235440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1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5 – 2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9 – 2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2 + 4 =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64" idx="3"/>
            <a:endCxn id="465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65" idx="1"/>
            <a:endCxn id="466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66" idx="7"/>
            <a:endCxn id="460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60" idx="6"/>
            <a:endCxn id="464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27880" y="200664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60" idx="5"/>
            <a:endCxn id="463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3" idx="1"/>
            <a:endCxn id="464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C070-679F-4F7C-86D6-823F083749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629400" y="1143000"/>
          <a:ext cx="235440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3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+ 9 – 5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 + 4 = 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88" idx="3"/>
            <a:endCxn id="489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9" idx="1"/>
            <a:endCxn id="490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0" idx="7"/>
            <a:endCxn id="484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27880" y="228600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84" idx="5"/>
            <a:endCxn id="487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87" idx="1"/>
            <a:endCxn id="488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488" idx="4"/>
            <a:endCxn id="485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85" idx="2"/>
            <a:endCxn id="489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515B-F5A6-4BD0-8785-B5AAD5AD66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35160" y="3751920"/>
            <a:ext cx="111744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pós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1160" y="30607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09800" y="3181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13200" y="2787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05440" y="31748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1600" y="3473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00520" y="2863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95800" y="2984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3289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03840" y="3225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9640" y="4038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79760" y="4324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09800" y="4705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76560" y="4330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17760" y="4775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73520" y="4997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35640" y="4451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5120" y="3854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0200" y="4724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48000" y="2482920"/>
            <a:ext cx="124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onsumi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114360" y="267336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444840" y="2711520"/>
            <a:ext cx="114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647880" y="27115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0" y="2711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00120" y="3321000"/>
            <a:ext cx="76320" cy="7923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76440" y="3803760"/>
            <a:ext cx="558720" cy="355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5000" y="3244680"/>
            <a:ext cx="30492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184040" y="30416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00040" y="3016080"/>
            <a:ext cx="190800" cy="719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12560" y="3409920"/>
            <a:ext cx="190440" cy="324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505240" y="3092400"/>
            <a:ext cx="457200" cy="177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3134160" y="3041640"/>
            <a:ext cx="214200" cy="88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3488400" y="3217680"/>
            <a:ext cx="94680" cy="161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716280" y="3395160"/>
            <a:ext cx="270000" cy="6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553920" y="3474720"/>
            <a:ext cx="449640" cy="4863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3033720" y="3695040"/>
            <a:ext cx="383400" cy="273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354040" y="3678840"/>
            <a:ext cx="541080" cy="120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840" y="3562200"/>
            <a:ext cx="61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Ro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981000" y="4057560"/>
            <a:ext cx="609840" cy="381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9160" y="4489560"/>
            <a:ext cx="304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197000" y="4552920"/>
            <a:ext cx="19044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22200" y="4870440"/>
            <a:ext cx="368640" cy="5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43120" y="4971960"/>
            <a:ext cx="304920" cy="152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212920" y="4933440"/>
            <a:ext cx="914400" cy="203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1819080" y="4057560"/>
            <a:ext cx="990360" cy="533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936520" y="4667040"/>
            <a:ext cx="190440" cy="17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18800" y="5156280"/>
            <a:ext cx="3848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rota começa e termina no depósit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vértice, com exceção do depósito, é visitado uma única vez, por somente um veícul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 demanda total de uma rota não deve superar a capacidade do veícul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AA4C-3079-478B-AB2D-F4B3C78A54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izinho mais Próxim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rke and Wrigh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8921-2B88-4C2C-9BAB-8775553202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062840" y="1143000"/>
          <a:ext cx="192888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65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49560" y="27939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578B-CF34-4C29-8A12-C594D06084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Clás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ós (medianas, facilidades) de forma a minimizar a soma dos custos de ligação entre cada nó de demanda e sua mediana mais próx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ocalização de fábricas, depósitos, hospitais, escolas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7811-605A-4A19-9A14-DF42EC5FDE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062840" y="1143000"/>
          <a:ext cx="1928880" cy="1400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9" name=""/>
          <p:cNvSpPr/>
          <p:nvPr/>
        </p:nvSpPr>
        <p:spPr>
          <a:xfrm>
            <a:off x="6997680" y="200664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49560" y="25272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2C3E-063D-448C-B28F-7BA268414A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7062840" y="1143000"/>
          <a:ext cx="1928880" cy="1125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0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49560" y="22478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7A5B-A544-4C51-9626-8439CCA959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1FA8-15D8-44AD-9083-154EEA14E5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48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C2C5-CF5B-4349-A1F2-49F11A608C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7062840" y="1143000"/>
          <a:ext cx="1928880" cy="576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7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49560" y="17017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6F35-2D5C-4F60-8C0A-DDBD2C21F2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 flipH="1" rot="20720400">
            <a:off x="399060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21320" y="49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184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1C39-3911-4E2C-818B-7F75874459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flipH="1" rot="18619800">
            <a:off x="236880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 rot="7528800">
            <a:off x="39636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rot="3205200">
            <a:off x="110700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3568800">
            <a:off x="-22032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14412600">
            <a:off x="1257840" y="242388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8874600">
            <a:off x="367560" y="1872720"/>
            <a:ext cx="135684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97180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0" name=""/>
          <p:cNvSpPr/>
          <p:nvPr/>
        </p:nvSpPr>
        <p:spPr>
          <a:xfrm>
            <a:off x="3747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06640" y="5664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828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rot="19435800">
            <a:off x="2000160" y="32630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28640" y="3270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rot="20720400">
            <a:off x="137448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023840" y="566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0020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6160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42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299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299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5444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5356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3452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363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467160" y="40384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5090400" y="4038480"/>
            <a:ext cx="388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6 + 6) + (7 + 7) + (8 + 8) + (9 + 9) + (10 + 10) = 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517000" y="45212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40956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CCB5-81CC-499C-B51D-5B09032637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4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5029200" y="1143000"/>
          <a:ext cx="3962520" cy="30481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7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65760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80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635160" y="41655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27DB-FE60-4622-AE63-7EAE169689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8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27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5029200" y="1143000"/>
          <a:ext cx="396252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92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3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635160" y="38988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952880" y="200664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94CC-48A9-4559-BC9E-4FE78BF341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2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5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8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71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81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5029200" y="1143000"/>
          <a:ext cx="396252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25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9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35160" y="36194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952880" y="255276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7FB7-49C5-4912-9975-9351B20E8F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2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5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35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1371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odas as regiões devem ser atendidas por uma fac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número de facilidades instaladas deve ser igual 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ó pode ser atendida por uma facilidade da regi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 uma facilidade for instalada 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280" indent="-8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cada facilida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stá associado um custo de instalação f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7640" indent="-777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33B5-EFDB-41DC-8C43-D77A691C9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52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5029200" y="1143000"/>
          <a:ext cx="3962520" cy="192240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55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3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35160" y="30481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7B71-D2C7-4AB5-8F9C-EAF82B64A3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3771-1C93-4511-8CA6-975EBF08CE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46CE-921F-4306-B340-87DDD2D6B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a p-mediana não capa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6765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20040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590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0384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2362320"/>
            <a:ext cx="53316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0292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447920"/>
            <a:ext cx="533520" cy="5331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472428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572000"/>
            <a:ext cx="53352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8288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930320"/>
            <a:ext cx="30492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19520" y="2362320"/>
            <a:ext cx="838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38280" y="3581280"/>
            <a:ext cx="15264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371600" y="350496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289548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22096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43680" y="2742840"/>
            <a:ext cx="1371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3657600"/>
            <a:ext cx="12952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320" y="3733920"/>
            <a:ext cx="30492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715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oma dos custos das arestas de ligação deve ser mínima! O problema é dito não capacitado porque não há restrições de capacidade de atendimento, isto é, cada facilidade pode atender um número ilimitado de loc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EB69-0838-4FC7-BDE1-5FE06919EA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2CE8-452D-4EC4-80FE-3ACF506EB2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211640" y="323028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03640" y="1839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8000" y="9126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3280" y="205344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0360" y="62820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24360" y="19825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8480" y="82332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7640" y="55461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16720" y="3052440"/>
              <a:ext cx="360360" cy="35496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85080" y="4334760"/>
              <a:ext cx="360360" cy="354600"/>
            </a:xfrm>
            <a:prstGeom prst="ellipse">
              <a:avLst/>
            </a:pr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6400440" y="3429000"/>
            <a:ext cx="22860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429000"/>
            <a:ext cx="106704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2362320"/>
            <a:ext cx="609480" cy="76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447920" y="914400"/>
            <a:ext cx="1295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480" y="990720"/>
            <a:ext cx="10670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133720"/>
            <a:ext cx="76212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1218960"/>
            <a:ext cx="121932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307332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25960" y="1854360"/>
            <a:ext cx="30456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0600" y="64764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6ED8-0702-4D38-A3F9-8BFE34FA4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Marcone Jamilson Freitas Souza</cp:lastModifiedBy>
  <dcterms:modified xsi:type="dcterms:W3CDTF">2006-02-17T22:34:52Z</dcterms:modified>
  <cp:revision>784</cp:revision>
  <dc:subject/>
  <dc:title>Slide 1</dc:title>
</cp:coreProperties>
</file>