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002A5-0809-4E3A-8365-045A2F707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2FF6-0846-4D9E-9C59-5BDA59B68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C70E-78C8-47E6-9454-C50D5ECE5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431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485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8377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5431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2485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3D9A-3D30-46EE-AF8B-B2F419E6B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5C5-F74D-4B96-B39F-E9FB9B9FAE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B63C-2FB6-4EB2-91AB-C5B110FF50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664-49BA-4C67-B699-408C340D11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95A4-7D49-4F20-8DE1-0C3C0FF7B3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481-9F9B-4D56-BC38-85A201D8E9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647676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387-2329-45EE-9915-638843DD4D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05E-AD86-49DF-8F2D-97937BC4E4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1856A-A951-48A3-8985-A2868ADE0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529-72BF-408E-BC30-0AC5EE0455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243-9465-458E-9022-DC139BD62C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820C-AF37-4882-A372-4B97412CAE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C24B-74E3-451E-A0D1-BC11D16594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431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485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77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431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485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67B-4D4C-45DE-B58C-2CDE791AFF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9D0A-F859-4C4F-9D80-1EA7C5E90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3998-6962-4BC3-A978-1E734E9A5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CDA3-A37A-470B-9436-74814BC32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647676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DF880-0E28-4EB6-AF91-CF7ECCCD0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D4FBA-FA48-478F-8281-F4A64C271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2D698-2CF9-4350-A0D3-26C46B077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6423D-D3AC-4F03-B135-8BB0D0793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9144000" cy="47160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 rot="10800000">
            <a:off x="1665000" y="6400800"/>
            <a:ext cx="7467480" cy="457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000640" y="6457680"/>
            <a:ext cx="6858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84F0-9670-408A-95EE-7A382C048037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0800000"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733920" cy="9907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14480" y="200160"/>
            <a:ext cx="1066680" cy="837720"/>
            <a:chOff x="114480" y="200160"/>
            <a:chExt cx="1066680" cy="837720"/>
          </a:xfrm>
        </p:grpSpPr>
        <p:sp>
          <p:nvSpPr>
            <p:cNvPr id="7" name=""/>
            <p:cNvSpPr/>
            <p:nvPr/>
          </p:nvSpPr>
          <p:spPr>
            <a:xfrm>
              <a:off x="219960" y="2437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14480" y="52704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20016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52880" y="6145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41200" y="85428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2520" y="41796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87560" y="33084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70040" y="72360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66320" y="6145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0840" y="94140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77840" y="618480"/>
              <a:ext cx="84600" cy="239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03040" y="592560"/>
              <a:ext cx="25380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08520" y="309240"/>
              <a:ext cx="50760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V="1">
              <a:off x="905040" y="400320"/>
              <a:ext cx="182880" cy="62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516240" y="287280"/>
              <a:ext cx="126720" cy="326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41440" y="679680"/>
              <a:ext cx="23256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16240" y="705600"/>
              <a:ext cx="105480" cy="239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177840" y="330840"/>
              <a:ext cx="63360" cy="196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85440" y="291240"/>
              <a:ext cx="124200" cy="426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33720" y="919800"/>
              <a:ext cx="263880" cy="62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V="1">
              <a:off x="866520" y="693000"/>
              <a:ext cx="21132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22520" y="243720"/>
              <a:ext cx="365040" cy="104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1112400" y="431640"/>
              <a:ext cx="20880" cy="174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>
              <a:off x="702720" y="701280"/>
              <a:ext cx="380520" cy="283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>
              <a:off x="199080" y="264960"/>
              <a:ext cx="423000" cy="283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" name="PlaceHolder 3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3737-DB45-4D5E-B2D5-CA5D086E9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86000"/>
            <a:ext cx="9144000" cy="144792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0" y="2286000"/>
            <a:ext cx="9144000" cy="148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7080" y="1224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274464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64000" y="99072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10000" y="3213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16240" y="449892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38960" y="2160720"/>
            <a:ext cx="52992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89840" y="169236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00640" y="3797280"/>
            <a:ext cx="52884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70680" y="3213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44840" y="496728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59120" y="3235320"/>
            <a:ext cx="476280" cy="1285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00240" y="3095640"/>
            <a:ext cx="1432080" cy="351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97120" y="1574640"/>
            <a:ext cx="2863800" cy="819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060960" y="2064960"/>
            <a:ext cx="1032120" cy="336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866760" y="1459080"/>
            <a:ext cx="717480" cy="1753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10040" y="3564000"/>
            <a:ext cx="1312920" cy="350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67120" y="3701880"/>
            <a:ext cx="596880" cy="1287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959120" y="1692360"/>
            <a:ext cx="357120" cy="10522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22920" y="1481040"/>
            <a:ext cx="701640" cy="2287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38600" y="4849920"/>
            <a:ext cx="1488960" cy="336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845320" y="3637080"/>
            <a:ext cx="1191960" cy="350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0640" y="1224000"/>
            <a:ext cx="2062440" cy="560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232760" y="2233440"/>
            <a:ext cx="118800" cy="9352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19760" y="3681360"/>
            <a:ext cx="2147760" cy="1519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077920" y="1341000"/>
            <a:ext cx="2386080" cy="1521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633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Logística Aplicada a Transporte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47560" y="4191120"/>
            <a:ext cx="6933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cone Jamilson Freitas Sou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artamento de Comput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mepage: http://www.decom.ufop.br/prof/marc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: marcone@iceb.ufop.b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niversidade Federal de Ouro P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e Rede de Distribuição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Caso LCL Carros Brasil Lt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1523880"/>
            <a:ext cx="5790600" cy="4647960"/>
            <a:chOff x="1828800" y="1523880"/>
            <a:chExt cx="5790600" cy="4647960"/>
          </a:xfrm>
        </p:grpSpPr>
        <p:sp>
          <p:nvSpPr>
            <p:cNvPr id="219" name=""/>
            <p:cNvSpPr/>
            <p:nvPr/>
          </p:nvSpPr>
          <p:spPr>
            <a:xfrm>
              <a:off x="3798720" y="2443680"/>
              <a:ext cx="691200" cy="68976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98720" y="3842640"/>
              <a:ext cx="691200" cy="6926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8360" y="1523880"/>
              <a:ext cx="688320" cy="69192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28360" y="3514320"/>
              <a:ext cx="688320" cy="6926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P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28360" y="4453920"/>
              <a:ext cx="690480" cy="69192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29480" y="2060640"/>
              <a:ext cx="73116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28800" y="167688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5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47520" y="514620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6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30160" y="261648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2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30160" y="401544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35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57040" y="2213640"/>
              <a:ext cx="949320" cy="172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29480" y="1868760"/>
              <a:ext cx="309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97680" y="1523880"/>
              <a:ext cx="691200" cy="689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430160" y="2040840"/>
              <a:ext cx="18338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42880" y="3133440"/>
              <a:ext cx="2520" cy="6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59440" y="167688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15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59440" y="370836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3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59440" y="462888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15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956680" y="3095640"/>
              <a:ext cx="1004040" cy="18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110040" y="4379040"/>
              <a:ext cx="726840" cy="6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129480" y="3938760"/>
              <a:ext cx="3098880" cy="13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129480" y="4858560"/>
              <a:ext cx="309888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29480" y="5491080"/>
              <a:ext cx="309888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97680" y="4973760"/>
              <a:ext cx="691200" cy="687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87400" y="158112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39720" y="204084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01200" y="275040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66560" y="328680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53160" y="390024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6360" y="4456080"/>
              <a:ext cx="46188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83160" y="453276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97640" y="506952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23840" y="566388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23080" y="202176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28360" y="5479200"/>
              <a:ext cx="690480" cy="6926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61600" y="5673240"/>
              <a:ext cx="7578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25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8639-4784-491E-90A8-4CB63B0D72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o Menor Cami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Representa um caso especial de problemas de redes, em que o custo associado a cada arco representa a distância entre dois pontos (nós)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O objetivo do problema é encontrar a rota de custo mínimo, que una um nó origem (O) a um nó destino (D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743200" y="3886200"/>
            <a:ext cx="4648320" cy="2209680"/>
            <a:chOff x="2743200" y="3886200"/>
            <a:chExt cx="4648320" cy="2209680"/>
          </a:xfrm>
        </p:grpSpPr>
        <p:sp>
          <p:nvSpPr>
            <p:cNvPr id="258" name=""/>
            <p:cNvSpPr/>
            <p:nvPr/>
          </p:nvSpPr>
          <p:spPr>
            <a:xfrm flipV="1">
              <a:off x="3259080" y="4317480"/>
              <a:ext cx="604800" cy="5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45400" y="4714920"/>
              <a:ext cx="546120" cy="5522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36880" y="5541840"/>
              <a:ext cx="549360" cy="554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51360" y="3886200"/>
              <a:ext cx="546120" cy="554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03800" y="4716360"/>
              <a:ext cx="547560" cy="550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36880" y="3886200"/>
              <a:ext cx="549360" cy="554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83000" y="4164120"/>
              <a:ext cx="135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4398840" y="5099040"/>
              <a:ext cx="82080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4680" y="5160960"/>
              <a:ext cx="603360" cy="55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43200" y="4716360"/>
              <a:ext cx="549360" cy="55404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97480" y="4243320"/>
              <a:ext cx="54792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51360" y="4992840"/>
              <a:ext cx="10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89320" y="4992840"/>
              <a:ext cx="18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B32C-EE59-434B-B96F-EA634F37FE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o Menor Caminh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Caso LCL Adornos &amp; Teci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209680" y="2589120"/>
            <a:ext cx="5333760" cy="2287440"/>
            <a:chOff x="2209680" y="2589120"/>
            <a:chExt cx="5333760" cy="2287440"/>
          </a:xfrm>
        </p:grpSpPr>
        <p:sp>
          <p:nvSpPr>
            <p:cNvPr id="274" name=""/>
            <p:cNvSpPr/>
            <p:nvPr/>
          </p:nvSpPr>
          <p:spPr>
            <a:xfrm flipV="1">
              <a:off x="2801880" y="3034800"/>
              <a:ext cx="69264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15960" y="3445920"/>
              <a:ext cx="627480" cy="57348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64640" y="4303080"/>
              <a:ext cx="629280" cy="573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661000" y="2589120"/>
              <a:ext cx="627480" cy="573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33520" y="3448080"/>
              <a:ext cx="627480" cy="571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64640" y="2589120"/>
              <a:ext cx="629280" cy="573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92120" y="2876760"/>
              <a:ext cx="155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109400" y="3844800"/>
              <a:ext cx="941040" cy="7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84600" y="3908520"/>
              <a:ext cx="69264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09680" y="3448080"/>
              <a:ext cx="629280" cy="57312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L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88480" y="2957760"/>
              <a:ext cx="627480" cy="6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92800" y="2606760"/>
              <a:ext cx="7909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7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75800" y="3067200"/>
              <a:ext cx="7905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1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75800" y="4083120"/>
              <a:ext cx="79056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4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40600" y="4130640"/>
              <a:ext cx="7909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7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52960" y="3670560"/>
              <a:ext cx="78840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62360" y="3051360"/>
              <a:ext cx="7909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5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61000" y="3733920"/>
              <a:ext cx="12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99200" y="3463920"/>
              <a:ext cx="7909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50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37160" y="3733920"/>
              <a:ext cx="217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E0D1-D5DC-481B-A53B-C3664EEC6B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o Menor Cami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Sejam os seguintes dados de entra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onjunto de Cida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1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idade orig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idade destin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Distância entre as cidades i e j  (unid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 a seguinte variável de decisã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914400" y="5037120"/>
                <a:ext cx="39243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e a rota ij é selecionada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1301-2765-4886-ACD3-BC842002B4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o Menor Cami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311120" y="1523880"/>
                <a:ext cx="6596280" cy="455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                                    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                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FE7F-8EE0-40A7-B8F1-51D71A0778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o Fluxo Máx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Trata situações nas quais deseja-se </a:t>
            </a:r>
            <a:r>
              <a:rPr b="1" lang="pt-BR" sz="2200" spc="-1" strike="noStrike" u="sng">
                <a:solidFill>
                  <a:srgbClr val="000000"/>
                </a:solidFill>
                <a:uFillTx/>
                <a:latin typeface="Tahoma"/>
              </a:rPr>
              <a:t>maximizar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 a quantidade de fluxo de um ponto origem para um ponto destino, estando sujeito a restrições de capacidade de fluxo nos arc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0F89-8DF7-460E-8A0F-B3DA964CD9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o Fluxo Máxim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Caso LCL GasoBras Lt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362320" y="2273400"/>
            <a:ext cx="5028480" cy="2526840"/>
            <a:chOff x="2362320" y="2273400"/>
            <a:chExt cx="5028480" cy="2526840"/>
          </a:xfrm>
        </p:grpSpPr>
        <p:sp>
          <p:nvSpPr>
            <p:cNvPr id="305" name=""/>
            <p:cNvSpPr/>
            <p:nvPr/>
          </p:nvSpPr>
          <p:spPr>
            <a:xfrm flipV="1">
              <a:off x="2920680" y="2775240"/>
              <a:ext cx="651240" cy="60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97160" y="3208680"/>
              <a:ext cx="593640" cy="60408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45280" y="4112280"/>
              <a:ext cx="591480" cy="604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13840" y="2305080"/>
              <a:ext cx="593640" cy="604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16360" y="4112280"/>
              <a:ext cx="591480" cy="604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45280" y="2305080"/>
              <a:ext cx="591480" cy="604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8600" y="3143880"/>
              <a:ext cx="745560" cy="4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37120" y="2608200"/>
              <a:ext cx="146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37120" y="4415400"/>
              <a:ext cx="146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38480" y="2708640"/>
              <a:ext cx="1627200" cy="150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04480" y="3695760"/>
              <a:ext cx="651240" cy="60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62320" y="3210480"/>
              <a:ext cx="591480" cy="60228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07840" y="2693160"/>
              <a:ext cx="591480" cy="71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207480" y="3620520"/>
              <a:ext cx="591480" cy="7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14760" y="2273400"/>
              <a:ext cx="7455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57880" y="2741760"/>
              <a:ext cx="7455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41680" y="3880080"/>
              <a:ext cx="74520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14760" y="4348800"/>
              <a:ext cx="745560" cy="4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33120" y="3880080"/>
              <a:ext cx="7455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88560" y="2741760"/>
              <a:ext cx="7455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9085-D9CA-49DE-8C05-7C86F4F00A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o Fluxo Máx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Sejam os seguintes dados de entra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onjunto dos Nó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: Nó orig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ó destin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apacidade do arco ij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 a seguinte variável de decisã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fluxo que atravessa o arco ij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E534-7E75-431D-A164-BBE8331A39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o Fluxo Máx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58880" y="1406520"/>
                <a:ext cx="7929360" cy="430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 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          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 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        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9167C-DFCA-4C91-9FBB-F532154EFA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1371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2000"/>
          </a:bodyPr>
          <a:p>
            <a:pPr marL="80280" indent="-8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Clás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280" indent="-8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bjet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ocalizar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nós (medianas, facilidades) de forma a minimizar a soma dos custos de ligação entre cada nó de demanda e sua mediana mais próx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280" indent="-8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plic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ocalização de fábricas, depósitos, hospitais, escolas, 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a P-mediana não Capa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085F-A8B9-4AA9-A478-82F4825726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ula 2 - Rotei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1219320"/>
            <a:ext cx="701028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roblemas de Transporte como uma Re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roblemas de Redes de Distribui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roblema do Menor Caminh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roblema do Fluxo Máxim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roblema das p-median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roblema do Caixeiro Viajan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83B2-A797-499E-B1EB-F81670BF5D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1371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2000"/>
          </a:bodyPr>
          <a:p>
            <a:pPr marL="80280" indent="-8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stri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odas as regiões devem ser atendidas por uma fac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número de facilidades instaladas deve ser igual a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ma região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só pode ser atendida por uma facilidade da região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se uma facilidade for instalada em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280" indent="-8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cada facilidade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normalmente associa-se um custo de instalação f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a P-mediana não Capa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E4D5B-98A2-4DA6-AF32-9D85C7802C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4211640" y="323028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03640" y="18396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88000" y="9126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03280" y="205344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00360" y="6282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24360" y="198252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68480" y="82332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27640" y="554616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16720" y="305244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85080" y="433476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C1582-5047-4C34-A9EA-BBFD84494F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447920" y="198360"/>
            <a:ext cx="739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a P-mediana não Capacitad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828800" y="1386000"/>
          <a:ext cx="5638680" cy="2190600"/>
        </p:xfrm>
        <a:graphic>
          <a:graphicData uri="http://schemas.openxmlformats.org/drawingml/2006/table">
            <a:tbl>
              <a:tblPr/>
              <a:tblGrid>
                <a:gridCol w="939960"/>
                <a:gridCol w="939600"/>
                <a:gridCol w="939960"/>
                <a:gridCol w="939600"/>
                <a:gridCol w="939960"/>
                <a:gridCol w="9396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1828800" y="4205160"/>
          <a:ext cx="5715000" cy="3808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90360"/>
                <a:gridCol w="914400"/>
                <a:gridCol w="952560"/>
                <a:gridCol w="9525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>
            <a:off x="1815480" y="5195880"/>
            <a:ext cx="52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= 2  (número de facilidades a serem localizad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44200" y="5805360"/>
            <a:ext cx="32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 = 5 (número de localida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962080" y="3595680"/>
            <a:ext cx="33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usto de ligação entre as loca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88360" y="4586400"/>
            <a:ext cx="33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usto fixo de instalação da facilid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237F-7035-44E0-B857-AE0367F38A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a p-mediana não capa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Sejam os seguintes dados de entra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úmero de Localida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úmero de facilidades (medianas) a serem localizad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usto de ligação entre a localidade i e sua facilidade mais próxima j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usto de instalação da facilidade j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 as seguintes variáveis de decisã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80880" y="5410080"/>
                <a:ext cx="31068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e a mediana j é instalada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04920" y="4346640"/>
                <a:ext cx="50292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e a localidade  i é atendida pela facilidade j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C0D5-3349-44CD-B969-3295E5F501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6218280"/>
            <a:ext cx="2057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47920" y="351000"/>
            <a:ext cx="739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                                  Problema da P-mediana não Capacitad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73160" y="15238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imizar z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2368440" y="2209680"/>
                <a:ext cx="13716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368440" y="4495680"/>
                <a:ext cx="12956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292480" y="5257800"/>
                <a:ext cx="16002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4151160" y="5318280"/>
                <a:ext cx="14940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3894120" y="5486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23040" y="25146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 = 1,...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490720" y="472428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 = 1,..., n; j = 1,...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59520" y="21337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jeit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2597040" y="1143000"/>
                <a:ext cx="32004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368440" y="3209760"/>
                <a:ext cx="14479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2827-E0EE-420A-B8A6-669392EE53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blema do Caixeiro Viaja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siste em encontrar uma rota q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ta de uma cidade orig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sse por todas as demais cidades uma única ve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torne à cidade origem ao final do percur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ercorra a menor distância possí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ota conhecida como ciclo hamiltonia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FCC9-7533-419B-80D3-4C3BFD6936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6218280"/>
            <a:ext cx="2057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47920" y="351000"/>
            <a:ext cx="739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                                  Problema do Caixeiro Viajante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073160" y="15238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imizar z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438280" y="2209680"/>
                <a:ext cx="3200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514600" y="4952880"/>
                <a:ext cx="45306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2471760" y="5762520"/>
                <a:ext cx="15667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9520" y="21337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jeit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590920" y="1219320"/>
                <a:ext cx="16272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514600" y="3121200"/>
                <a:ext cx="320040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2828880" y="3959280"/>
                <a:ext cx="37148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4343400" y="5654520"/>
                <a:ext cx="117468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3DF6-CDDA-4785-AC8D-91CBEC15EA8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e Transporte - Defini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Dados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ahoma"/>
              </a:rPr>
              <a:t>um conjunto de fontes de produção,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ahoma"/>
              </a:rPr>
              <a:t>uma rede de caminhos possíveis de transport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ahoma"/>
              </a:rPr>
              <a:t>os mercados para os quais determinados produtos devem ser transportados,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1" lang="pt-BR" sz="1900" spc="-1" strike="noStrike" u="sng">
                <a:solidFill>
                  <a:srgbClr val="000000"/>
                </a:solidFill>
                <a:uFillTx/>
                <a:latin typeface="Tahoma"/>
              </a:rPr>
              <a:t>Problema de Transporte</a:t>
            </a: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 consiste em determinar, dentre as diversas maneiras de distribuição de um produto, a que resultará no menor custo de transporte entre as fontes de produção e os mercados consumidore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B73C-B924-4787-90ED-EEE528A86F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e Transp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Sejam os seguintes dados de entr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M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junto de Fontes, M = {1,2,...,m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junto de Mercados, N = {1,2,...,n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Oferta da Fonte i (unid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manda do Mercado j (unid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usto unitário de transporte da fonte i para o mercado j (u.m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E a seguinte variável de decisã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Quantidade de itens transportados da fonte i para o mercado 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(unid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15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7B4F-E8E8-4B83-9860-4E4B72BEB3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– Caso 1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Oferta = Dema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633680" y="1787400"/>
                <a:ext cx="6410160" cy="404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3063-B352-4FC6-ABA8-23A274C59F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– Caso 2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Oferta &gt; Dema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461960" y="1555920"/>
                <a:ext cx="7439040" cy="469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EB79-E035-45C8-B7BE-F4A0759DC6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– Caso 3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Oferta &lt; Dema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461960" y="1555920"/>
                <a:ext cx="7439040" cy="469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7256-3414-462D-BEC3-760FCEC704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e Transporte como uma Re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24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438280" y="1295280"/>
            <a:ext cx="4571640" cy="2513880"/>
            <a:chOff x="2438280" y="1295280"/>
            <a:chExt cx="4571640" cy="2513880"/>
          </a:xfrm>
        </p:grpSpPr>
        <p:sp>
          <p:nvSpPr>
            <p:cNvPr id="157" name=""/>
            <p:cNvSpPr/>
            <p:nvPr/>
          </p:nvSpPr>
          <p:spPr>
            <a:xfrm>
              <a:off x="5592960" y="1295280"/>
              <a:ext cx="571680" cy="55980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89000" y="2271960"/>
              <a:ext cx="572040" cy="55836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89000" y="3249360"/>
              <a:ext cx="572040" cy="55980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38280" y="1434600"/>
              <a:ext cx="8524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01640" y="1419120"/>
              <a:ext cx="896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13520" y="2427120"/>
              <a:ext cx="8960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11360" y="3391200"/>
              <a:ext cx="898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1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38280" y="2412000"/>
              <a:ext cx="8524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3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38280" y="3388680"/>
              <a:ext cx="8524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1.5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93880" y="1574280"/>
              <a:ext cx="199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593880" y="1698120"/>
              <a:ext cx="1994760" cy="8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593880" y="1821960"/>
              <a:ext cx="2097720" cy="17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93880" y="1574280"/>
              <a:ext cx="1994760" cy="8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93880" y="2551320"/>
              <a:ext cx="199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93880" y="2691000"/>
              <a:ext cx="1994760" cy="8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93880" y="3528720"/>
              <a:ext cx="199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93880" y="2551320"/>
              <a:ext cx="2030760" cy="8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93880" y="1574280"/>
              <a:ext cx="2165040" cy="167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71520" y="3249360"/>
              <a:ext cx="571680" cy="558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B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71520" y="2270160"/>
              <a:ext cx="571680" cy="559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71520" y="1295280"/>
              <a:ext cx="571680" cy="558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48880" y="134136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79600" y="1651680"/>
              <a:ext cx="382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63760" y="188424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99800" y="211680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95800" y="231876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00760" y="258264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52280" y="297036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43320" y="317160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48880" y="348192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7" name=""/>
          <p:cNvGraphicFramePr/>
          <p:nvPr/>
        </p:nvGraphicFramePr>
        <p:xfrm>
          <a:off x="457200" y="4191120"/>
          <a:ext cx="8458200" cy="1339560"/>
        </p:xfrm>
        <a:graphic>
          <a:graphicData uri="http://schemas.openxmlformats.org/drawingml/2006/table">
            <a:tbl>
              <a:tblPr/>
              <a:tblGrid>
                <a:gridCol w="2743200"/>
                <a:gridCol w="5715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pótese do Proble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po de Restri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erta = Dem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radas – Saídas = Oferta (-) ou Demanda (+) do n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erta &gt; Dem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radas – Saídas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erta (-) ou Demanda (+) do Nó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erta &lt; Dem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radas – Saídas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erta (-) ou Demanda (+) do N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1905120" y="5791320"/>
            <a:ext cx="5715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Regra do Fluxo Balanceado (Ragsdale, 200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2B6B-F6AF-4239-8FB8-6100C3B166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s de Rede de Distribuição  Defini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219320"/>
            <a:ext cx="861048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ão problemas nos quais existem múltiplas fontes, mercados e locais intermediários, por onde os produtos transportados podem passa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Objetivo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sim como no Problema de Transporte, o objetivo da modelagem é determinar o carregamento da rede que minimiza o custo total do transpo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689200" y="4108320"/>
            <a:ext cx="3787560" cy="2139480"/>
            <a:chOff x="2689200" y="4108320"/>
            <a:chExt cx="3787560" cy="2139480"/>
          </a:xfrm>
        </p:grpSpPr>
        <p:sp>
          <p:nvSpPr>
            <p:cNvPr id="193" name=""/>
            <p:cNvSpPr/>
            <p:nvPr/>
          </p:nvSpPr>
          <p:spPr>
            <a:xfrm>
              <a:off x="2689200" y="4108320"/>
              <a:ext cx="335520" cy="3747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89200" y="4590000"/>
              <a:ext cx="335520" cy="3747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89200" y="5874840"/>
              <a:ext cx="335520" cy="3729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27000" y="4797720"/>
              <a:ext cx="244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62200" y="4429800"/>
              <a:ext cx="335520" cy="374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62200" y="5606640"/>
              <a:ext cx="335520" cy="375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96760" y="4627080"/>
              <a:ext cx="244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24720" y="4269960"/>
              <a:ext cx="1437120" cy="32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24720" y="4269960"/>
              <a:ext cx="1437120" cy="144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024720" y="4642560"/>
              <a:ext cx="143712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24720" y="4804560"/>
              <a:ext cx="1437120" cy="101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3024720" y="4698360"/>
              <a:ext cx="1485360" cy="138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3024720" y="5874840"/>
              <a:ext cx="148536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41240" y="4108320"/>
              <a:ext cx="335520" cy="374760"/>
            </a:xfrm>
            <a:prstGeom prst="ellipse">
              <a:avLst/>
            </a:prstGeom>
            <a:solidFill>
              <a:srgbClr val="e2e2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41240" y="5874840"/>
              <a:ext cx="335520" cy="372960"/>
            </a:xfrm>
            <a:prstGeom prst="ellipse">
              <a:avLst/>
            </a:prstGeom>
            <a:solidFill>
              <a:srgbClr val="e2e2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41240" y="4590000"/>
              <a:ext cx="335520" cy="374760"/>
            </a:xfrm>
            <a:prstGeom prst="ellipse">
              <a:avLst/>
            </a:prstGeom>
            <a:solidFill>
              <a:srgbClr val="e2e2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89120" y="4883040"/>
              <a:ext cx="244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4798080" y="4321080"/>
              <a:ext cx="134316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98080" y="4590000"/>
              <a:ext cx="1343160" cy="15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98080" y="4590000"/>
              <a:ext cx="1391040" cy="13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798080" y="4376520"/>
              <a:ext cx="1343160" cy="14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798080" y="4856400"/>
              <a:ext cx="1343160" cy="9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98080" y="5819760"/>
              <a:ext cx="134316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00C6-6F92-4F3D-8A58-436234C5B4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04:06:18Z</dcterms:created>
  <dc:creator>carol</dc:creator>
  <dc:description/>
  <dc:language>en-US</dc:language>
  <cp:lastModifiedBy>Marcone Jamilson Freitas Souza</cp:lastModifiedBy>
  <dcterms:modified xsi:type="dcterms:W3CDTF">2006-02-10T21:40:54Z</dcterms:modified>
  <cp:revision>750</cp:revision>
  <dc:subject/>
  <dc:title>Slide 1</dc:title>
</cp:coreProperties>
</file>