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4F8C2-25EB-4C99-AF5E-1D7C3DB56A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37094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50760-168A-419F-A30F-380E940809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93740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ECBF4-E0AE-4818-910E-EF3710F2C4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431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485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8377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5431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2485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04F55-2EC6-479B-9E4F-5D6C357753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FF46-D340-4C3A-8675-4310317D04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8330-453C-441D-AD90-EDEB2404B0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41D3-5528-495A-8BA9-E638F7B621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4E96-841E-42B7-8FC1-E6757284D8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A992-B9F5-4FF3-AE0A-004A83E11D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647676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9284-60FD-488F-AE9B-F099D7D777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0AA8-F816-43C2-BFAB-2753FE3EF1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D89A1-EFA6-489F-834E-861B25207E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3740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3A0E-57BC-498F-8EA0-588AC38A0B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AADE-9799-4B58-B805-B30AA8AA27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7720" y="37094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0DFB-2761-41AB-A2C3-D1F1EB2826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3740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780A-2873-4CC9-9022-8F924EA055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431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485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77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431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485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F7DA-2C36-41BD-B519-9D8ACBB28C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243A1-A0C4-453D-ADB4-9BEE2AA931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B0617-1325-4FD8-942C-B9D513E9A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4689A-26D4-4EC8-A060-E9EA9B4A4F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647676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6E6D0-86F0-40D5-9FBA-FFA6F49EF2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46AE8-DA45-4A6D-B919-DA57B04CD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93740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9D2D3-7242-4D96-B3FD-A5302A17A1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7E10A-BB61-41E8-AE34-825159339C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00800"/>
            <a:ext cx="9144000" cy="471600"/>
          </a:xfrm>
          <a:prstGeom prst="rect">
            <a:avLst/>
          </a:prstGeom>
          <a:gradFill rotWithShape="0">
            <a:gsLst>
              <a:gs pos="0">
                <a:srgbClr val="bbe0e3">
                  <a:alpha val="68235"/>
                </a:srgbClr>
              </a:gs>
              <a:gs pos="100000">
                <a:srgbClr val="6699ff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 rot="10800000">
            <a:off x="1665000" y="6400800"/>
            <a:ext cx="7467480" cy="457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8000640" y="6457680"/>
            <a:ext cx="68580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EB52-86E2-40F1-827A-D3E138F0E0C5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0800000"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bbe0e3">
                  <a:alpha val="68235"/>
                </a:srgbClr>
              </a:gs>
              <a:gs pos="100000">
                <a:srgbClr val="6699ff">
                  <a:alpha val="68235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733920" cy="9907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114480" y="200160"/>
            <a:ext cx="1066680" cy="837720"/>
            <a:chOff x="114480" y="200160"/>
            <a:chExt cx="1066680" cy="837720"/>
          </a:xfrm>
        </p:grpSpPr>
        <p:sp>
          <p:nvSpPr>
            <p:cNvPr id="7" name=""/>
            <p:cNvSpPr/>
            <p:nvPr/>
          </p:nvSpPr>
          <p:spPr>
            <a:xfrm>
              <a:off x="219960" y="243720"/>
              <a:ext cx="93600" cy="9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14480" y="527040"/>
              <a:ext cx="93600" cy="9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200160"/>
              <a:ext cx="93600" cy="9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52880" y="614520"/>
              <a:ext cx="93600" cy="9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41200" y="854280"/>
              <a:ext cx="93600" cy="9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12520" y="417960"/>
              <a:ext cx="93600" cy="9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087560" y="330840"/>
              <a:ext cx="93600" cy="9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70040" y="723600"/>
              <a:ext cx="93600" cy="9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66320" y="614520"/>
              <a:ext cx="93600" cy="9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0840" y="941400"/>
              <a:ext cx="93600" cy="9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77840" y="618480"/>
              <a:ext cx="84600" cy="239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03040" y="592560"/>
              <a:ext cx="253800" cy="65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08520" y="309240"/>
              <a:ext cx="507600" cy="152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V="1">
              <a:off x="905040" y="400320"/>
              <a:ext cx="182880" cy="62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>
              <a:off x="516240" y="287280"/>
              <a:ext cx="126720" cy="326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41440" y="679680"/>
              <a:ext cx="232560" cy="65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16240" y="705600"/>
              <a:ext cx="105480" cy="239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177840" y="330840"/>
              <a:ext cx="63360" cy="196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685440" y="291240"/>
              <a:ext cx="124200" cy="426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33720" y="919800"/>
              <a:ext cx="263880" cy="62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flipV="1">
              <a:off x="866520" y="693000"/>
              <a:ext cx="211320" cy="65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22520" y="243720"/>
              <a:ext cx="365040" cy="104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>
              <a:off x="1112400" y="431640"/>
              <a:ext cx="20880" cy="174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>
              <a:off x="702720" y="701280"/>
              <a:ext cx="380520" cy="283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>
              <a:off x="199080" y="264960"/>
              <a:ext cx="423000" cy="283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" name="PlaceHolder 3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10D4-F937-4680-81CA-DBB21590D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286000"/>
            <a:ext cx="9144000" cy="1447920"/>
          </a:xfrm>
          <a:prstGeom prst="rect">
            <a:avLst/>
          </a:prstGeom>
          <a:gradFill rotWithShape="0">
            <a:gsLst>
              <a:gs pos="0">
                <a:srgbClr val="bbe0e3">
                  <a:alpha val="68235"/>
                </a:srgbClr>
              </a:gs>
              <a:gs pos="100000">
                <a:srgbClr val="6699ff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40" y="2286000"/>
            <a:ext cx="9144000" cy="148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97080" y="122400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274464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64000" y="99072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10000" y="321300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16240" y="449892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38960" y="2160720"/>
            <a:ext cx="52992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89840" y="169236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00640" y="3797280"/>
            <a:ext cx="52884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70680" y="321300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44840" y="496728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59120" y="3235320"/>
            <a:ext cx="476280" cy="1285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00240" y="3095640"/>
            <a:ext cx="1432080" cy="3510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97120" y="1574640"/>
            <a:ext cx="2863800" cy="8193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060960" y="2064960"/>
            <a:ext cx="1032120" cy="336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866760" y="1459080"/>
            <a:ext cx="717480" cy="1753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10040" y="3564000"/>
            <a:ext cx="1312920" cy="350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67120" y="3701880"/>
            <a:ext cx="596880" cy="1287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959120" y="1692360"/>
            <a:ext cx="357120" cy="10522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22920" y="1481040"/>
            <a:ext cx="701640" cy="2287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38600" y="4849920"/>
            <a:ext cx="1488960" cy="336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845320" y="3637080"/>
            <a:ext cx="1191960" cy="350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30640" y="1224000"/>
            <a:ext cx="2062440" cy="560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7232760" y="2233440"/>
            <a:ext cx="118800" cy="9352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919760" y="3681360"/>
            <a:ext cx="2147760" cy="15192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077920" y="1341000"/>
            <a:ext cx="2386080" cy="15210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6332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Logística Aplicada a Transporte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447560" y="4191120"/>
            <a:ext cx="69339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cone Jamilson Freitas Sou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artamento de Computaç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mepage: http://www.decom.ufop.br/prof/marc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: marcone@iceb.ufop.b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niversidade Federal de Ouro P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– Caso 3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Oferta &lt; Deman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461960" y="1555920"/>
                <a:ext cx="7439040" cy="469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FD0D2-29CB-43C1-9BC3-77C7F97FFF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6960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Problema de Transporte – Caso LCL Bicicletas Ltda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Fábricas</a:t>
            </a:r>
            <a:r>
              <a:rPr b="0" lang="pt-BR" sz="1900" spc="-1" strike="noStrike">
                <a:solidFill>
                  <a:srgbClr val="000000"/>
                </a:solidFill>
                <a:latin typeface="Tahoma"/>
              </a:rPr>
              <a:t>: Rio, São Paulo e Belo Horizont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Capacidades de produção</a:t>
            </a:r>
            <a:r>
              <a:rPr b="0" lang="pt-BR" sz="1900" spc="-1" strike="noStrike">
                <a:solidFill>
                  <a:srgbClr val="000000"/>
                </a:solidFill>
                <a:latin typeface="Tahoma"/>
              </a:rPr>
              <a:t>: Rio = 2000, SP = 3000, BH = 1500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Mercados consumidores</a:t>
            </a:r>
            <a:r>
              <a:rPr b="0" lang="pt-BR" sz="1900" spc="-1" strike="noStrike">
                <a:solidFill>
                  <a:srgbClr val="000000"/>
                </a:solidFill>
                <a:latin typeface="Tahoma"/>
              </a:rPr>
              <a:t>: Recife, Salvador e Manau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Demanda dos mercados</a:t>
            </a:r>
            <a:r>
              <a:rPr b="0" lang="pt-BR" sz="1900" spc="-1" strike="noStrike">
                <a:solidFill>
                  <a:srgbClr val="000000"/>
                </a:solidFill>
                <a:latin typeface="Tahoma"/>
              </a:rPr>
              <a:t>: Recife = 2000, Salvador = 2000, Manaus = 1000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6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685800" y="3784680"/>
          <a:ext cx="7772040" cy="1339920"/>
        </p:xfrm>
        <a:graphic>
          <a:graphicData uri="http://schemas.openxmlformats.org/drawingml/2006/table">
            <a:tbl>
              <a:tblPr/>
              <a:tblGrid>
                <a:gridCol w="2826720"/>
                <a:gridCol w="1529640"/>
                <a:gridCol w="1767600"/>
                <a:gridCol w="1648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brica/Consumid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ife 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lvador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aus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io 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ão Paulo 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lo Horizonte (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01976-A7BA-453C-8C24-763AD2B7F6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6858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Solução utilizando Variáveis Dum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52280" y="4694400"/>
          <a:ext cx="8839440" cy="1249200"/>
        </p:xfrm>
        <a:graphic>
          <a:graphicData uri="http://schemas.openxmlformats.org/drawingml/2006/table">
            <a:tbl>
              <a:tblPr/>
              <a:tblGrid>
                <a:gridCol w="4419720"/>
                <a:gridCol w="4419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pacidade &gt; Dema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anda &gt; Capacid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ção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 busca de novos centros consumi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ção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 criação de uma nova fáb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rpretação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 capacidade ociosa das fábr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rpretação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 demanda não atend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"/>
          <p:cNvSpPr/>
          <p:nvPr/>
        </p:nvSpPr>
        <p:spPr>
          <a:xfrm>
            <a:off x="1981080" y="601992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ções e interpretações para as variáveis Dum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629080" y="1295280"/>
            <a:ext cx="4152240" cy="3200040"/>
            <a:chOff x="2629080" y="1295280"/>
            <a:chExt cx="4152240" cy="3200040"/>
          </a:xfrm>
        </p:grpSpPr>
        <p:sp>
          <p:nvSpPr>
            <p:cNvPr id="236" name=""/>
            <p:cNvSpPr/>
            <p:nvPr/>
          </p:nvSpPr>
          <p:spPr>
            <a:xfrm>
              <a:off x="5412600" y="1295280"/>
              <a:ext cx="504720" cy="529560"/>
            </a:xfrm>
            <a:prstGeom prst="ellipse">
              <a:avLst/>
            </a:prstGeom>
            <a:solidFill>
              <a:srgbClr val="c0c0c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09360" y="2220120"/>
              <a:ext cx="504000" cy="52884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09360" y="3146040"/>
              <a:ext cx="504000" cy="52884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29080" y="1428120"/>
              <a:ext cx="753120" cy="2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2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862240" y="1422360"/>
              <a:ext cx="7905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2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871960" y="2315160"/>
              <a:ext cx="79056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2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70880" y="3207960"/>
              <a:ext cx="792000" cy="2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1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29080" y="2352600"/>
              <a:ext cx="7531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3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29080" y="3277080"/>
              <a:ext cx="7531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1.5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50040" y="1559520"/>
              <a:ext cx="175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650040" y="1677240"/>
              <a:ext cx="1758960" cy="79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3650040" y="1794600"/>
              <a:ext cx="1849320" cy="161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50040" y="1559520"/>
              <a:ext cx="1758960" cy="79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50040" y="2483640"/>
              <a:ext cx="175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650040" y="2616840"/>
              <a:ext cx="1758960" cy="79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650040" y="3410280"/>
              <a:ext cx="175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50040" y="2483640"/>
              <a:ext cx="1789920" cy="79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50040" y="1559520"/>
              <a:ext cx="1908720" cy="158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87800" y="3146040"/>
              <a:ext cx="504000" cy="5277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B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87800" y="2218320"/>
              <a:ext cx="504000" cy="5310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87800" y="1295280"/>
              <a:ext cx="504000" cy="5281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RJ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46080" y="3966480"/>
              <a:ext cx="504720" cy="52884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989320" y="3966480"/>
              <a:ext cx="792000" cy="2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1.5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96840" y="1677600"/>
              <a:ext cx="1860480" cy="2295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696840" y="2570040"/>
              <a:ext cx="1779480" cy="1530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96840" y="3462840"/>
              <a:ext cx="1779480" cy="765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8EBC6-3FA9-4D57-8539-D5388336BF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6858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Solução sem Variáveis Dum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286000" y="1981080"/>
            <a:ext cx="4800240" cy="2895480"/>
            <a:chOff x="2286000" y="1981080"/>
            <a:chExt cx="4800240" cy="2895480"/>
          </a:xfrm>
        </p:grpSpPr>
        <p:sp>
          <p:nvSpPr>
            <p:cNvPr id="264" name=""/>
            <p:cNvSpPr/>
            <p:nvPr/>
          </p:nvSpPr>
          <p:spPr>
            <a:xfrm>
              <a:off x="5598000" y="1981080"/>
              <a:ext cx="599760" cy="644400"/>
            </a:xfrm>
            <a:prstGeom prst="ellipse">
              <a:avLst/>
            </a:prstGeom>
            <a:solidFill>
              <a:srgbClr val="c0c0c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594040" y="3105720"/>
              <a:ext cx="599760" cy="64368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94040" y="4232160"/>
              <a:ext cx="599760" cy="64440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86000" y="2142720"/>
              <a:ext cx="8960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2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33320" y="2228760"/>
              <a:ext cx="9406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2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44840" y="338976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2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43040" y="4499280"/>
              <a:ext cx="943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1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286000" y="3267360"/>
              <a:ext cx="8960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3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86000" y="4391640"/>
              <a:ext cx="89604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1.5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99560" y="2301840"/>
              <a:ext cx="209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499560" y="2446560"/>
              <a:ext cx="2094480" cy="9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499560" y="2588760"/>
              <a:ext cx="2202120" cy="196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99560" y="2301840"/>
              <a:ext cx="2094480" cy="9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99560" y="3426480"/>
              <a:ext cx="209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3499560" y="3588120"/>
              <a:ext cx="2094480" cy="96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99560" y="4553280"/>
              <a:ext cx="209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99560" y="3426480"/>
              <a:ext cx="2131560" cy="96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99560" y="2301840"/>
              <a:ext cx="2272680" cy="192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50560" y="4232160"/>
              <a:ext cx="599760" cy="6418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B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50560" y="3103200"/>
              <a:ext cx="599760" cy="6462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50560" y="1981080"/>
              <a:ext cx="599760" cy="6418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RJ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97760" y="2034720"/>
              <a:ext cx="39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115160" y="2392200"/>
              <a:ext cx="39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97520" y="2659680"/>
              <a:ext cx="4017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15200" y="2926800"/>
              <a:ext cx="40176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31000" y="3159360"/>
              <a:ext cx="4017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030920" y="3463200"/>
              <a:ext cx="4017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66240" y="3909240"/>
              <a:ext cx="39996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79960" y="4141800"/>
              <a:ext cx="4017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97760" y="4499280"/>
              <a:ext cx="39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5EA3D-2329-4B08-93AD-BED509CBBA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– Caso 2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Oferta &gt; Deman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461960" y="1555920"/>
                <a:ext cx="7439040" cy="469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CF9B0-E9E5-47A4-A6C5-EF279F32B6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– Caso 3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Oferta &lt; Deman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461960" y="1555920"/>
                <a:ext cx="7439040" cy="469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9CC5C-8E42-481F-92B0-C56322AA23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e Transporte como uma Re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24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438280" y="1295280"/>
            <a:ext cx="4571640" cy="2513880"/>
            <a:chOff x="2438280" y="1295280"/>
            <a:chExt cx="4571640" cy="2513880"/>
          </a:xfrm>
        </p:grpSpPr>
        <p:sp>
          <p:nvSpPr>
            <p:cNvPr id="303" name=""/>
            <p:cNvSpPr/>
            <p:nvPr/>
          </p:nvSpPr>
          <p:spPr>
            <a:xfrm>
              <a:off x="5592960" y="1295280"/>
              <a:ext cx="571680" cy="559800"/>
            </a:xfrm>
            <a:prstGeom prst="ellipse">
              <a:avLst/>
            </a:prstGeom>
            <a:solidFill>
              <a:srgbClr val="c0c0c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589000" y="2271960"/>
              <a:ext cx="572040" cy="55836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89000" y="3249360"/>
              <a:ext cx="572040" cy="55980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438280" y="1434600"/>
              <a:ext cx="8524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-2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01640" y="1419120"/>
              <a:ext cx="896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2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13520" y="2427120"/>
              <a:ext cx="8960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2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111360" y="3391200"/>
              <a:ext cx="898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1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38280" y="2412000"/>
              <a:ext cx="8524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-3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38280" y="3388680"/>
              <a:ext cx="8524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-1.5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593880" y="1574280"/>
              <a:ext cx="199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593880" y="1698120"/>
              <a:ext cx="1994760" cy="83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593880" y="1821960"/>
              <a:ext cx="2097720" cy="170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93880" y="1574280"/>
              <a:ext cx="1994760" cy="83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593880" y="2551320"/>
              <a:ext cx="199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593880" y="2691000"/>
              <a:ext cx="1994760" cy="83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593880" y="3528720"/>
              <a:ext cx="199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593880" y="2551320"/>
              <a:ext cx="2030760" cy="83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93880" y="1574280"/>
              <a:ext cx="2165040" cy="167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71520" y="3249360"/>
              <a:ext cx="571680" cy="558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B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71520" y="2270160"/>
              <a:ext cx="571680" cy="559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071520" y="1295280"/>
              <a:ext cx="571680" cy="558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RJ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48880" y="1341360"/>
              <a:ext cx="3819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179600" y="1651680"/>
              <a:ext cx="3823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163760" y="1884240"/>
              <a:ext cx="3819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99800" y="2116800"/>
              <a:ext cx="3819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95800" y="2318760"/>
              <a:ext cx="3819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00760" y="2582640"/>
              <a:ext cx="3819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52280" y="2970360"/>
              <a:ext cx="3819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43320" y="3171600"/>
              <a:ext cx="3819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448880" y="3481920"/>
              <a:ext cx="3819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33" name=""/>
          <p:cNvGraphicFramePr/>
          <p:nvPr/>
        </p:nvGraphicFramePr>
        <p:xfrm>
          <a:off x="457200" y="4191120"/>
          <a:ext cx="8458200" cy="1460520"/>
        </p:xfrm>
        <a:graphic>
          <a:graphicData uri="http://schemas.openxmlformats.org/drawingml/2006/table">
            <a:tbl>
              <a:tblPr/>
              <a:tblGrid>
                <a:gridCol w="2743200"/>
                <a:gridCol w="5715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pótese do Proble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po de Restr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ferta = Dema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radas – Saídas = Oferta ou Demanda do n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ferta &gt; Dema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radas – Saídas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Oferta ou Demanda do N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ferta &lt; Dema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radas – Saídas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Oferta ou Demanda do N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1905120" y="5791320"/>
            <a:ext cx="5715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Regra do Fluxo Balanceado (Ragsdale, 2001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95859-4FFC-4147-82C5-F90DEE6BD0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848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Tahoma"/>
              </a:rPr>
              <a:t>Problema de Escala de Produção Caso LCL Fórmula 1 Ltda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24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80880" y="2446200"/>
          <a:ext cx="8382240" cy="2430360"/>
        </p:xfrm>
        <a:graphic>
          <a:graphicData uri="http://schemas.openxmlformats.org/drawingml/2006/table">
            <a:tbl>
              <a:tblPr/>
              <a:tblGrid>
                <a:gridCol w="1219320"/>
                <a:gridCol w="2286000"/>
                <a:gridCol w="2666880"/>
                <a:gridCol w="221004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imest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didos Contrat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pacidade de Produ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sto Unitário de Produ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m milhões de R$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0" lang="pt-BR" sz="1800" spc="-1" strike="noStrike" u="sng" baseline="30000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pt-BR" sz="1800" spc="-1" strike="noStrike" u="sng" baseline="30000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lang="pt-BR" sz="1800" spc="-1" strike="noStrike" u="sng" baseline="30000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r>
                        <a:rPr b="0" lang="pt-BR" sz="1800" spc="-1" strike="noStrike" u="sng" baseline="30000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E09DF-4825-4FEA-9DE9-D5E62F4380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s de Rede de Distribuição  Defini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1219320"/>
            <a:ext cx="861048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ão problemas nos quais existem múltiplas fontes, mercados e locais intermediários, por onde os produtos transportados podem passa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Objetivo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sim como no Problema de Transporte, o objetivo da modelagem é determinar o carregamento da rede que minimiza o custo total do transpor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689200" y="4108320"/>
            <a:ext cx="3787560" cy="2139480"/>
            <a:chOff x="2689200" y="4108320"/>
            <a:chExt cx="3787560" cy="2139480"/>
          </a:xfrm>
        </p:grpSpPr>
        <p:sp>
          <p:nvSpPr>
            <p:cNvPr id="342" name=""/>
            <p:cNvSpPr/>
            <p:nvPr/>
          </p:nvSpPr>
          <p:spPr>
            <a:xfrm>
              <a:off x="2689200" y="4108320"/>
              <a:ext cx="335520" cy="37476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89200" y="4590000"/>
              <a:ext cx="335520" cy="37476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689200" y="5874840"/>
              <a:ext cx="335520" cy="37296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27000" y="4797720"/>
              <a:ext cx="244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62200" y="4429800"/>
              <a:ext cx="335520" cy="374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62200" y="5606640"/>
              <a:ext cx="335520" cy="375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96760" y="4627080"/>
              <a:ext cx="244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024720" y="4269960"/>
              <a:ext cx="1437120" cy="32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24720" y="4269960"/>
              <a:ext cx="1437120" cy="144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024720" y="4642560"/>
              <a:ext cx="1437120" cy="16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024720" y="4804560"/>
              <a:ext cx="1437120" cy="101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3024720" y="4698360"/>
              <a:ext cx="1485360" cy="138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3024720" y="5874840"/>
              <a:ext cx="1485360" cy="21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41240" y="4108320"/>
              <a:ext cx="335520" cy="374760"/>
            </a:xfrm>
            <a:prstGeom prst="ellipse">
              <a:avLst/>
            </a:prstGeom>
            <a:solidFill>
              <a:srgbClr val="e2e2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41240" y="5874840"/>
              <a:ext cx="335520" cy="372960"/>
            </a:xfrm>
            <a:prstGeom prst="ellipse">
              <a:avLst/>
            </a:prstGeom>
            <a:solidFill>
              <a:srgbClr val="e2e2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41240" y="4590000"/>
              <a:ext cx="335520" cy="374760"/>
            </a:xfrm>
            <a:prstGeom prst="ellipse">
              <a:avLst/>
            </a:prstGeom>
            <a:solidFill>
              <a:srgbClr val="e2e2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189120" y="4883040"/>
              <a:ext cx="244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4798080" y="4321080"/>
              <a:ext cx="134316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798080" y="4590000"/>
              <a:ext cx="1343160" cy="15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98080" y="4590000"/>
              <a:ext cx="1391040" cy="133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4798080" y="4376520"/>
              <a:ext cx="1343160" cy="144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4798080" y="4856400"/>
              <a:ext cx="1343160" cy="9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798080" y="5819760"/>
              <a:ext cx="134316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7E755-F953-4B21-953D-0BBF735E77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e Rede de Distribuição 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Caso LCL Carros Brasil Lt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1828800" y="1523880"/>
            <a:ext cx="5790600" cy="4647960"/>
            <a:chOff x="1828800" y="1523880"/>
            <a:chExt cx="5790600" cy="4647960"/>
          </a:xfrm>
        </p:grpSpPr>
        <p:sp>
          <p:nvSpPr>
            <p:cNvPr id="368" name=""/>
            <p:cNvSpPr/>
            <p:nvPr/>
          </p:nvSpPr>
          <p:spPr>
            <a:xfrm>
              <a:off x="3798720" y="2443680"/>
              <a:ext cx="691200" cy="689760"/>
            </a:xfrm>
            <a:prstGeom prst="ellipse">
              <a:avLst/>
            </a:prstGeom>
            <a:solidFill>
              <a:srgbClr val="c0c0c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98720" y="3842640"/>
              <a:ext cx="691200" cy="69264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RJ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228360" y="1523880"/>
              <a:ext cx="688320" cy="691920"/>
            </a:xfrm>
            <a:prstGeom prst="ellipse">
              <a:avLst/>
            </a:prstGeom>
            <a:solidFill>
              <a:srgbClr val="c0c0c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G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28360" y="3514320"/>
              <a:ext cx="688320" cy="69264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P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228360" y="4453920"/>
              <a:ext cx="690480" cy="69192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S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129480" y="2060640"/>
              <a:ext cx="731160" cy="51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828800" y="1676880"/>
              <a:ext cx="7599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-5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847520" y="5146200"/>
              <a:ext cx="7599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-6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430160" y="2616480"/>
              <a:ext cx="7599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2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430160" y="4015440"/>
              <a:ext cx="7599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35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957040" y="2213640"/>
              <a:ext cx="949320" cy="172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129480" y="1868760"/>
              <a:ext cx="309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497680" y="1523880"/>
              <a:ext cx="691200" cy="6897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4430160" y="2040840"/>
              <a:ext cx="1833840" cy="5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142880" y="3133440"/>
              <a:ext cx="2520" cy="69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9440" y="1676880"/>
              <a:ext cx="7599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15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59440" y="3708360"/>
              <a:ext cx="7599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3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859440" y="4628880"/>
              <a:ext cx="7599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15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2956680" y="3095640"/>
              <a:ext cx="1004040" cy="18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3110040" y="4379040"/>
              <a:ext cx="726840" cy="69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129480" y="3938760"/>
              <a:ext cx="3098880" cy="13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129480" y="4858560"/>
              <a:ext cx="3098880" cy="5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29480" y="5491080"/>
              <a:ext cx="3098880" cy="34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497680" y="4973760"/>
              <a:ext cx="691200" cy="687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87400" y="1581120"/>
              <a:ext cx="4611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39720" y="2040840"/>
              <a:ext cx="4611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301200" y="2750400"/>
              <a:ext cx="4611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066560" y="3286800"/>
              <a:ext cx="4611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053160" y="3900240"/>
              <a:ext cx="4611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86360" y="4456080"/>
              <a:ext cx="46188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583160" y="4532760"/>
              <a:ext cx="4611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697640" y="5069520"/>
              <a:ext cx="4611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623840" y="5663880"/>
              <a:ext cx="4611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023080" y="2021760"/>
              <a:ext cx="4611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28360" y="5479200"/>
              <a:ext cx="690480" cy="69264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861600" y="5673240"/>
              <a:ext cx="75780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25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6C06B-5F98-4D34-B57B-B3B9886268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2286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Sumár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1219320"/>
            <a:ext cx="70102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6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6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Problemas de Transpor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6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Problemas de Transporte como uma Re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6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Problemas de Redes de Distribui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6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Problema do Menor Caminh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6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Problema do Fluxo Máxim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6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Estudo de Caso – Distribuidora de Cerve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6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Outros Exempl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6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6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5CC83-2DD9-40FB-9FB3-72CD527FCD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para o Problema de Rede de Distribui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Sejam os seguintes dados de entrad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M: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Conjunto de Fon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N: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Conjunto de Mercad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Oferta da Fonte i (unid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Demanda do Mercado j (unid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Custo unitário de transporte da fonte i para o mercado j (u.m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Custo unitário de transporte do mercado i para o mercado j (u.m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E a seguinte variável de decisão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Quantidade de itens transportados da fonte i para o mercado j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(unid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Quantidade de itens transportados do mercado i para o mercado j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(unid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just">
              <a:lnSpc>
                <a:spcPct val="15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ABA0C-D72C-4F85-AD37-46BAEC33E5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para o Problema de Rede de Distribui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947880" y="1814400"/>
                <a:ext cx="7324560" cy="397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         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j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-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407D2-8802-4E74-9CB7-1F864AAFBC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o Menor Camin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Representa um caso especial de problemas de redes, em que o custo associado a cada arco representa a distância entre dois pontos (nós)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O objetivo do problema é encontrar a rota de custo mínimo, que una um nó origem (O) a um nó destino (D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743200" y="3886200"/>
            <a:ext cx="4648320" cy="2209680"/>
            <a:chOff x="2743200" y="3886200"/>
            <a:chExt cx="4648320" cy="2209680"/>
          </a:xfrm>
        </p:grpSpPr>
        <p:sp>
          <p:nvSpPr>
            <p:cNvPr id="412" name=""/>
            <p:cNvSpPr/>
            <p:nvPr/>
          </p:nvSpPr>
          <p:spPr>
            <a:xfrm flipV="1">
              <a:off x="3259080" y="4317480"/>
              <a:ext cx="604800" cy="5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45400" y="4714920"/>
              <a:ext cx="546120" cy="55224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36880" y="5541840"/>
              <a:ext cx="549360" cy="5540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51360" y="3886200"/>
              <a:ext cx="546120" cy="5540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03800" y="4716360"/>
              <a:ext cx="547560" cy="550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36880" y="3886200"/>
              <a:ext cx="549360" cy="5540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83000" y="4164120"/>
              <a:ext cx="135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4398840" y="5099040"/>
              <a:ext cx="82080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244680" y="5160960"/>
              <a:ext cx="603360" cy="55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743200" y="4716360"/>
              <a:ext cx="549360" cy="554040"/>
            </a:xfrm>
            <a:prstGeom prst="ellipse">
              <a:avLst/>
            </a:prstGeom>
            <a:solidFill>
              <a:srgbClr val="c0c0c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297480" y="4243320"/>
              <a:ext cx="547920" cy="65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51360" y="4992840"/>
              <a:ext cx="10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289320" y="4992840"/>
              <a:ext cx="189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D9E11-8810-40EC-B075-6A71F727EB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o Menor Caminho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Caso LCL Adornos &amp; Teci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2209680" y="2589120"/>
            <a:ext cx="5333760" cy="2287440"/>
            <a:chOff x="2209680" y="2589120"/>
            <a:chExt cx="5333760" cy="2287440"/>
          </a:xfrm>
        </p:grpSpPr>
        <p:sp>
          <p:nvSpPr>
            <p:cNvPr id="428" name=""/>
            <p:cNvSpPr/>
            <p:nvPr/>
          </p:nvSpPr>
          <p:spPr>
            <a:xfrm flipV="1">
              <a:off x="2801880" y="3034800"/>
              <a:ext cx="69264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915960" y="3445920"/>
              <a:ext cx="627480" cy="57348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464640" y="4303080"/>
              <a:ext cx="629280" cy="573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661000" y="2589120"/>
              <a:ext cx="627480" cy="573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033520" y="3448080"/>
              <a:ext cx="627480" cy="5713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64640" y="2589120"/>
              <a:ext cx="629280" cy="573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092120" y="2876760"/>
              <a:ext cx="155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4109400" y="3844800"/>
              <a:ext cx="941040" cy="7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84600" y="3908520"/>
              <a:ext cx="69264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09680" y="3448080"/>
              <a:ext cx="629280" cy="573120"/>
            </a:xfrm>
            <a:prstGeom prst="ellipse">
              <a:avLst/>
            </a:prstGeom>
            <a:solidFill>
              <a:srgbClr val="c0c0c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L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288480" y="2957760"/>
              <a:ext cx="627480" cy="67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92800" y="2606760"/>
              <a:ext cx="79092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37 k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575800" y="3067200"/>
              <a:ext cx="79056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41 k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575800" y="4083120"/>
              <a:ext cx="79056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44 k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40600" y="4130640"/>
              <a:ext cx="79092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7 k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952960" y="3670560"/>
              <a:ext cx="78840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4 k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462360" y="3051360"/>
              <a:ext cx="79092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45 k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661000" y="3733920"/>
              <a:ext cx="123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499200" y="3463920"/>
              <a:ext cx="79092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50 k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37160" y="3733920"/>
              <a:ext cx="217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AC4B4-7A5C-4D9D-9B7B-0FDC294634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para o Problema do Menor Camin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Sejam os seguintes dados de entrad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N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Conjunto de Cidad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1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Cidade orig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n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Cidade destin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Distância entre as cidades i e j  (unid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 a seguinte variável de decisã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914400" y="5037120"/>
                <a:ext cx="392436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e a rota ij é selecionada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BEA83-A67F-47B0-8FA7-17298F7243E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para o Problema do Menor Camin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727200" y="1523880"/>
                <a:ext cx="7765920" cy="455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                                          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                    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                                   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2267D-AF99-4913-9749-0F384E6699B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o Fluxo Máxi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Trata situações nas quais deseja-se maximizar a quantidade de fluxo de um ponto de origem para um ponto de destino, estando sujeito a restrições de capacidade de fluxo nos arco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B30A3-B35E-43E3-A7AA-7FB44E15A9A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o Fluxo Máximo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Caso LCL GasoBras Lt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362320" y="2273400"/>
            <a:ext cx="5028480" cy="2526840"/>
            <a:chOff x="2362320" y="2273400"/>
            <a:chExt cx="5028480" cy="2526840"/>
          </a:xfrm>
        </p:grpSpPr>
        <p:sp>
          <p:nvSpPr>
            <p:cNvPr id="459" name=""/>
            <p:cNvSpPr/>
            <p:nvPr/>
          </p:nvSpPr>
          <p:spPr>
            <a:xfrm flipV="1">
              <a:off x="2920680" y="2775240"/>
              <a:ext cx="651240" cy="60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797160" y="3208680"/>
              <a:ext cx="593640" cy="60408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RJ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45280" y="4112280"/>
              <a:ext cx="591480" cy="604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613840" y="2305080"/>
              <a:ext cx="593640" cy="604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616360" y="4112280"/>
              <a:ext cx="591480" cy="604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45280" y="2305080"/>
              <a:ext cx="591480" cy="604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8600" y="3143880"/>
              <a:ext cx="745560" cy="4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0 m</a:t>
              </a:r>
              <a:r>
                <a:rPr b="0" lang="pt-BR" sz="1500" spc="-1" strike="noStrike">
                  <a:solidFill>
                    <a:srgbClr val="000000"/>
                  </a:solidFill>
                  <a:latin typeface="Arial"/>
                </a:rPr>
                <a:t>³</a:t>
              </a: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137120" y="2608200"/>
              <a:ext cx="146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37120" y="4415400"/>
              <a:ext cx="146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038480" y="2708640"/>
              <a:ext cx="1627200" cy="150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904480" y="3695760"/>
              <a:ext cx="651240" cy="60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362320" y="3210480"/>
              <a:ext cx="591480" cy="602280"/>
            </a:xfrm>
            <a:prstGeom prst="ellipse">
              <a:avLst/>
            </a:prstGeom>
            <a:solidFill>
              <a:srgbClr val="c0c0c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207840" y="2693160"/>
              <a:ext cx="591480" cy="71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6207480" y="3620520"/>
              <a:ext cx="591480" cy="7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514760" y="2273400"/>
              <a:ext cx="74556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30 m</a:t>
              </a:r>
              <a:r>
                <a:rPr b="0" lang="pt-BR" sz="1500" spc="-1" strike="noStrike">
                  <a:solidFill>
                    <a:srgbClr val="000000"/>
                  </a:solidFill>
                  <a:latin typeface="Arial"/>
                </a:rPr>
                <a:t>³</a:t>
              </a: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657880" y="2741760"/>
              <a:ext cx="74556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40 m</a:t>
              </a:r>
              <a:r>
                <a:rPr b="0" lang="pt-BR" sz="1500" spc="-1" strike="noStrike">
                  <a:solidFill>
                    <a:srgbClr val="000000"/>
                  </a:solidFill>
                  <a:latin typeface="Arial"/>
                </a:rPr>
                <a:t>³</a:t>
              </a: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641680" y="3880080"/>
              <a:ext cx="74520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30 m</a:t>
              </a:r>
              <a:r>
                <a:rPr b="0" lang="pt-BR" sz="1500" spc="-1" strike="noStrike">
                  <a:solidFill>
                    <a:srgbClr val="000000"/>
                  </a:solidFill>
                  <a:latin typeface="Arial"/>
                </a:rPr>
                <a:t>³</a:t>
              </a: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514760" y="4348800"/>
              <a:ext cx="745560" cy="4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30 m</a:t>
              </a:r>
              <a:r>
                <a:rPr b="0" lang="pt-BR" sz="1500" spc="-1" strike="noStrike">
                  <a:solidFill>
                    <a:srgbClr val="000000"/>
                  </a:solidFill>
                  <a:latin typeface="Arial"/>
                </a:rPr>
                <a:t>³</a:t>
              </a: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333120" y="3880080"/>
              <a:ext cx="74556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40 m</a:t>
              </a:r>
              <a:r>
                <a:rPr b="0" lang="pt-BR" sz="1500" spc="-1" strike="noStrike">
                  <a:solidFill>
                    <a:srgbClr val="000000"/>
                  </a:solidFill>
                  <a:latin typeface="Arial"/>
                </a:rPr>
                <a:t>³</a:t>
              </a: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388560" y="2741760"/>
              <a:ext cx="74556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0 m</a:t>
              </a:r>
              <a:r>
                <a:rPr b="0" lang="pt-BR" sz="1500" spc="-1" strike="noStrike">
                  <a:solidFill>
                    <a:srgbClr val="000000"/>
                  </a:solidFill>
                  <a:latin typeface="Arial"/>
                </a:rPr>
                <a:t>³</a:t>
              </a: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2F1DA-5853-4EA4-8FD6-89F8A84F550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para o Problema do Fluxo Máxi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Sejam os seguintes dados de entrad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N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Conjunto dos Nó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: Nó orig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n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Nó destin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capacidade do arco ij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 a seguinte variável de decisã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fluxo que atravessa o arco ij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81FD7-C257-4F35-B276-44D68F71CA3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para o Problema do Fluxo Máxi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758880" y="1406520"/>
                <a:ext cx="7929360" cy="430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      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                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                       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  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                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60262-C094-41EA-BFF3-1F394E301FC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e Transporte - Defini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Dados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ahoma"/>
              </a:rPr>
              <a:t>um conjunto de fontes de produção, 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ahoma"/>
              </a:rPr>
              <a:t>uma rede de caminhos possíveis de transport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ahoma"/>
              </a:rPr>
              <a:t>os mercados para os quais determinados produtos devem ser transportados,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o </a:t>
            </a:r>
            <a:r>
              <a:rPr b="1" lang="pt-BR" sz="1900" spc="-1" strike="noStrike" u="sng">
                <a:solidFill>
                  <a:srgbClr val="000000"/>
                </a:solidFill>
                <a:uFillTx/>
                <a:latin typeface="Tahoma"/>
              </a:rPr>
              <a:t>Problema de Transporte</a:t>
            </a: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 consiste em determinar, dentre as diversas maneiras de distribuição de um produto, a que resultará no menor custo de transporte entre as fontes de produção e os mercados consumidores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08102-B774-44C8-8C43-0A3C5480A0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6964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Problema de Escala de Produção como Modelos de Rede -Caso LCL EletroBrasil Ltda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24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2590920" y="1243080"/>
            <a:ext cx="4482720" cy="5081040"/>
            <a:chOff x="2590920" y="1243080"/>
            <a:chExt cx="4482720" cy="5081040"/>
          </a:xfrm>
        </p:grpSpPr>
        <p:sp>
          <p:nvSpPr>
            <p:cNvPr id="487" name=""/>
            <p:cNvSpPr/>
            <p:nvPr/>
          </p:nvSpPr>
          <p:spPr>
            <a:xfrm flipV="1">
              <a:off x="3820320" y="3196800"/>
              <a:ext cx="188892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20320" y="2806560"/>
              <a:ext cx="188892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3820320" y="4499640"/>
              <a:ext cx="188892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20320" y="4109400"/>
              <a:ext cx="188892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3820320" y="5802840"/>
              <a:ext cx="188892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20320" y="5412240"/>
              <a:ext cx="188892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3835080" y="1893960"/>
              <a:ext cx="188892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340440" y="1894320"/>
              <a:ext cx="541440" cy="5209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743080" y="1561320"/>
              <a:ext cx="541800" cy="522720"/>
            </a:xfrm>
            <a:prstGeom prst="ellipse">
              <a:avLst/>
            </a:prstGeom>
            <a:solidFill>
              <a:srgbClr val="c0c0c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M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28320" y="2862720"/>
              <a:ext cx="541440" cy="52272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M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729760" y="4165560"/>
              <a:ext cx="539640" cy="52272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M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590920" y="1373040"/>
              <a:ext cx="807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-150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224760" y="1677240"/>
              <a:ext cx="84888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120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209640" y="3009240"/>
              <a:ext cx="84888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200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209640" y="4297320"/>
              <a:ext cx="84888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120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50680" y="2024640"/>
              <a:ext cx="807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-50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39960" y="1402200"/>
              <a:ext cx="361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650680" y="4630680"/>
              <a:ext cx="807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-50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340440" y="4500000"/>
              <a:ext cx="541440" cy="5209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650680" y="3327480"/>
              <a:ext cx="807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-50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340440" y="3197160"/>
              <a:ext cx="541440" cy="5209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590920" y="2674440"/>
              <a:ext cx="807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-150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340440" y="2543760"/>
              <a:ext cx="539640" cy="523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M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590920" y="3979080"/>
              <a:ext cx="807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-150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340440" y="3848760"/>
              <a:ext cx="539640" cy="5209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M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590920" y="5281920"/>
              <a:ext cx="807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-150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340440" y="5151960"/>
              <a:ext cx="539640" cy="5209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M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650680" y="5933520"/>
              <a:ext cx="807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-50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340440" y="5801400"/>
              <a:ext cx="541440" cy="522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385440" y="1937520"/>
              <a:ext cx="5094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M1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385440" y="3240720"/>
              <a:ext cx="5094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M2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385440" y="4543560"/>
              <a:ext cx="5094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M3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385440" y="5832360"/>
              <a:ext cx="5094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M4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24360" y="5470200"/>
              <a:ext cx="541440" cy="52272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M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19000" y="5602320"/>
              <a:ext cx="85068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180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35080" y="1503360"/>
              <a:ext cx="188892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340440" y="1243080"/>
              <a:ext cx="541440" cy="5209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M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539960" y="1807560"/>
              <a:ext cx="361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24840" y="2705040"/>
              <a:ext cx="361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524840" y="3110400"/>
              <a:ext cx="361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524840" y="4007880"/>
              <a:ext cx="361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524840" y="4413600"/>
              <a:ext cx="361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524840" y="5311080"/>
              <a:ext cx="361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24840" y="5716440"/>
              <a:ext cx="361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994360" y="2068200"/>
              <a:ext cx="1440" cy="78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34240" y="2328840"/>
              <a:ext cx="361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994360" y="3371040"/>
              <a:ext cx="0" cy="78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934240" y="3631680"/>
              <a:ext cx="359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94360" y="4674240"/>
              <a:ext cx="1440" cy="78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934240" y="4934520"/>
              <a:ext cx="361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13BEE-B08C-4997-9D31-639F0711A89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Estudo de Caso – Distribuidora de Cerveja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Fábricas: Porto Alegre (A), Belo Horizonte (B), Salvador (C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Mercados: Curitiba (1), Recife (2), São Paulo    (3),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Belém(4) e Brasília(5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304920" y="2286000"/>
          <a:ext cx="4038480" cy="1339920"/>
        </p:xfrm>
        <a:graphic>
          <a:graphicData uri="http://schemas.openxmlformats.org/drawingml/2006/table">
            <a:tbl>
              <a:tblPr/>
              <a:tblGrid>
                <a:gridCol w="1412640"/>
                <a:gridCol w="26258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áb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pacid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4952880" y="2286000"/>
          <a:ext cx="2667240" cy="2009520"/>
        </p:xfrm>
        <a:graphic>
          <a:graphicData uri="http://schemas.openxmlformats.org/drawingml/2006/table">
            <a:tbl>
              <a:tblPr/>
              <a:tblGrid>
                <a:gridCol w="1176480"/>
                <a:gridCol w="1490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a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1" name=""/>
          <p:cNvGraphicFramePr/>
          <p:nvPr/>
        </p:nvGraphicFramePr>
        <p:xfrm>
          <a:off x="1066680" y="4495680"/>
          <a:ext cx="6782040" cy="1460520"/>
        </p:xfrm>
        <a:graphic>
          <a:graphicData uri="http://schemas.openxmlformats.org/drawingml/2006/table">
            <a:tbl>
              <a:tblPr/>
              <a:tblGrid>
                <a:gridCol w="2210040"/>
                <a:gridCol w="914400"/>
                <a:gridCol w="890640"/>
                <a:gridCol w="1014120"/>
                <a:gridCol w="914400"/>
                <a:gridCol w="838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igem / Desti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2" name=""/>
          <p:cNvSpPr/>
          <p:nvPr/>
        </p:nvSpPr>
        <p:spPr>
          <a:xfrm>
            <a:off x="2057400" y="594360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ustos de transpor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1814B-4DFD-4C8B-9940-DBAFFD30FB3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Distribuidora de Cervejas – Caso 1</a:t>
            </a:r>
            <a:br>
              <a:rPr sz="2700"/>
            </a:b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Programação para o Mercado Atual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Programar o abastecimento dos mercados regionais para o próximo mês, de modo a  atender totalmente à demanda prevista, minimizando o gasto total com o transpor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CD0D8-B0EA-4219-96B4-1BF6FA606A7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911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Distribuidora de Cervejas – Caso 2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gramação da Expansão de Ofer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Para os próximos cinco anos, a empresa prevê um crescimento do mercado, que resultará em novas demandas, como mostrado na tabela abaix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3276720" y="3171960"/>
          <a:ext cx="2666880" cy="2009520"/>
        </p:xfrm>
        <a:graphic>
          <a:graphicData uri="http://schemas.openxmlformats.org/drawingml/2006/table">
            <a:tbl>
              <a:tblPr/>
              <a:tblGrid>
                <a:gridCol w="1176120"/>
                <a:gridCol w="1490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a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D40A2-2E78-4E92-9826-3C514DB8EA9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911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Distribuidora de Cervejas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Caso 2  -  Opção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Ampliação das capacidades de produção das fábricas de Belo Horizonte, passando de 42.000 para 60.000 caixas por mês, e de Salvador, que passaria das atuais 26.000 para 58.000 caixas.  Essas duas fábricas são as únicas que apresentam possibilidade de ampliaçã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F7E9E-F0AD-4BD1-B636-BAECD0F8686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Distribuidora de Cervejas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Caso 2  -  Opçã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Construção de uma nova fábrica em Vitória, com capacidade para 50.000 caixa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studos de transporte mostraram que os custos unitários do abastecimento dos depósitos regionais a partir de vitória sã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838080" y="3648240"/>
          <a:ext cx="6934320" cy="817560"/>
        </p:xfrm>
        <a:graphic>
          <a:graphicData uri="http://schemas.openxmlformats.org/drawingml/2006/table">
            <a:tbl>
              <a:tblPr/>
              <a:tblGrid>
                <a:gridCol w="2259000"/>
                <a:gridCol w="935280"/>
                <a:gridCol w="911160"/>
                <a:gridCol w="1036440"/>
                <a:gridCol w="935280"/>
                <a:gridCol w="857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tória (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D8141-6812-4152-814F-8DF7C140816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6960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Problema de Designação de Tarefa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Tarefas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, B,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Máquinas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1, 2 e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Determinar a quais máquinas as tarefas devem ser alocadas, de modo a minimizar o custo tot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914400" y="3797280"/>
          <a:ext cx="7391520" cy="1460520"/>
        </p:xfrm>
        <a:graphic>
          <a:graphicData uri="http://schemas.openxmlformats.org/drawingml/2006/table">
            <a:tbl>
              <a:tblPr/>
              <a:tblGrid>
                <a:gridCol w="2293920"/>
                <a:gridCol w="1658880"/>
                <a:gridCol w="1654200"/>
                <a:gridCol w="1784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refas/Máqui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áquina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áquina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áquina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refa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refa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refa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6" name=""/>
          <p:cNvSpPr/>
          <p:nvPr/>
        </p:nvSpPr>
        <p:spPr>
          <a:xfrm>
            <a:off x="2743200" y="525780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ustos de alocação das taref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3B07A-29D3-4AF9-AB0F-88FBBBC6123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a P-mediana não Capaci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" y="137160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98560" indent="-353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8600" y="1371600"/>
            <a:ext cx="8686800" cy="28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blema que consiste em localizar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nós (medianas) de forma a minimizar a soma das distâncias de cada nó de demanda até sua mediana mais próxim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1835640" y="2565360"/>
            <a:ext cx="5941440" cy="3798720"/>
            <a:chOff x="1835640" y="2565360"/>
            <a:chExt cx="5941440" cy="3798720"/>
          </a:xfrm>
        </p:grpSpPr>
        <p:sp>
          <p:nvSpPr>
            <p:cNvPr id="561" name=""/>
            <p:cNvSpPr/>
            <p:nvPr/>
          </p:nvSpPr>
          <p:spPr>
            <a:xfrm>
              <a:off x="2734920" y="4828680"/>
              <a:ext cx="355320" cy="31500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16800" y="2969640"/>
              <a:ext cx="355320" cy="31644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960280" y="3243960"/>
              <a:ext cx="355320" cy="31500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491880" y="4261680"/>
              <a:ext cx="355320" cy="31644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838760" y="5551200"/>
              <a:ext cx="355320" cy="31644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3336120" y="3175920"/>
              <a:ext cx="1502280" cy="27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260880" y="3515040"/>
              <a:ext cx="3231000" cy="88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2960280" y="3515040"/>
              <a:ext cx="150480" cy="128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260880" y="3515040"/>
              <a:ext cx="1577520" cy="210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3110760" y="3243960"/>
              <a:ext cx="1728000" cy="169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3110760" y="4465080"/>
              <a:ext cx="3381120" cy="54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035520" y="5143680"/>
              <a:ext cx="1803240" cy="54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39360" y="3175920"/>
              <a:ext cx="1352160" cy="115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988880" y="3311640"/>
              <a:ext cx="0" cy="223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5139360" y="4533120"/>
              <a:ext cx="1427040" cy="10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84320" y="3242160"/>
              <a:ext cx="83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= 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944040" y="4261680"/>
              <a:ext cx="83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= 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839840" y="5958360"/>
              <a:ext cx="83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= 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839840" y="2565360"/>
              <a:ext cx="83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= 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835640" y="5143680"/>
              <a:ext cx="83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= 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4FAC9-7F4B-4D6E-9207-FF9D4116964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1447920" y="198360"/>
            <a:ext cx="7391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a P-mediana não Capacitado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Ex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1828800" y="1386000"/>
          <a:ext cx="5638680" cy="2190600"/>
        </p:xfrm>
        <a:graphic>
          <a:graphicData uri="http://schemas.openxmlformats.org/drawingml/2006/table">
            <a:tbl>
              <a:tblPr/>
              <a:tblGrid>
                <a:gridCol w="939960"/>
                <a:gridCol w="939600"/>
                <a:gridCol w="939960"/>
                <a:gridCol w="939600"/>
                <a:gridCol w="939960"/>
                <a:gridCol w="93960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3" name=""/>
          <p:cNvGraphicFramePr/>
          <p:nvPr/>
        </p:nvGraphicFramePr>
        <p:xfrm>
          <a:off x="1828800" y="4205160"/>
          <a:ext cx="5715000" cy="38088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  <a:gridCol w="990360"/>
                <a:gridCol w="914400"/>
                <a:gridCol w="952560"/>
                <a:gridCol w="9525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4" name=""/>
          <p:cNvSpPr/>
          <p:nvPr/>
        </p:nvSpPr>
        <p:spPr>
          <a:xfrm>
            <a:off x="1751400" y="5195880"/>
            <a:ext cx="541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 = 2    (número de facilidades a serem localizad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744200" y="5805360"/>
            <a:ext cx="32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 = 5 (número de localida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893960" y="3595680"/>
            <a:ext cx="27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istância entre as local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988360" y="4586400"/>
            <a:ext cx="336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usto fixo de instalação da facilid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393BE-C0CB-460D-886F-031FED8F153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15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para o Problema da p-mediana não capaci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Sejam os seguintes dados de entrad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n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Número de Localidad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Número de medianas a serem localizad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distância entre a localidade i e sua mediana mais próxima j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custo de instalação da mediana j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 as seguintes variáveis de decisã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5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380880" y="5410080"/>
                <a:ext cx="31068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e a mediana j é instalada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304920" y="4346640"/>
                <a:ext cx="50292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e a localidade  i é atendida pela facilidade j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FF6FD-9E13-4A77-A7EC-9326415B95E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6960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Problema de Transporte – Exemplo 1</a:t>
            </a:r>
            <a:br>
              <a:rPr sz="2700"/>
            </a:b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(Oferta = Demanda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Fontes de oferta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 e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Capacidades de produção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 = 15 e B =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Mercados consumidores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1, M2 e M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Demanda dos mercados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1 = 20; M2 =10; M3 =10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Determinar quanto deve ser produzido e  entregue por cada fonte a cada mercado, de forma a minimizar os custos de transpor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Custos de Transport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876920" y="3352680"/>
            <a:ext cx="4038120" cy="2590560"/>
            <a:chOff x="4876920" y="3352680"/>
            <a:chExt cx="4038120" cy="2590560"/>
          </a:xfrm>
        </p:grpSpPr>
        <p:sp>
          <p:nvSpPr>
            <p:cNvPr id="146" name=""/>
            <p:cNvSpPr/>
            <p:nvPr/>
          </p:nvSpPr>
          <p:spPr>
            <a:xfrm>
              <a:off x="8419320" y="3430800"/>
              <a:ext cx="49572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[20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430840" y="4530240"/>
              <a:ext cx="4842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[10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430840" y="5472360"/>
              <a:ext cx="4842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[10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14240" y="3352680"/>
              <a:ext cx="568440" cy="555840"/>
            </a:xfrm>
            <a:prstGeom prst="ellipse">
              <a:avLst/>
            </a:prstGeom>
            <a:solidFill>
              <a:srgbClr val="c0c0c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10640" y="4415400"/>
              <a:ext cx="568440" cy="55584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910640" y="5387040"/>
              <a:ext cx="568440" cy="55620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78720" y="3445560"/>
              <a:ext cx="8499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[15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76920" y="4554720"/>
              <a:ext cx="66240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[25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5922720" y="3844440"/>
              <a:ext cx="1987920" cy="83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22720" y="3632040"/>
              <a:ext cx="2079000" cy="83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22720" y="4693680"/>
              <a:ext cx="1987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22720" y="4693680"/>
              <a:ext cx="2022480" cy="83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22720" y="3632040"/>
              <a:ext cx="2268000" cy="175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02520" y="4415400"/>
              <a:ext cx="567720" cy="5544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0680" y="3352680"/>
              <a:ext cx="568440" cy="5544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45360" y="3499920"/>
              <a:ext cx="377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39320" y="4554720"/>
              <a:ext cx="283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008920" y="3499920"/>
              <a:ext cx="4546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M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08920" y="4575960"/>
              <a:ext cx="4546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M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65360" y="5532840"/>
              <a:ext cx="455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M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19120" y="3630240"/>
              <a:ext cx="1987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7" name=""/>
          <p:cNvGraphicFramePr/>
          <p:nvPr/>
        </p:nvGraphicFramePr>
        <p:xfrm>
          <a:off x="228600" y="4133880"/>
          <a:ext cx="4419720" cy="819000"/>
        </p:xfrm>
        <a:graphic>
          <a:graphicData uri="http://schemas.openxmlformats.org/drawingml/2006/table">
            <a:tbl>
              <a:tblPr/>
              <a:tblGrid>
                <a:gridCol w="1371600"/>
                <a:gridCol w="990720"/>
                <a:gridCol w="1066680"/>
                <a:gridCol w="990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e/Merc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cado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cado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cado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e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e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76D1B-A634-49C5-82B9-DE79798994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6218280"/>
            <a:ext cx="2057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447920" y="351000"/>
            <a:ext cx="7391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para o                                   Problema da P-mediana não Capacitado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073160" y="15238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inimizar z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2368440" y="2209680"/>
                <a:ext cx="13716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9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2368440" y="4495680"/>
                <a:ext cx="129564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1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2292480" y="5257800"/>
                <a:ext cx="16002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4151160" y="5318280"/>
                <a:ext cx="14940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5" name=""/>
          <p:cNvSpPr/>
          <p:nvPr/>
        </p:nvSpPr>
        <p:spPr>
          <a:xfrm>
            <a:off x="3894120" y="54864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423040" y="25146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 = 1,...,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490720" y="4724280"/>
            <a:ext cx="220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 = 1,..., n; j = 1,...,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59520" y="21337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ujeito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2597040" y="1143000"/>
                <a:ext cx="32004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2368440" y="3209760"/>
                <a:ext cx="14479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DCE70-8504-4474-BA2E-E6153596250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380880" y="1371600"/>
            <a:ext cx="8534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Semelhança com o Problema de Transpor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Nós intermediários entre os nós de origem e de desti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O objetivo do problema é fazer o fluxo dos pontos de oferta chegarem aos pontos de demanda, passando por pontos intermediários de transbordo, com o menor cus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47920" y="274680"/>
            <a:ext cx="6476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e Transbor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1523880" y="4684680"/>
            <a:ext cx="6019920" cy="1030320"/>
            <a:chOff x="1523880" y="4684680"/>
            <a:chExt cx="6019920" cy="1030320"/>
          </a:xfrm>
        </p:grpSpPr>
        <p:sp>
          <p:nvSpPr>
            <p:cNvPr id="614" name=""/>
            <p:cNvSpPr/>
            <p:nvPr/>
          </p:nvSpPr>
          <p:spPr>
            <a:xfrm>
              <a:off x="1523880" y="4724280"/>
              <a:ext cx="533520" cy="53352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43400" y="51814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057400" y="4952880"/>
              <a:ext cx="22860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010280" y="4724280"/>
              <a:ext cx="533520" cy="533520"/>
            </a:xfrm>
            <a:prstGeom prst="ellipse">
              <a:avLst/>
            </a:prstGeom>
            <a:solidFill>
              <a:srgbClr val="e2e2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4876920" y="5029200"/>
              <a:ext cx="213336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598480" y="4684680"/>
              <a:ext cx="441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316840" y="4890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3A1C4-DB60-4FE0-ADCD-33DF2E6907C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1447920" y="198360"/>
            <a:ext cx="7391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e Transbordo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Ex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685800" y="1523880"/>
          <a:ext cx="1828800" cy="1460520"/>
        </p:xfrm>
        <a:graphic>
          <a:graphicData uri="http://schemas.openxmlformats.org/drawingml/2006/table">
            <a:tbl>
              <a:tblPr/>
              <a:tblGrid>
                <a:gridCol w="533520"/>
                <a:gridCol w="609480"/>
                <a:gridCol w="68580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3733920" y="1523880"/>
          <a:ext cx="2057400" cy="1295280"/>
        </p:xfrm>
        <a:graphic>
          <a:graphicData uri="http://schemas.openxmlformats.org/drawingml/2006/table">
            <a:tbl>
              <a:tblPr/>
              <a:tblGrid>
                <a:gridCol w="648000"/>
                <a:gridCol w="419040"/>
                <a:gridCol w="457200"/>
                <a:gridCol w="5331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k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4" name=""/>
          <p:cNvGraphicFramePr/>
          <p:nvPr/>
        </p:nvGraphicFramePr>
        <p:xfrm>
          <a:off x="380880" y="3789360"/>
          <a:ext cx="3733920" cy="888840"/>
        </p:xfrm>
        <a:graphic>
          <a:graphicData uri="http://schemas.openxmlformats.org/drawingml/2006/table">
            <a:tbl>
              <a:tblPr/>
              <a:tblGrid>
                <a:gridCol w="933480"/>
                <a:gridCol w="933480"/>
                <a:gridCol w="933480"/>
                <a:gridCol w="93348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5" name=""/>
          <p:cNvSpPr/>
          <p:nvPr/>
        </p:nvSpPr>
        <p:spPr>
          <a:xfrm>
            <a:off x="306000" y="5257800"/>
            <a:ext cx="23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500    i = 1, ...,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26880" y="5805360"/>
            <a:ext cx="2337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500    k = 1, ...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7010280" y="1600200"/>
          <a:ext cx="1295280" cy="1117440"/>
        </p:xfrm>
        <a:graphic>
          <a:graphicData uri="http://schemas.openxmlformats.org/drawingml/2006/table">
            <a:tbl>
              <a:tblPr/>
              <a:tblGrid>
                <a:gridCol w="533520"/>
                <a:gridCol w="7617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8" name=""/>
          <p:cNvSpPr/>
          <p:nvPr/>
        </p:nvSpPr>
        <p:spPr>
          <a:xfrm>
            <a:off x="3200400" y="2895480"/>
            <a:ext cx="30481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istâncias dos de transbordo a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ós de des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85800" y="4754520"/>
            <a:ext cx="3048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manda dos pontos de des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3094200"/>
            <a:ext cx="30481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istâncias dos de origem a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ós de transbor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095880" y="2819520"/>
            <a:ext cx="30481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usto de abertura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ó de trasbor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5334120" y="3733920"/>
            <a:ext cx="2666880" cy="2209680"/>
            <a:chOff x="5334120" y="3733920"/>
            <a:chExt cx="2666880" cy="2209680"/>
          </a:xfrm>
        </p:grpSpPr>
        <p:sp>
          <p:nvSpPr>
            <p:cNvPr id="633" name=""/>
            <p:cNvSpPr/>
            <p:nvPr/>
          </p:nvSpPr>
          <p:spPr>
            <a:xfrm>
              <a:off x="5334120" y="3733920"/>
              <a:ext cx="533160" cy="53316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334120" y="4572000"/>
              <a:ext cx="533160" cy="53352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334120" y="5410080"/>
              <a:ext cx="533160" cy="53352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400800" y="411480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400800" y="51814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467480" y="3809880"/>
              <a:ext cx="533520" cy="5335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467480" y="5410080"/>
              <a:ext cx="533520" cy="5335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467480" y="4648320"/>
              <a:ext cx="533520" cy="533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44D78-2411-4F57-ABE3-36474BF1024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1447920" y="198360"/>
            <a:ext cx="7391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Formulação Matemática para o Problema de Transbo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798360" y="1143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38080" y="114300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inimizar z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944680" y="1143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24440" y="19051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ujeito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1600200" y="2209680"/>
                <a:ext cx="14479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s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4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1600200" y="2971800"/>
                <a:ext cx="19810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5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1600200" y="3809880"/>
                <a:ext cx="175248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s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5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1600200" y="4876920"/>
                <a:ext cx="190512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55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1600200" y="5791320"/>
                <a:ext cx="99072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2516040" y="5881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2743200" y="5807160"/>
                <a:ext cx="10666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0" name=""/>
          <p:cNvSpPr/>
          <p:nvPr/>
        </p:nvSpPr>
        <p:spPr>
          <a:xfrm>
            <a:off x="3792240" y="5881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3962520" y="5791320"/>
                <a:ext cx="1295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2286000" y="914400"/>
                <a:ext cx="152388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4114800" y="914400"/>
                <a:ext cx="16765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s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6400800" y="914400"/>
                <a:ext cx="13716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s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65" name=""/>
          <p:cNvSpPr/>
          <p:nvPr/>
        </p:nvSpPr>
        <p:spPr>
          <a:xfrm>
            <a:off x="4844880" y="251460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 = 1,...,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851000" y="327672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 = 1,...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889520" y="41148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 = 1,...,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914720" y="510552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 = 1,...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6F0A7-BAF0-45A8-9107-B3B737053E4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6960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Problema de Transporte – Exemplo 2</a:t>
            </a:r>
            <a:br>
              <a:rPr sz="2700"/>
            </a:b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(Oferta &gt; Demanda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Fontes de oferta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 e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Capacidades de produção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 = 25 e B =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Mercados consumidores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1, M2 e M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Demanda dos mercados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1 = 20; M2 =10; M3 =10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Custos de Transport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800600" y="3124080"/>
            <a:ext cx="4038120" cy="2742840"/>
            <a:chOff x="4800600" y="3124080"/>
            <a:chExt cx="4038120" cy="2742840"/>
          </a:xfrm>
        </p:grpSpPr>
        <p:sp>
          <p:nvSpPr>
            <p:cNvPr id="171" name=""/>
            <p:cNvSpPr/>
            <p:nvPr/>
          </p:nvSpPr>
          <p:spPr>
            <a:xfrm>
              <a:off x="8342280" y="3207240"/>
              <a:ext cx="49608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[20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54520" y="4370760"/>
              <a:ext cx="48420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[10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54520" y="5368320"/>
              <a:ext cx="4842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[10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37920" y="3124080"/>
              <a:ext cx="567720" cy="588960"/>
            </a:xfrm>
            <a:prstGeom prst="ellipse">
              <a:avLst/>
            </a:prstGeom>
            <a:solidFill>
              <a:srgbClr val="c0c0c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34320" y="4249800"/>
              <a:ext cx="568440" cy="58860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34320" y="5278320"/>
              <a:ext cx="568440" cy="58860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2040" y="3222720"/>
              <a:ext cx="84996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[25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396680"/>
              <a:ext cx="66240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[25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846400" y="3645000"/>
              <a:ext cx="1987920" cy="88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46400" y="3420000"/>
              <a:ext cx="2079000" cy="88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46400" y="4543920"/>
              <a:ext cx="198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46400" y="4543920"/>
              <a:ext cx="2022120" cy="87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46400" y="3420000"/>
              <a:ext cx="2268000" cy="18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25840" y="4249800"/>
              <a:ext cx="568440" cy="586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274360" y="3124080"/>
              <a:ext cx="568440" cy="586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69040" y="3279960"/>
              <a:ext cx="377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63000" y="4396680"/>
              <a:ext cx="283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849800" y="3279960"/>
              <a:ext cx="619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M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89040" y="4419360"/>
              <a:ext cx="537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M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06600" y="5432400"/>
              <a:ext cx="619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M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42800" y="3418560"/>
              <a:ext cx="198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2" name=""/>
          <p:cNvGraphicFramePr/>
          <p:nvPr/>
        </p:nvGraphicFramePr>
        <p:xfrm>
          <a:off x="228600" y="3524400"/>
          <a:ext cx="4419720" cy="819000"/>
        </p:xfrm>
        <a:graphic>
          <a:graphicData uri="http://schemas.openxmlformats.org/drawingml/2006/table">
            <a:tbl>
              <a:tblPr/>
              <a:tblGrid>
                <a:gridCol w="1371600"/>
                <a:gridCol w="990720"/>
                <a:gridCol w="1066680"/>
                <a:gridCol w="990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e/Merc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cado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cado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cado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e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e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4EE84-17BB-4677-9FA5-D8ADD4272E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6960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Problema de Transporte – Exemplo 3</a:t>
            </a:r>
            <a:br>
              <a:rPr sz="2700"/>
            </a:b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(Oferta &lt; Demanda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Fontes de oferta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 e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Capacidades de produção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 = 15 e B =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Mercados consumidores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1, M2 e M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Demanda dos mercados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1 = 25; M2 =10; M3 =15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Custos de Transport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800600" y="3124080"/>
            <a:ext cx="4038120" cy="2742840"/>
            <a:chOff x="4800600" y="3124080"/>
            <a:chExt cx="4038120" cy="2742840"/>
          </a:xfrm>
        </p:grpSpPr>
        <p:sp>
          <p:nvSpPr>
            <p:cNvPr id="196" name=""/>
            <p:cNvSpPr/>
            <p:nvPr/>
          </p:nvSpPr>
          <p:spPr>
            <a:xfrm>
              <a:off x="8342280" y="3207240"/>
              <a:ext cx="49608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[25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354520" y="4370760"/>
              <a:ext cx="48420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[10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354520" y="5368320"/>
              <a:ext cx="4842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[15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37920" y="3124080"/>
              <a:ext cx="567720" cy="588960"/>
            </a:xfrm>
            <a:prstGeom prst="ellipse">
              <a:avLst/>
            </a:prstGeom>
            <a:solidFill>
              <a:srgbClr val="c0c0c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834320" y="4249800"/>
              <a:ext cx="568440" cy="58860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834320" y="5278320"/>
              <a:ext cx="568440" cy="58860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02040" y="3222720"/>
              <a:ext cx="84996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[15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00600" y="4396680"/>
              <a:ext cx="66240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[25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5846400" y="3645000"/>
              <a:ext cx="1987920" cy="88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846400" y="3420000"/>
              <a:ext cx="2079000" cy="88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46400" y="4543920"/>
              <a:ext cx="198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46400" y="4543920"/>
              <a:ext cx="2022120" cy="87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46400" y="3420000"/>
              <a:ext cx="2268000" cy="18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25840" y="4249800"/>
              <a:ext cx="568440" cy="586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74360" y="3124080"/>
              <a:ext cx="568440" cy="586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69040" y="3279960"/>
              <a:ext cx="377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63000" y="4396680"/>
              <a:ext cx="283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89040" y="3279960"/>
              <a:ext cx="537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M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89040" y="4419360"/>
              <a:ext cx="537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M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49800" y="5432400"/>
              <a:ext cx="537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M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42800" y="3418560"/>
              <a:ext cx="198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7" name=""/>
          <p:cNvGraphicFramePr/>
          <p:nvPr/>
        </p:nvGraphicFramePr>
        <p:xfrm>
          <a:off x="228600" y="3524400"/>
          <a:ext cx="4419720" cy="819000"/>
        </p:xfrm>
        <a:graphic>
          <a:graphicData uri="http://schemas.openxmlformats.org/drawingml/2006/table">
            <a:tbl>
              <a:tblPr/>
              <a:tblGrid>
                <a:gridCol w="1371600"/>
                <a:gridCol w="990720"/>
                <a:gridCol w="1066680"/>
                <a:gridCol w="990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e/Merc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cado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cado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cado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e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e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08A7E-9CC6-4427-8169-8F9A740CB8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para o Problema de Transpor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Sejam os seguintes dados de entr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M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junto de Fontes, M = {1,2,...,m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N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junto de Mercados, N = {1,2,...,n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Oferta da Fonte i (unid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emanda do Mercado j (unid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usto unitário de transporte da fonte i para o mercado j (u.m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E a seguinte variável de decisã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Quantidade de itens transportados da fonte i para o mercado 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(unid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15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6D36F-2DD3-4254-B911-473B757E76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– Caso 1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Oferta = Deman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633680" y="1787400"/>
                <a:ext cx="6410160" cy="404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F25C6-BB32-4751-B1CD-AE0F153AF5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– Caso 2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Oferta &gt; Deman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461960" y="1555920"/>
                <a:ext cx="7439040" cy="469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194E1-0FDA-42EF-97A2-35AC8A13BD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2T04:06:18Z</dcterms:created>
  <dc:creator>carol</dc:creator>
  <dc:description/>
  <dc:language>en-US</dc:language>
  <cp:lastModifiedBy>Marcone Jamilson Freitas Souza</cp:lastModifiedBy>
  <dcterms:modified xsi:type="dcterms:W3CDTF">2006-02-04T01:12:35Z</dcterms:modified>
  <cp:revision>712</cp:revision>
  <dc:subject/>
  <dc:title>Slide 1</dc:title>
</cp:coreProperties>
</file>