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4.xml.rels" ContentType="application/vnd.openxmlformats-package.relationships+xml"/>
  <Override PartName="/ppt/notesSlides/_rels/notesSlide57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9EC4-914C-4DF5-9024-DB50639E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4C42-748C-42D0-A686-8C5241280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71AA-05AE-44D1-B134-358FB72F8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9A85-EFE1-4AFA-AE19-6E74BDA131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CE88-9198-4F35-93A2-6F1C7063F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038A-FB8B-4215-8987-5B5ED452B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9719-FD12-4465-9E77-A21BA9063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4B69-2419-4727-AB3B-9B03F794EF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698-F857-4BD9-A239-92B250E872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E00-75D9-41CD-9437-44108008E8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3C1C-D698-4B9A-8184-4EF90BBD6F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516-0158-4843-BDC1-5E91DDEAE1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C6C-E958-4A1D-B466-761CA55011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826-1922-4EBF-AB0C-8FF06552FD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CFC8-7DE3-42CA-A4E1-E7CFEE3CC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CDA-57A8-483D-A0D5-24D6063B7F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5DD-4A07-41D1-8E6B-FF65D7B834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9DD-0410-4C22-ACBE-5FF4E91B6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12E-B684-4B8F-BCB2-9B3AE712C6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2934-EB10-4D36-BAA6-3F222C01A8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DCFAC-9CA8-4FED-B12D-5F22E8631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90C0-C4B4-4727-B8DC-50E0BFE33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BC9E-CF09-4314-B8F1-CF1941FDD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BC79D-0377-4016-B1E0-CB2AA050A0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8B61-3A96-4634-ADE7-110085EB9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6F0C-A391-440F-A3A4-42DA2DABCE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B7C4-D00B-46C3-888D-AEF63CF0AB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E1A6-B8F4-410C-A7FB-3F74B0325329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8FC-1249-42D6-8F62-CAF44AC8B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 do Vizinho mais Pró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Bellmore &amp; Nemha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r da cidade origem e construir uma rota da seguinte for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próxima cidade a ser inserida na rota é aquela, ainda não visitada, mais próxima da última cidade visit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todas as cidades já foram inseridas na rota, então retornar à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772BA-7CCF-4154-B90E-F4C32949C4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27840" y="1143000"/>
          <a:ext cx="1163880" cy="167472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746840" y="144792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4" idx="7"/>
            <a:endCxn id="188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751E-B641-4DB9-A53C-98CC48451D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27840" y="1143000"/>
          <a:ext cx="1163880" cy="1400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7"/>
            <a:endCxn id="202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2" idx="6"/>
            <a:endCxn id="205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3FE-597D-49E6-AAEF-0A49DB4FC6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827840" y="1143000"/>
          <a:ext cx="1163880" cy="1125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4" idx="7"/>
            <a:endCxn id="218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18" idx="6"/>
            <a:endCxn id="221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21" idx="3"/>
            <a:endCxn id="219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0DBC8-14EB-4BD9-8725-4842F98544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827840" y="1143000"/>
          <a:ext cx="1163880" cy="851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42" idx="7"/>
            <a:endCxn id="236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36" idx="6"/>
            <a:endCxn id="239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39" idx="3"/>
            <a:endCxn id="237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37" idx="2"/>
            <a:endCxn id="241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CCF26-0CB4-4772-A12B-9F47459701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827840" y="1143000"/>
          <a:ext cx="1163880" cy="576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2" idx="7"/>
            <a:endCxn id="256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56" idx="6"/>
            <a:endCxn id="259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59" idx="3"/>
            <a:endCxn id="257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7" idx="2"/>
            <a:endCxn id="261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1" idx="7"/>
            <a:endCxn id="260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1367-F3ED-455A-BB88-F143D551CF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339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: “Inserção forçad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2" idx="7"/>
            <a:endCxn id="277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7" idx="6"/>
            <a:endCxn id="279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79" idx="3"/>
            <a:endCxn id="278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78" idx="2"/>
            <a:endCxn id="281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81" idx="7"/>
            <a:endCxn id="280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80" idx="2"/>
            <a:endCxn id="282" idx="6"/>
          </p:cNvCxnSpPr>
          <p:nvPr/>
        </p:nvCxnSpPr>
        <p:spPr>
          <a:xfrm flipH="1">
            <a:off x="1269720" y="379728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018880" y="424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318E0-741B-4BA1-B444-0FF987EE8B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a Inserção Mais Ba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tir de uma sub-rota inicial envolvendo 3 cidades quaisquer. Por ex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primeira cidade é a cidade orige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segunda cidade é a cidade mais próxima da cidade orige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terceira é a que estiver a uma menor distância entre a segunda cidade e a cidade orig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cada passo inserir uma cida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(dentre as ainda não visitadas) entre as cidade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 sub-rota, de sorte que o custo da inserção, dado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+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j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ja o menor dentre todas as possíveis inser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cerrar o método quando todas as cidades forem incluídas na ro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9E862-350C-4964-849F-3A0DB7E0F3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6944400" y="48006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6" idx="6"/>
            <a:endCxn id="304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4" idx="3"/>
            <a:endCxn id="305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5" idx="1"/>
            <a:endCxn id="306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93E4-2AC8-4173-BD8D-027E05EDE1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629400" y="1143000"/>
          <a:ext cx="235440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2 – 2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5 – 2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9 – 2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9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1 – 2 =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6527880" y="144792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 + 1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3" idx="6"/>
            <a:endCxn id="321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1" idx="3"/>
            <a:endCxn id="322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1"/>
            <a:endCxn id="323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3" idx="7"/>
            <a:endCxn id="317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17" idx="6"/>
            <a:endCxn id="321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666ED-2B11-4E0E-8E2D-16D807AFB6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ula 4 - Rote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066680"/>
            <a:ext cx="7010280" cy="56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odelagem de programação matemát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serção mais bar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blema de Roteamento de Veícul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Heurística Clarke e W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Heurísticas de refinam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étodo da Desc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Busca Tab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lgoritmos Genét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66E12-D0F6-44E2-9F94-6667C15A5C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629400" y="1143000"/>
          <a:ext cx="235440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1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5 – 2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9 – 2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2 + 4 = 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3" idx="3"/>
            <a:endCxn id="344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4" idx="1"/>
            <a:endCxn id="345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45" idx="7"/>
            <a:endCxn id="339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39" idx="6"/>
            <a:endCxn id="343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27880" y="200664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39" idx="5"/>
            <a:endCxn id="342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2" idx="1"/>
            <a:endCxn id="343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9E46-9D30-465A-ACB3-CC10759378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629400" y="1143000"/>
          <a:ext cx="235440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3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+ 9 – 5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 + 4 = 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7" idx="3"/>
            <a:endCxn id="368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8" idx="1"/>
            <a:endCxn id="369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69" idx="7"/>
            <a:endCxn id="363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27880" y="228600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63" idx="5"/>
            <a:endCxn id="366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66" idx="1"/>
            <a:endCxn id="367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67" idx="4"/>
            <a:endCxn id="364" idx="0"/>
          </p:cNvCxnSpPr>
          <p:nvPr/>
        </p:nvCxnSpPr>
        <p:spPr>
          <a:xfrm>
            <a:off x="3492000" y="40132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4" idx="2"/>
            <a:endCxn id="368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4426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1872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6FF0-AED8-4209-962B-103C145604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e Roteamento de Veículos (PR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235160" y="3751920"/>
            <a:ext cx="111744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Depós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1160" y="30607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09800" y="3181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13200" y="2787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05440" y="31748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11600" y="3473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00520" y="2863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95800" y="2984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97400" y="3289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03840" y="3225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9640" y="4038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9760" y="4324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09800" y="4705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76560" y="4330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17760" y="47750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3520" y="4997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35640" y="4451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45120" y="3854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0200" y="4724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48000" y="2482920"/>
            <a:ext cx="1241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onsumi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114360" y="267336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444840" y="2711520"/>
            <a:ext cx="114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647880" y="27115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0" y="2711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00120" y="3321000"/>
            <a:ext cx="76320" cy="7923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76440" y="3803760"/>
            <a:ext cx="558720" cy="355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5000" y="3244680"/>
            <a:ext cx="30492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184040" y="304164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00040" y="3016080"/>
            <a:ext cx="190800" cy="719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12560" y="3409920"/>
            <a:ext cx="190440" cy="324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505240" y="3092400"/>
            <a:ext cx="457200" cy="177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134160" y="3041640"/>
            <a:ext cx="214200" cy="88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488400" y="3217680"/>
            <a:ext cx="94680" cy="1616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716280" y="3395160"/>
            <a:ext cx="270000" cy="694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553920" y="3474720"/>
            <a:ext cx="449640" cy="4863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033720" y="3695040"/>
            <a:ext cx="383400" cy="273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354040" y="3678840"/>
            <a:ext cx="541080" cy="120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840" y="3562200"/>
            <a:ext cx="61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Ro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981000" y="4057560"/>
            <a:ext cx="609840" cy="381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19160" y="4489560"/>
            <a:ext cx="304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197000" y="4552920"/>
            <a:ext cx="190440" cy="27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22200" y="4870440"/>
            <a:ext cx="368640" cy="5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43120" y="4971960"/>
            <a:ext cx="304920" cy="152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12920" y="4933440"/>
            <a:ext cx="914400" cy="203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1819080" y="4057560"/>
            <a:ext cx="990360" cy="533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936520" y="4667040"/>
            <a:ext cx="190440" cy="17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18800" y="5156280"/>
            <a:ext cx="3848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rota começa e termina no depósit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vértice, com exceção do depósito, é visitado uma única vez, por somente um veícul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 demanda total de uma rota não deve superar a capacidade do veícul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2063-4E32-4C72-8341-8700B082D2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blema de Roteamento de Veícul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eurística do Vizinho mais Próx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truir uma rota para um veículo saindo do depósito da seguinte for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próximo cliente a ser visitado é aquele (dentre os ainda não visitados) mais próximo do último cliente inserido na rota cuja demanda possa ser atendi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não existem clientes que possam ser atendidos pelo veículo, retornar ao depó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errar o método quando todos os clientes forem atend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5CCA-AB8C-4701-899F-8109FF5D58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7062840" y="1143000"/>
          <a:ext cx="192888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49560" y="27939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6196F-BF4F-4127-A4BC-1175258228D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062840" y="1143000"/>
          <a:ext cx="1928880" cy="1400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68" name=""/>
          <p:cNvSpPr/>
          <p:nvPr/>
        </p:nvSpPr>
        <p:spPr>
          <a:xfrm>
            <a:off x="6997680" y="200664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49560" y="25272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4B77-7087-46DF-AD9E-A7458C10BD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7062840" y="1143000"/>
          <a:ext cx="1928880" cy="1125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49560" y="22478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E8AB-9D2B-44A1-B81E-113AF9BDF5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277D-55BF-420F-ABDE-09EC148BE1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8CFF-1759-4D66-95CE-AEDEE9055F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7062840" y="1143000"/>
          <a:ext cx="1928880" cy="576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49560" y="170172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4D2A6-33EE-42CA-ABF6-F0946B8C72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ste em encontrar uma rota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ta de uma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sse por todas as demais cidades uma única v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torne à cidade origem ao final do percu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rcorra a menor distância poss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a conhecida como ciclo hamiltoni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A578C-BB9F-413B-ADE7-3B8C8F967D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 flipH="1" rot="20720400">
            <a:off x="399060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1320" y="4983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9184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CFFC-1AFC-42EA-B501-C5581D7017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Roteamento de Veícul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 de Clarke and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ir uma rota para cada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de que possível, unir duas rotas, envolvendo os clientes extre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que produzirem a maior economia segundo a expressã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o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+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j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–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n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é o depósito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ão clientes que estão nas extremidades das ro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errar o método quando não existirem rotas que possam ser u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1B05-A99F-4A7E-8990-5EB6991ADD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Roteamento de Veícul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 de Clarke and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2209680"/>
            <a:ext cx="838440" cy="990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57800" y="2209680"/>
            <a:ext cx="838080" cy="990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4114800"/>
            <a:ext cx="838080" cy="990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00120" y="2510640"/>
            <a:ext cx="1981080" cy="32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71" y="28"/>
                </a:moveTo>
                <a:arcTo wR="10800" hR="10800" stAng="-5154265" swAng="5235741"/>
                <a:lnTo>
                  <a:pt x="10800" y="10800"/>
                </a:lnTo>
                <a:close/>
              </a:path>
              <a:path fill="none" w="21600" h="21600">
                <a:moveTo>
                  <a:pt x="11571" y="28"/>
                </a:moveTo>
                <a:arcTo wR="10800" hR="10800" stAng="-5154265" swAng="5235741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2672280" y="1561680"/>
            <a:ext cx="2590200" cy="285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66" y="6"/>
                </a:moveTo>
                <a:arcTo wR="10800" hR="10800" stAng="-5283463" swAng="5768349"/>
                <a:lnTo>
                  <a:pt x="10800" y="10800"/>
                </a:lnTo>
                <a:close/>
              </a:path>
              <a:path fill="none" w="21600" h="21600">
                <a:moveTo>
                  <a:pt x="11166" y="6"/>
                </a:moveTo>
                <a:arcTo wR="10800" hR="10800" stAng="-5283463" swAng="576834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419000" y="2743200"/>
            <a:ext cx="16758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356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3565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0489200">
            <a:off x="3142440" y="1663560"/>
            <a:ext cx="2741040" cy="27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89" y="7"/>
                </a:moveTo>
                <a:arcTo wR="10800" hR="10800" stAng="-5276200" swAng="4767988"/>
                <a:lnTo>
                  <a:pt x="10800" y="10800"/>
                </a:lnTo>
                <a:close/>
              </a:path>
              <a:path fill="none" w="21600" h="21600">
                <a:moveTo>
                  <a:pt x="11189" y="7"/>
                </a:moveTo>
                <a:arcTo wR="10800" hR="10800" stAng="-5276200" swAng="476798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2514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62720" y="25909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91120" y="44640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2666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i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58460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62720" y="369576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j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57680" y="36576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"/>
          <p:cNvCxnSpPr>
            <a:stCxn id="593" idx="7"/>
            <a:endCxn id="594" idx="1"/>
          </p:cNvCxnSpPr>
          <p:nvPr/>
        </p:nvCxnSpPr>
        <p:spPr>
          <a:xfrm>
            <a:off x="3382920" y="2354040"/>
            <a:ext cx="1998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4038480" y="20257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53341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conomia 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j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D5932-3234-4C61-AF6D-2E12CA6B81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 flipH="1" rot="18619800">
            <a:off x="236880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rot="7528800">
            <a:off x="39636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 rot="3205200">
            <a:off x="110700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rot="3568800">
            <a:off x="-22032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rot="14412600">
            <a:off x="1257840" y="242388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rot="8874600">
            <a:off x="367560" y="1872720"/>
            <a:ext cx="135684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297180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19" name=""/>
          <p:cNvSpPr/>
          <p:nvPr/>
        </p:nvSpPr>
        <p:spPr>
          <a:xfrm>
            <a:off x="3747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06640" y="5664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828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rot="19435800">
            <a:off x="2000160" y="32630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28640" y="3270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rot="20720400">
            <a:off x="137448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23840" y="5661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6160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42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299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299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5444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75356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3452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363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67160" y="40384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5090400" y="4038480"/>
            <a:ext cx="388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(6 + 6) + (7 + 7) + (8 + 8) + (9 + 9) + (10 + 10) = 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17000" y="45212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956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2CCA-B3F0-4975-B6CF-6410B57B32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53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5029200" y="1143000"/>
          <a:ext cx="3962520" cy="30481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56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52880" y="365760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80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6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35160" y="41655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CF19-FAAF-4C5A-AB2D-292F6031C9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5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5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5029200" y="1143000"/>
          <a:ext cx="396252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3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635160" y="38988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52880" y="200664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285D-D133-4463-9AC5-1D00C66017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08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5029200" y="1143000"/>
          <a:ext cx="396252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9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35160" y="36194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952880" y="255276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87D9-74B2-4C8F-AD8D-9BF4A38052A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3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2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62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1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5029200" y="1143000"/>
          <a:ext cx="3962520" cy="1373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4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3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35160" y="25146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B0DA-C6D4-433C-B455-6AA14B4D0AA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 de refi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as na noção de vizinhanç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cada soluçã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tá associado um conjunto de vizinho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definidos por um determinado tipo de moviment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=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PCV, um moviment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ode ser a troca da ordem de visita entre duas c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19BB-1BA7-4B6F-B3F0-77959CC01AF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 de refi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PCV, um moviment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ode ser a troca da ordem de visita entre duas c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  = (6 1 3 2 5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’ = (6 1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2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’ = (6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3 2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B7C0-46FF-4185-9CE6-D5E6FE1FDD0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dos de entra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c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triz de distância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ntre e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riáveis de decis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1 se o arco (i,j) será usado; 0, caso contr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quantidade de fluxo de i para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06D0C-FFBA-442A-8140-0FFCD1B026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Vizinhos de uma soluç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13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243200" y="4800600"/>
            <a:ext cx="40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"/>
          <p:cNvCxnSpPr>
            <a:stCxn id="777" idx="3"/>
            <a:endCxn id="778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8" idx="1"/>
            <a:endCxn id="779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"/>
          <p:cNvCxnSpPr>
            <a:stCxn id="779" idx="7"/>
            <a:endCxn id="774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"/>
          <p:cNvCxnSpPr>
            <a:stCxn id="774" idx="5"/>
            <a:endCxn id="776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76" idx="1"/>
            <a:endCxn id="777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77" idx="4"/>
            <a:endCxn id="775" idx="0"/>
          </p:cNvCxnSpPr>
          <p:nvPr/>
        </p:nvCxnSpPr>
        <p:spPr>
          <a:xfrm>
            <a:off x="3492000" y="40132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5" idx="2"/>
            <a:endCxn id="778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34426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71872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57800" y="525780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= (6 1 3 2 5 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B1772-8840-4552-A1D5-BFAB76AD274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Vizinhos de uma soluç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13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7243200" y="4800600"/>
            <a:ext cx="40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>
            <a:stCxn id="803" idx="1"/>
            <a:endCxn id="804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"/>
          <p:cNvCxnSpPr>
            <a:stCxn id="801" idx="1"/>
            <a:endCxn id="802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1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/>
          <p:nvPr/>
        </p:nvCxnSpPr>
        <p:spPr>
          <a:xfrm flipH="1">
            <a:off x="2310840" y="38095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"/>
          <p:cNvSpPr/>
          <p:nvPr/>
        </p:nvSpPr>
        <p:spPr>
          <a:xfrm>
            <a:off x="271872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257800" y="525780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= (6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3 2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286000" y="472392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235240" y="3975120"/>
            <a:ext cx="10666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39976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1295280" y="4648320"/>
            <a:ext cx="1981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98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671280" y="4665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6B16-D1C5-460D-84E8-2D552870C7C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Vizinhos de uma soluç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11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pt-BR" sz="1100" spc="-1" strike="noStrike">
                <a:solidFill>
                  <a:srgbClr val="000000"/>
                </a:solidFill>
                <a:latin typeface="Tahoma"/>
              </a:rPr>
              <a:t>’= 26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30" name=""/>
          <p:cNvCxnSpPr>
            <a:stCxn id="825" idx="3"/>
            <a:endCxn id="826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31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7" idx="7"/>
            <a:endCxn id="822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"/>
          <p:cNvCxnSpPr>
            <a:stCxn id="824" idx="1"/>
            <a:endCxn id="825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35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257800" y="525780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= (6 1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7" name=""/>
          <p:cNvCxnSpPr/>
          <p:nvPr/>
        </p:nvCxnSpPr>
        <p:spPr>
          <a:xfrm>
            <a:off x="2082600" y="40258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8" name=""/>
          <p:cNvSpPr/>
          <p:nvPr/>
        </p:nvSpPr>
        <p:spPr>
          <a:xfrm flipH="1">
            <a:off x="3669840" y="4775040"/>
            <a:ext cx="6858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295280" y="4648320"/>
            <a:ext cx="1981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56960" y="502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771360" y="49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5848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B795-2700-426A-9056-865964DE1A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 de refinamento cláss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alisam todos os possíveis vizinho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da solução corrent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melhor vizinh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for melhor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em problemas de minimização: f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’) &lt; f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) ent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’ passa a ser a nova solução corr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so contrário, o método pá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da Descida/Subida (Descent/UpHill Meth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A926-B4C3-43EE-B82C-2EE51535CC0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197080" y="2895120"/>
            <a:ext cx="5118120" cy="3033720"/>
            <a:chOff x="2197080" y="2895120"/>
            <a:chExt cx="5118120" cy="3033720"/>
          </a:xfrm>
        </p:grpSpPr>
        <p:sp>
          <p:nvSpPr>
            <p:cNvPr id="847" name=""/>
            <p:cNvSpPr/>
            <p:nvPr/>
          </p:nvSpPr>
          <p:spPr>
            <a:xfrm flipV="1">
              <a:off x="2609640" y="2895120"/>
              <a:ext cx="0" cy="30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40120" y="3457080"/>
              <a:ext cx="3830760" cy="186372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97080" y="559224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9CFC9-F5C2-44A0-9801-E3EDA581C16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52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05000" y="40978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D042-016A-489A-8BE3-69EF5AD28DF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58" name=""/>
            <p:cNvSpPr/>
            <p:nvPr/>
          </p:nvSpPr>
          <p:spPr>
            <a:xfrm>
              <a:off x="2857320" y="382536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05000" y="40978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05440" y="4387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6B4B-EF27-41B7-8DF2-CF32EDC30A8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66" name=""/>
            <p:cNvSpPr/>
            <p:nvPr/>
          </p:nvSpPr>
          <p:spPr>
            <a:xfrm>
              <a:off x="3435120" y="446184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40120" y="3470400"/>
              <a:ext cx="3830760" cy="186444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1295280" y="60199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66680" y="6095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blema: Fica-se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pres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no primeiro ótim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330B-885B-4B0B-826B-05C82F5C86E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aheurís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 genéricas dotadas de mecanismos que possibilitam escapar de ótimos lo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incípio bási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eitar soluções de pi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s de metaheuríst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oritmos Gené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D49A-0184-4318-B13A-6D2421CEE3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77" name=""/>
            <p:cNvSpPr/>
            <p:nvPr/>
          </p:nvSpPr>
          <p:spPr>
            <a:xfrm>
              <a:off x="2857320" y="382536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05000" y="40978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05440" y="4387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1295280" y="1447920"/>
            <a:ext cx="67820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Princípio básico: Mover para o melhor vizinh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5F0B-47B6-48F0-9376-F3569238916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38280" y="2209680"/>
                <a:ext cx="320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952880"/>
                <a:ext cx="4737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sub/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471760" y="5762520"/>
                <a:ext cx="1566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90920" y="1219320"/>
                <a:ext cx="1627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14600" y="3121200"/>
                <a:ext cx="320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14600" y="3959280"/>
                <a:ext cx="3714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392720" y="5783400"/>
                <a:ext cx="10760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15000" y="23623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0384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9528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57508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De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sai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8040" y="3489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chega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962520"/>
            <a:ext cx="2895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 exceto a origem, a quantidade de fluxo que chega à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menos a quantidade de fluxo que sai 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igual a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5029200"/>
            <a:ext cx="182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O máximo de fluxo no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 é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B53D-0E7F-459F-9972-F3D605E158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86" name=""/>
            <p:cNvSpPr/>
            <p:nvPr/>
          </p:nvSpPr>
          <p:spPr>
            <a:xfrm>
              <a:off x="3435120" y="446184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12920" y="4568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1447920"/>
            <a:ext cx="6782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O melhor vizinho pode ser de piora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A0D4-EC2C-41D4-B928-05FF2A89220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95" name=""/>
            <p:cNvSpPr/>
            <p:nvPr/>
          </p:nvSpPr>
          <p:spPr>
            <a:xfrm>
              <a:off x="3765240" y="435852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12920" y="4568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295280" y="1447920"/>
            <a:ext cx="6782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Problema: ciclag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A4D51-C23A-4CC1-A4D7-6096904F1C5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904" name=""/>
            <p:cNvSpPr/>
            <p:nvPr/>
          </p:nvSpPr>
          <p:spPr>
            <a:xfrm>
              <a:off x="3765240" y="4358160"/>
              <a:ext cx="660240" cy="67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12920" y="4568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87440" y="4951440"/>
              <a:ext cx="743040" cy="224640"/>
            </a:xfrm>
            <a:custGeom>
              <a:avLst/>
              <a:gdLst>
                <a:gd name="textAreaLeft" fmla="*/ 129960 w 743040"/>
                <a:gd name="textAreaRight" fmla="*/ 538920 w 743040"/>
                <a:gd name="textAreaTop" fmla="*/ 29880 h 224640"/>
                <a:gd name="textAreaBottom" fmla="*/ 19476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92440" y="4724640"/>
              <a:ext cx="74268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0000"/>
                  </a:solidFill>
                  <a:latin typeface="Times New Roman"/>
                </a:rPr>
                <a:t>TAB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295280" y="1447920"/>
            <a:ext cx="67820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Para evitar ciclagem: Criar uma Lista Tabu (lista de soluções proibidas) e mover para o melhor vizinho que não esteja na Lista Ta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5244-13E5-4FBB-ACCF-EB26247C367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915" name=""/>
            <p:cNvSpPr/>
            <p:nvPr/>
          </p:nvSpPr>
          <p:spPr>
            <a:xfrm>
              <a:off x="3765240" y="435780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40120" y="346968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7080" y="560556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00440" y="47635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12920" y="45676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65560" y="42742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3400" y="3937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73520" y="3712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04080" y="3902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3760" y="42742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6640" y="4720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76800" y="5251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3453A-1D3D-4405-BC29-9E9CDEB55233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Algoritmo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808080"/>
                </a:solidFill>
                <a:latin typeface="Arial"/>
              </a:rPr>
              <a:t>Os AGs fundamentam-se em uma analogia com processos naturais de evolução, nos quais, dada uma população, os indivíduos com características genéticas melhore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têm maiores chances de sobrevivênci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808080"/>
                </a:solidFill>
                <a:latin typeface="Arial"/>
              </a:rPr>
              <a:t>e de produzirem filhos cada vez mais aptos, enquanto indivíduos menos apt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tendem a desaparec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808080"/>
                </a:solidFill>
                <a:latin typeface="Arial"/>
              </a:rPr>
              <a:t>As características dos indivíduos, registradas em seus genes, são transmitidas para seus descendentes e tendem a propagar-se por novas geraçõ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707F-444E-4F36-A6BC-A98B0E18DEF2}" type="slidenum">
              <a:t>54</a:t>
            </a:fld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Algoritmo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Características dos descendentes são parcialmente herdadas de seus pais (</a:t>
            </a:r>
            <a:r>
              <a:rPr b="0" i="1" lang="pt-BR" sz="3600" spc="-1" strike="noStrike">
                <a:solidFill>
                  <a:srgbClr val="ff0000"/>
                </a:solidFill>
                <a:latin typeface="Arial"/>
              </a:rPr>
              <a:t>Crossover</a:t>
            </a: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) e parcialmente de novos genes criados durante o processo de reprodução (</a:t>
            </a:r>
            <a:r>
              <a:rPr b="0" i="1" lang="pt-BR" sz="3600" spc="-1" strike="noStrike">
                <a:solidFill>
                  <a:srgbClr val="ff0000"/>
                </a:solidFill>
                <a:latin typeface="Arial"/>
              </a:rPr>
              <a:t>Mutação</a:t>
            </a: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5B6E-9721-48CE-92AD-7AE77C9A7820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e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91440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4792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98108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1460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373392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895480" y="579132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10552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3868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7220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0572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495680" y="37339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029200" y="37339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23888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04812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429000" y="5791320"/>
            <a:ext cx="457200" cy="152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95480" y="373392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962520" y="37339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029200" y="57913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495680" y="57913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62520" y="57913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2057400"/>
            <a:ext cx="381240" cy="1371600"/>
          </a:xfrm>
          <a:prstGeom prst="down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191120"/>
            <a:ext cx="381240" cy="1371600"/>
          </a:xfrm>
          <a:prstGeom prst="down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267080" y="2362320"/>
            <a:ext cx="2057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4572000"/>
            <a:ext cx="1523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7423-7A29-4178-B44E-09BA5E92EF90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Algoritmo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O objetivo de um AG é o de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tentar melhorar as qualidades genéticas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de uma população através de um processo de renovação iterativa das populaçõ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E0C6-F057-49AB-9C0B-5BCE6DCD360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lação entre AG e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Otimiz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457200" y="1371600"/>
          <a:ext cx="8534520" cy="4632480"/>
        </p:xfrm>
        <a:graphic>
          <a:graphicData uri="http://schemas.openxmlformats.org/drawingml/2006/table">
            <a:tbl>
              <a:tblPr/>
              <a:tblGrid>
                <a:gridCol w="3463920"/>
                <a:gridCol w="507060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 de Otimiz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ivíd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ção de um probl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pul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soluçõ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omoss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resentação de uma solu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e da representação de uma solu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ossover / Mut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dores de bus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6329-94B5-4785-9F0E-77D1604B7DF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rutura de um AG bá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533520" y="1371600"/>
            <a:ext cx="167616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1371600"/>
            <a:ext cx="167616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162920" y="1371600"/>
            <a:ext cx="167616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76920" y="1066680"/>
            <a:ext cx="1904760" cy="1143000"/>
          </a:xfrm>
          <a:prstGeom prst="diamond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52880" y="266688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952880" y="342900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52880" y="419112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952880" y="495288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952880" y="571500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09680" y="1600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95680" y="16257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16520" y="220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769080" y="1625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2743200"/>
            <a:ext cx="152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elecione os pa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29200" y="3506760"/>
            <a:ext cx="152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029200" y="4267080"/>
            <a:ext cx="152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527220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952880" y="5715000"/>
            <a:ext cx="16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Defina a população sobreviv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895480" y="1339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Avalie a popul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05520" y="1293840"/>
            <a:ext cx="1523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ritérios de parada satisfeit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238880" y="137160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iste os melhores indivídu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133344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Gere uma população in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492768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Avalie a popul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800600" y="2565360"/>
            <a:ext cx="1981080" cy="3733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140360" y="6248520"/>
            <a:ext cx="32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bc102d"/>
                </a:solidFill>
                <a:latin typeface="Arial"/>
              </a:rPr>
              <a:t>Geração de uma nova popul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715000" y="220968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29400" y="13716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81652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8165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81652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BE896-E466-416F-A37F-BB36277E6C7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lex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derando PCV simétrico (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ji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, para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cidades há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1)!/2 rotas possí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n = 20 cidades, há 1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otas possíveis. Um computador que avalia uma rota em 1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ahoma"/>
              </a:rPr>
              <a:t>-8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segundos gastaria cerca de 19 anos para encontrar a melhor solução por enumeração compl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de enumeração implícita, tais com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ranch-and-bound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embutidos e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olver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pode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eduzir significativamente este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garantia de que isso sempre ocor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4B97-B186-42C8-B44F-AEBA334FF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valiação de cromosso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ita pela função de aptidão (fitn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um problema de maximização pode ser a própria função obje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um problema de minimização pode ser o inverso da função obje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53F1-49CA-48B5-AB5F-B8711B9F634C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sele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inary tournament selectio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lecionar dois indivíduos aleatori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primeiro pai é o indivíduo com maior aptid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lecionar, aleatoriamente, outros dois p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segundo pai é o indivíduo com maior aptidão nessa nova seleçã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eató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leta rus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CA07-B722-45D8-844A-77413C0C74E7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rep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ois ou mais cromossomos passam por um processo de mutação e/ou recombinação para gerar novos cromossomos filhos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offspring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mutação clás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 = ( 0 1 </a:t>
            </a: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1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pt-BR" sz="32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 = ( 0 1 </a:t>
            </a: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1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BD91-46CF-4864-BEAB-5D46D8113DD1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rep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perador crossover clássico (one point crossov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cendentes são formados a partir da reunião de segmentos de cada p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</a:t>
            </a:r>
            <a:r>
              <a:rPr b="0" lang="pt-BR" sz="2800" spc="-1" strike="noStrike">
                <a:solidFill>
                  <a:srgbClr val="808080"/>
                </a:solidFill>
                <a:latin typeface="Tahoma"/>
              </a:rPr>
              <a:t>0 1 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66ff33"/>
                </a:solidFill>
                <a:latin typeface="Tahoma"/>
              </a:rPr>
              <a:t>1 0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1 0 1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996633"/>
                </a:solidFill>
                <a:latin typeface="Tahoma"/>
              </a:rPr>
              <a:t>0 1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pt-BR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</a:t>
            </a:r>
            <a:r>
              <a:rPr b="0" lang="pt-BR" sz="2800" spc="-1" strike="noStrike">
                <a:solidFill>
                  <a:srgbClr val="808080"/>
                </a:solidFill>
                <a:latin typeface="Tahoma"/>
              </a:rPr>
              <a:t>0 1 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996633"/>
                </a:solidFill>
                <a:latin typeface="Tahoma"/>
              </a:rPr>
              <a:t>0 1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1 0 1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66ff33"/>
                </a:solidFill>
                <a:latin typeface="Tahoma"/>
              </a:rPr>
              <a:t>1 0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BC98F-B2AB-419D-AFC9-03DA0C6D3FE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crossover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perador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rossov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e dois pontos de c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zamento entre os pais geram dois fil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ilhos herdam a ordem de visita dos p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7E31-B39C-49A7-ADC6-EBBA836BDE7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BF4B-A9FB-4862-8014-1C3DB3F45365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8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C0E7A-7192-45D9-AD9B-A687CBB3217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8 9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F1D98-0315-4498-B8DC-9EF4D4E0872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5113-DA63-42BC-A48C-A0BF59732C2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7 x x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60958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01598-E3C9-49FD-A95B-6B6CBCD0D13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lex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dimensões mais elevadas (&gt; 50 cidades), a resolução por modelos de programação matemática é proibitiva em termos de tempos comput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CV é da classe NP-difícil: não existem algoritmos exatos que o resolvam em tempo polinom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À medida qu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cresce, o tempo cresce exponenci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CV é resolvido por meio de heu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dimentos que seguem uma intuição para resolver o problema (forma humana de resolver o problema, fenômenos naturais, processos biológico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ão garantem a otimalidade da solução f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m geral, produzem soluções finais de boa qualidade rapida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7AED-3703-47AA-AC95-A77BD9EC58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7 6 x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60958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70866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4CFD-966C-47DB-8630-44FA5C22BB9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7 6 5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0958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70866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77724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54D2-4DD2-475C-B7AB-28BBAB82E3B0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brevivência / morte de cromoss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selecionamos os cromossomos que devem sobreviv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brevivem os que possuem os melhores níveis de aptidã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importante permitir também a sobrevida de cromossomos menos aptos, do contrário o método ficaria preso em ótimos lo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AB808-93C1-45CA-B29B-9D44AFCFE1AC}" type="slidenum">
              <a:t>72</a:t>
            </a:fld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ção de cromossomos sobreviv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988920" y="1631880"/>
          <a:ext cx="769788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631880"/>
                    <a:ext cx="769788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85DF3-74E0-4A53-90E5-9CE63A56317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leta russa: </a:t>
            </a:r>
            <a:br>
              <a:rPr sz="3200"/>
            </a:br>
            <a:r>
              <a:rPr b="0" lang="pt-BR" sz="1700" spc="-1" strike="noStrike">
                <a:solidFill>
                  <a:srgbClr val="000000"/>
                </a:solidFill>
                <a:latin typeface="Tahoma"/>
              </a:rPr>
              <a:t>mecanismo para selecionar os cromossomos sobrevivent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6" name=""/>
          <p:cNvGraphicFramePr/>
          <p:nvPr/>
        </p:nvGraphicFramePr>
        <p:xfrm>
          <a:off x="988920" y="1631880"/>
          <a:ext cx="769788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631880"/>
                    <a:ext cx="769788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"/>
          <p:cNvSpPr/>
          <p:nvPr/>
        </p:nvSpPr>
        <p:spPr>
          <a:xfrm>
            <a:off x="4952880" y="3352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191120" y="2286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505320" y="28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16697-3B82-4CE3-8DB1-6D2C2B19B4C3}" type="slidenum">
              <a:t>74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tru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oem uma solução passo a passo, elemento por ele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refi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stem em efetuar modificações na solução construída, de forma a tentar melhorá-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87D6-656F-4CBC-81F4-7D93EA9F79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 construtivas para o Problema do Caixeiro Viaj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izinho mais pró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déia central: Construir uma rota passo a passo, adicionando à solução corrente a cidade mais próxima (ainda não visitada) da última cidade inser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serção mais bar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déia central: Construir uma rota passo a passo, partindo de rota inicial envolvendo 3 cidades e adicionar a cada passo, a cida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(ainda não visitada) entre a ligação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,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) de cidades já visitadas, cujo custo de inserção seja o mais bar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0446D-0E3F-4E8A-9B22-F7B12F616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Luciano</cp:lastModifiedBy>
  <dcterms:modified xsi:type="dcterms:W3CDTF">2006-03-02T10:37:09Z</dcterms:modified>
  <cp:revision>861</cp:revision>
  <dc:subject/>
  <dc:title>Slide 1</dc:title>
</cp:coreProperties>
</file>