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49A-38F7-4A80-ADFE-2FE2E9A7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D2E-377C-4C2C-84DA-E00FAF52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B1E-6475-4EC0-A710-63FAA084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DA9-06FD-4093-BA02-FA654A50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0B6-1C57-4A04-AB8C-AA9A6D1F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B35-39D0-4C43-B822-77F2208C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9B9C-F1EE-4DA5-8515-A0B3B74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8CC2-FAF4-4D6E-B54B-B75F0E2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4CAC-78FC-4701-B1D6-976CD45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B3A-904B-4916-94AB-9532F0E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6BC-93A7-4044-800B-623E4B0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6CA-B226-463C-B92F-AF8D417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A2BC-270F-4E58-A6E3-A9050C22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0812-3E9C-4093-94D1-001AD18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21E-B8EF-4FB8-B3F7-62AB61A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77D-42B7-4508-9CCA-D7FFCB6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686-1228-42A9-AF95-79379AD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CEA-2EB2-4B9E-9A27-6A788ED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4AA-D5DF-4C31-AD88-B303AB3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1F9-79E1-4BAA-B71B-26F378A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5A4-02DA-4D2B-BAD6-AF5208BC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44E-91CF-4E26-BE30-22BC2D7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03D-7A49-4AE7-A547-871D14F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3D9-89B5-466B-B405-8BA7E7F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C4C-3C6E-408F-96D1-6507BDC0E6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E7CF-5892-43C6-B4A8-DFE5F6A6FF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mulação a Eventos Discret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m estados de atividade d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atividade pode ter a participação de uma ou mais entidad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uração de cada atividade pode ser constante ou seguir uma distribuição de probabilidades predefin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a execução de uma atividade, as entidades nela envolvidas ficam indisponíveis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m estados passivos de entidades que aguardam o atendimento das condições de início de uma atividade, para dela participar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tempo de permanência numa fila não é predeterminado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ância entre filas e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ém dos três elementos básicos no DCA também pode ser mencionado o elemento fonte/sumidour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mpresa de mineração opera 7 escavadeiras. As escavadeiras trabalham em operação contínua, interrompendo seu funcionamento apenas para manutenção corretiva. O tempo entre falhas é descrito por uma distribuição exponencial negativa com média 7 dias. A manutenção é feita por uma única equipe e sua duração é também é exponencialmente distribuída com média de 1 dia. Deseja-se simular este problema para avaliar o tempo que as escavadeiras ficam paradas por falta de manute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má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agrama de Ciclo de 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ga a técnica do próximo evento para controlar o comportamento do mode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lha com modelo que envolvem filas (óbvias ou n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individuais do sistema cujo comportamento se deseja anali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dades perman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dades temporá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es: Grupos permanentes de entidades idênticas ou similar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juntos: Grupos temporários de entidades idênticas ou similares. São usados para representar, por exemplo, um grupo de entidades em fil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: São itens que informam determinadas características de uma entidade. Servem para 2 propósitos: Distinguir membros de uma mesma classe de entidades e controlar o comportamento das entida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os: É o instante do tempo no qual alguma troca significativa de estado ocorre no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: São as operações e procedimentos que são iniciados em cada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: Às vezes, é usual agrupar uma seqüência de eventos na ordem cronológica que eles acontecem. Tal seqüência é conhecida como processo, e é utilizada para representar parte ou toda a “vida” de uma entidade dentro do sistem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ógio da Simulação: Representa o instante corrente da simul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: Um recurso consiste em itens idênticos e o programa mantém um controle sobre quantos itens estão disponíveis a cada momento. O recurso é o que a entidade necessita para realizar alguma ativ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agrama de Ciclo de Ativ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ção gráfica do sistema a ser modelado e constitui-se de um conjunto de elementos interlig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ão  três elementos bás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fil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em-se no elemento primário do modelo e representam as classes de entidades físicas do siste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m entidades permanentes e temporár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1:10Z</dcterms:created>
  <dc:creator>Computer</dc:creator>
  <dc:description/>
  <dc:language>en-US</dc:language>
  <cp:lastModifiedBy>Computer</cp:lastModifiedBy>
  <dcterms:modified xsi:type="dcterms:W3CDTF">2006-02-11T14:00:04Z</dcterms:modified>
  <cp:revision>14</cp:revision>
  <dc:subject/>
  <dc:title>Simulação a Eventos Discretos</dc:title>
</cp:coreProperties>
</file>