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FCE-96A1-4D7C-86EC-1846952C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0CA-4108-4146-A3AC-649F8326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FE0-0BF5-427B-AA36-87EC9777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F08-748E-4275-AA37-99B54113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FCCA-87FB-4EBB-BA84-5ADFA0E7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AA43-C61D-4886-A346-F83C117C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97CC-423D-428F-B74A-BC6DA76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46E0-9C60-4398-8F7E-23278194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4886-FEC6-41D8-BCC8-6E8C3522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85B2-6647-452B-A6D7-52243E11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E2EC-76A6-4422-8576-CE594F80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8FC-E87F-4151-8EFC-2893D858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850D-215E-4433-85A0-26A6D116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9629-AB2E-4B9C-9ACB-B80E0BFC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4B10-961E-44E8-81E4-FF9BD282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66D2-7DEC-4609-9B7A-94D5401F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D7CA-FCDD-4075-8F6B-A1A50C0A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9A6-7456-4B04-8E5B-283E5840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054-F147-4EDA-A96B-C90CEC25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428-E76C-48C3-99B9-7FC63D7E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EBC-522F-44B2-BC8F-A2F2A293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695-AC0F-446E-8F6F-EE2B84C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1E2-A672-441F-B333-4B42825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950-B376-46D3-A7DE-0E7D2BFF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9004-BF54-464B-A676-0BBA293F10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8D67-D03B-4F44-981E-3C1384D2B8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24444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TELIGÊNCIA COMPUTACIONAL PARA OTIMIZAÇÃ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TEAMENTO DE VEÍCULOS COM FROTA HETEROGÊN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828800" y="1066680"/>
          <a:ext cx="5372280" cy="465300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  <a:gridCol w="1791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S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ÇÃO OBJETIV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MPO(min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2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0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0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0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523880" y="5867280"/>
            <a:ext cx="5943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édia: 62              Desvio: 3,33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2742840"/>
            <a:ext cx="60958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drigo Oliveira Furt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ago Araújo Ne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  PROBL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P-difíci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ção como graf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écnica utilizad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agem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038480" y="3581280"/>
            <a:ext cx="83844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676520"/>
            <a:ext cx="11430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914400"/>
            <a:ext cx="129564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3124080"/>
            <a:ext cx="1219320" cy="6098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724280"/>
            <a:ext cx="121896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029200"/>
            <a:ext cx="129564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029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24280" y="1828800"/>
            <a:ext cx="4572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76920" y="3504960"/>
            <a:ext cx="16761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4038480"/>
            <a:ext cx="91440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3962520"/>
            <a:ext cx="1218960" cy="99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514240" y="2286000"/>
            <a:ext cx="16765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666880" y="1447920"/>
            <a:ext cx="205740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362320"/>
            <a:ext cx="228600" cy="2361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133720"/>
            <a:ext cx="4038480" cy="1143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2362320"/>
            <a:ext cx="3353040" cy="3429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676520"/>
            <a:ext cx="1143000" cy="1447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752480"/>
            <a:ext cx="30456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90560" y="1676520"/>
            <a:ext cx="2361960" cy="3047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400440" y="3733920"/>
            <a:ext cx="60948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95480" y="3657600"/>
            <a:ext cx="381024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19520" y="5257800"/>
            <a:ext cx="2666880" cy="76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838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8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AG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ícul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çã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Demand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iente 1 =&gt; 12          Cliente 2 =&gt; 15            Cliente 3 =&gt; 7             Cliente 4 =&gt;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iente 5 =&gt;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Possível  Soluç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[-20,1,3,-10,4,-20,2,5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Solução Inviáve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[-10,4,1,-20,5,-20,2,3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ORIT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133720"/>
            <a:ext cx="69706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itur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a de veícul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lução inicia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imulated Annealing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I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riz de distância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dos clien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acidade dos veícul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idade de cada veículo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OLHA DOS VE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ferência para os de maior capacidad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em todos os veículos de mesma capacidade precisam ser utilizad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ÇÃO 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 se as demandas não superam as capacidades dos veículos nas respectivas rota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alidad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a das distância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23:24:01Z</dcterms:created>
  <dc:creator>deangelo.carvalho</dc:creator>
  <dc:description/>
  <dc:language>en-US</dc:language>
  <cp:lastModifiedBy>Rodrigo Oliveira Furtado</cp:lastModifiedBy>
  <dcterms:modified xsi:type="dcterms:W3CDTF">2003-02-14T03:55:02Z</dcterms:modified>
  <cp:revision>2</cp:revision>
  <dc:subject/>
  <dc:title>INTELIGÊNCIA COMPUTACIONAL PARA OTIMIZAÇÃO</dc:title>
</cp:coreProperties>
</file>