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07B-09CB-4A1F-8778-96451881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053-FF44-4D63-9784-BA5F3433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780-E8E0-43F4-B827-49AE55A1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39D-995C-41E0-90A5-139E757E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05F-E62F-4B9F-8A25-A78053F2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F12-7F87-43B7-AF08-F4E79C94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B61-CEED-4F7F-8DCB-A3436739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34D-E5F6-4D04-9AEA-F5710667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276-2A8C-4537-9203-FF4B0B0C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A33-A4B4-4361-B330-508FE58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CE0-F0E8-49E0-8359-40647790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60B-620A-4FA2-98DC-49A73E1C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0BC8-FA03-44C0-A67E-3CBEDF90A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925560"/>
            <a:ext cx="6438960" cy="24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oblema de Alocaçã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 Jogos d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ampeonato Brasileir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210320" y="3973680"/>
            <a:ext cx="43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ut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brício Lacerda Biaj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-autor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ntônio Augusto Ch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távio Massashi 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este" descr=""/>
          <p:cNvPicPr/>
          <p:nvPr/>
        </p:nvPicPr>
        <p:blipFill>
          <a:blip r:embed="rId2"/>
          <a:stretch/>
        </p:blipFill>
        <p:spPr>
          <a:xfrm>
            <a:off x="6095880" y="4025880"/>
            <a:ext cx="19684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5720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SSO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1447920"/>
          <a:ext cx="8610840" cy="51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8610840" cy="510516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SSO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676520"/>
            <a:ext cx="6629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mpo médio de execução: ~8,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lhor Solução encontrada: 303.143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édia das Soluções: 340.700,3 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vio: 11,0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a pequena compa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20560" y="4635360"/>
          <a:ext cx="8305920" cy="152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560" y="4635360"/>
                    <a:ext cx="8305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1440" y="39996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j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1219320"/>
            <a:ext cx="82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ão considerados 10 objetivos a serem atendidos, sendo 6 objetivos essenciais e 4 não-essenciais. São el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680" y="2225520"/>
            <a:ext cx="84740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ada time deve jogar uma única vez com cada um dos outro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 nº de jogos dentro de casa e fora de casa de cada time deve ser igua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ada time só deve jogar uma vez por rodad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Não deve ter nenhum jogo entre clubes do mesmo estado na última rodad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s dois primeiros jogos devem ter o mando de campo invertido (Ex: 1º jogo em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asa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, então 2º jogo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fora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s dois últimos jogos devem repetir o mando dos dois primeiros (Ex: 1º casa; 2º fora ; então 24º casa e 25º fora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31440" y="39996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j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362320"/>
            <a:ext cx="84582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Um time não pode jogar mais de 2 vezesconsecutivas                                                    dentro de cas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Um time não pode jogar mais de 2 vezesconsecutivas                                                    dentro de cas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Minimizar a distância total percorrid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Minimizar a diferença entre a maior e a menor distância percorrida.</a:t>
            </a:r>
            <a:br>
              <a:rPr sz="2600"/>
            </a:b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040" y="1311120"/>
            <a:ext cx="3519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bjetivos não essenciais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ÉTODO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TIL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4800" y="1362240"/>
            <a:ext cx="6890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ão utilizadas duas metaheurísticas associa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Simulated Anneal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Busca Tab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00"/>
                </a:solidFill>
                <a:uFillTx/>
                <a:latin typeface="Times New Roman"/>
              </a:rPr>
              <a:t>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Reaqueci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Du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00"/>
                </a:solidFill>
                <a:uFillTx/>
                <a:latin typeface="Times New Roman"/>
              </a:rPr>
              <a:t>Busca Ta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rimeiro Vizinho de Melho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nálise de Vizinhança Pa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8104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 problema consiste e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locar os jogos, montando a tabela do Campeonato Brasileiro, com o objetivo de minimizar a distância total percorrida pelos times, levando em consideração alguns requisit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Um time não pode jogar mais de 1 vez na mesma rodad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Um time deve jogar uma única vez com cada um dos outros time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Um time não pode jogar mais de 2 vezes consecutivas fora de ca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1440" y="399960"/>
            <a:ext cx="30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6509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Inicialmente temos um conjunto de 26 times, onde todos se enfrentam em turno único (único jog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omo definir todos os jogos possíveis sem gerar repetição, levando em conta ainda o mando de ca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9200" y="1413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onha que temos os seguintes times: Atlético, Gama, Goiás, Vasco e São Paulo; e desejamos definir todos os jogos possíveis entre 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91560" y="2959200"/>
            <a:ext cx="276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Goi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80880" y="3314880"/>
            <a:ext cx="25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Goi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22640" y="51814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asco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9800" y="4813200"/>
            <a:ext cx="24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iás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iás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6560" y="604836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 o mando de ca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895480"/>
            <a:ext cx="6553080" cy="2819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800" y="1536840"/>
            <a:ext cx="847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problema do mando de campo nós resolvemos da seguinte manei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 Atlético X Gama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Mando de campo do Atl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lético X Gama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Mando de campo do G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47920"/>
            <a:ext cx="876312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am definidos dois tipos de movi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Troca de mando de campo(trocar sinal de um jog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oca de jogos entre rodad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is tipos de inviabilidade foram consider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 um time joga mais de uma vez na mesma rodada (NI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 um time joga mais de duas vezes consecutivas fora de casa (NI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ção Obje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_Star = FO + NI2*P2 + NI3*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Jo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5120" y="120960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finição de uma solu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05920" y="20574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o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88600" y="25351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od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ÉTOD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TI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720" y="1749600"/>
            <a:ext cx="8595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Foi utilizado o Simulated Annealing para a resolução d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omo funci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arâmetr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Eficiênc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82440"/>
            <a:ext cx="839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ultados apresentados pela Tabela Oficial do Campeonato Brasileiro d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5800" y="1832040"/>
            <a:ext cx="85312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ção Objetivo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80.613.55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ância Total Percorrid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613.556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. de Times que jogaram mais de uma vez na mesma rodad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. de Times que jogaram mais de duas vezes consecutivas fora de cas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1:35:39Z</dcterms:created>
  <dc:creator>Guto</dc:creator>
  <dc:description/>
  <dc:language>en-US</dc:language>
  <cp:lastModifiedBy>Fabrício Lacerda Biajoli</cp:lastModifiedBy>
  <dcterms:modified xsi:type="dcterms:W3CDTF">2003-10-08T16:09:16Z</dcterms:modified>
  <cp:revision>29</cp:revision>
  <dc:subject/>
  <dc:title>Apresentação do PowerPoint</dc:title>
</cp:coreProperties>
</file>