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76A-1C73-4674-AC5F-FBC7E2B4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C49-21EE-4AD0-BED9-FC2F5668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9ED-C3B1-4EA6-B1C1-ED47609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13C-BBA9-4D7C-87F1-7D549E8C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0A08-633F-4016-B263-DFEDD109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370B-182C-471C-B96A-68E9880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527D-BE5A-4299-A545-33D2300D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4FA-FE8F-4E67-81D4-8C7A2CC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BE08-B865-44F0-8809-483CF6B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1C6C-7FB8-4EE9-AEFE-178763F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6AF9-B00D-48D7-AE82-4E56BE0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725-3299-4AC2-8F3D-D5D5C52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0F8-4560-4B7D-909D-30E0288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1C7-7531-4103-BD7E-7CAD4BF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A5C-C30A-45E3-866F-C768CE9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FC5-7110-4F9F-B729-B97B66FA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0A4-0408-4A3F-A2ED-B4EDDF8B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5E3-84AB-4894-8CC3-DD8D8E7E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FDD-F357-4323-BFAA-7B16A84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D9D-C226-4311-954F-1E5B084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270-CA76-4DF1-8082-5638FB0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310-F99C-4FC2-92C3-6FDF0F4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90D-7758-4F12-BC57-23A8060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D02-B1C1-441C-AABD-CB2C505F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E93-0EA8-41FB-A67F-72556D38B42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0E27-C713-4176-A0E2-882167F1ECF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2362320"/>
            <a:ext cx="68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Universidade Federal de Ouro Pret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CEB – Instituto de Ciências Exatas e Biológicas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COM - Departamento de Computaçã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isciplina: Inteligência Computacional para Otimizaçã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essor: Marcone Jamilson Freitas Souza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2242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UFOPcmykeps" descr=""/>
          <p:cNvPicPr/>
          <p:nvPr/>
        </p:nvPicPr>
        <p:blipFill>
          <a:blip r:embed="rId2"/>
          <a:srcRect l="0" t="0" r="0" b="16783"/>
          <a:stretch/>
        </p:blipFill>
        <p:spPr>
          <a:xfrm>
            <a:off x="685800" y="2362320"/>
            <a:ext cx="1185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905120"/>
            <a:ext cx="754380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 uso da Metaheurística </a:t>
            </a:r>
            <a:r>
              <a:rPr b="1" i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imulated Annealing</a:t>
            </a:r>
            <a:r>
              <a:rPr b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para a resolução do problema de formulação do quadro de horário de ônibus para o sistema de transporte público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Helton Cristiano Gome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Luiz Augusto Cocato Jún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7621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52560" y="1400040"/>
          <a:ext cx="756432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4000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29400" y="48769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419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65760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7621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52560" y="1400040"/>
          <a:ext cx="756432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4000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0" y="144792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298" h="21600">
                <a:moveTo>
                  <a:pt x="37622" y="3985"/>
                </a:moveTo>
                <a:lnTo>
                  <a:pt x="44620" y="3985"/>
                </a:lnTo>
                <a:lnTo>
                  <a:pt x="48676" y="7484"/>
                </a:lnTo>
                <a:lnTo>
                  <a:pt x="48676" y="17615"/>
                </a:lnTo>
                <a:lnTo>
                  <a:pt x="37622" y="17615"/>
                </a:lnTo>
                <a:close/>
              </a:path>
              <a:path fill="darken" w="86298" h="21600">
                <a:moveTo>
                  <a:pt x="44620" y="3985"/>
                </a:moveTo>
                <a:lnTo>
                  <a:pt x="48676" y="7484"/>
                </a:lnTo>
                <a:lnTo>
                  <a:pt x="446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809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Dúvidas ?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76520" y="289548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7c7df"/>
                </a:solidFill>
                <a:latin typeface="Times New Roman"/>
              </a:rPr>
              <a:t>FIM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54:28Z</dcterms:created>
  <dc:creator>perfil_depro</dc:creator>
  <dc:description/>
  <dc:language>en-US</dc:language>
  <cp:lastModifiedBy>perfil_depro</cp:lastModifiedBy>
  <dcterms:modified xsi:type="dcterms:W3CDTF">2005-02-16T20:58:25Z</dcterms:modified>
  <cp:revision>3</cp:revision>
  <dc:subject/>
  <dc:title>Universidade Federal de Ouro Preto ICEB – Instituto de Ciências Exatas e Biológicas DECOM - Departamento de Computação Disciplina: Inteligência Computacional para Otimização Professor: Marcone Jamilson Freitas Souza   </dc:title>
</cp:coreProperties>
</file>