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E4C-F721-4B3C-B399-DBDB7EC5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189-8074-47E0-9FFE-01B7A9DC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719-15F5-4065-BAF7-D1EDB70D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759-6C32-4BC4-BA77-478C91E2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B23D-2429-48E7-9151-73D5BC04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A882-A41F-4845-AEB7-453E532E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80F8-83A8-4AF4-B311-06E913A3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9572-270F-426E-BF05-ADFB4879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538F-C1E9-42A3-AF6B-C46A65D9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F754-89A0-44A8-B752-1ECEFB94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F20B-FC8D-459B-ABCF-85A8178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439-7589-48A9-8D34-DCF31544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D19A-B65C-4255-B804-DE99D479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4585-BFEC-493E-AB3F-44A8D59A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0F4C-7966-4A97-AAEF-A77B0EE4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EC5B-B0F6-4595-9A0A-8F7600ED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E207-268C-4C62-A188-E6671F80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52C-F3F9-4116-BA8E-38F769DE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701-BAF7-474C-B784-24EC1AFB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DC7-DF8C-4AA9-B4B5-D163A3B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438-3289-4615-B292-D776BDC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123-9237-4AA6-B446-23CCD27D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334-8566-4A1D-867C-54C7ED4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5A6-914C-4044-8D98-F7F18FFA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5062-F012-42FB-803E-C560E085AE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216A-1E83-47C9-BF1A-98600B9362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nkGothic Md BT"/>
              </a:rPr>
              <a:t>Maximização de Funções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BankGothic Md BT"/>
              </a:rPr>
              <a:t>Simulated Anne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ankGothic Md BT"/>
              </a:rPr>
              <a:t>Angela Claudia Martin Duarte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ankGothic Md BT"/>
              </a:rPr>
              <a:t>Eduardo Montenegro Castro Junior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ankGothic Md BT"/>
              </a:rPr>
              <a:t>Cassio Pascoal Cost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ankGothic Md BT"/>
              </a:rPr>
              <a:t>Ernesto Peregrino de Rezende Junior</a:t>
            </a:r>
            <a:r>
              <a:rPr b="0" lang="pt-BR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nkGothic Md BT"/>
              </a:rPr>
              <a:t>Definição do Problem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ankGothic Md BT"/>
              </a:rPr>
              <a:t>O problema consiste em maximizar funções continuas em um intervalo qualquer, com uma precisão escolhida pelo usuário, utilizando um método heurístic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Vantagens do Método Heurístic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ankGothic Md BT"/>
              </a:rPr>
              <a:t>Permite Encontrar soluções muito boas, mesmo que a função tenha um comportamento muito instá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ankGothic Md BT"/>
              </a:rPr>
              <a:t>Permite encontrar máximos de funções em intervalos não diferenciáveis 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nkGothic Md BT"/>
              </a:rPr>
              <a:t>Implement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BankGothic Md BT"/>
              </a:rPr>
              <a:t>Gera um vetor aleatório binár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BankGothic Md BT"/>
              </a:rPr>
              <a:t>Converte o vetor binário em um valor decimal dentro do intervalo(</a:t>
            </a:r>
            <a:r>
              <a:rPr b="0" lang="pt-BR" sz="3000" spc="-1" strike="noStrike">
                <a:solidFill>
                  <a:srgbClr val="ff3300"/>
                </a:solidFill>
                <a:latin typeface="BankGothic Md BT"/>
              </a:rPr>
              <a:t>não gera inviabilidade!!!</a:t>
            </a:r>
            <a:r>
              <a:rPr b="0" lang="pt-BR" sz="3000" spc="-1" strike="noStrike">
                <a:solidFill>
                  <a:srgbClr val="000000"/>
                </a:solidFill>
                <a:latin typeface="BankGothic Md BT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BankGothic Md BT"/>
              </a:rPr>
              <a:t>Calcula o f(x) inicial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BankGothic Md BT"/>
              </a:rPr>
              <a:t>Manipula o vetor binário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BankGothic Md BT"/>
              </a:rPr>
              <a:t>Aplica o S.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nkGothic Md BT"/>
              </a:rPr>
              <a:t>Função Exemp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ankGothic Md BT"/>
              </a:rPr>
              <a:t>F(x)=0.4 +sinc(4x) + 1.1sinc(4x +2) + 0.8sinc(6x-2) + 0.7sinc(6x-4).</a:t>
            </a:r>
            <a:r>
              <a:rPr b="0" lang="pt-BR" sz="3200" spc="-1" strike="noStrike">
                <a:solidFill>
                  <a:srgbClr val="000000"/>
                </a:solidFill>
                <a:latin typeface="BankGothic M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ankGothic Md BT"/>
              </a:rPr>
              <a:t>X[-2,2] Interval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ankGothic Md BT"/>
              </a:rPr>
              <a:t>sinc(x)= 1 para x=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ankGothic Md BT"/>
              </a:rPr>
              <a:t>sinc(x)= sen(πx)/ πx para x !=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nkGothic Md BT"/>
              </a:rPr>
              <a:t>Cálculo de 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ankGothic Md BT"/>
              </a:rPr>
              <a:t>X=xmin +[ xmax-xmin]. B/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ankGothic Md BT"/>
              </a:rPr>
              <a:t>on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ankGothic Md BT"/>
              </a:rPr>
              <a:t>B=valor decimal correspondente a V[i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ankGothic Md BT"/>
              </a:rPr>
              <a:t>R=valor decimal correspondente a máximo de V[i], sendo o mesmo definido de acordo com a precisão escolhida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nkGothic Md BT"/>
              </a:rPr>
              <a:t>Cálculo de 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95280" y="1752480"/>
          <a:ext cx="6705720" cy="49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70572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nkGothic Md BT"/>
              </a:rPr>
              <a:t>Resultado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752560" y="1886040"/>
          <a:ext cx="3587760" cy="41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886040"/>
                    <a:ext cx="35877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21:16:04Z</dcterms:created>
  <dc:creator>.</dc:creator>
  <dc:description/>
  <dc:language>en-US</dc:language>
  <cp:lastModifiedBy>x</cp:lastModifiedBy>
  <dcterms:modified xsi:type="dcterms:W3CDTF">2003-02-21T13:15:36Z</dcterms:modified>
  <cp:revision>7</cp:revision>
  <dc:subject/>
  <dc:title>Maximização de Funções  Simulated Annealing</dc:title>
</cp:coreProperties>
</file>