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58E7-090F-411B-ACED-422BA4B0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4E5-E87F-4F1F-AEFF-D794D575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AB5-1CAC-4C49-AF00-BA214836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6B7-02EB-4DCD-83A8-A1F8E1A6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750A-CBBD-48C2-8510-CC362502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400-7491-4FE2-B07B-063786EA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BFFE-0245-4FBD-A1FA-910BB6D5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06C9-958E-452D-A2C1-242F5058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C8B7-20E9-4D3A-82AC-D75F28B9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640-390B-4F7F-8CFE-2E70BD7F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4E4-1DF5-4042-9248-B61D98B9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C57-7678-4282-9462-E05C0E29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39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DF0F-B8B8-4F31-8D11-07C55DDF32F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380880"/>
            <a:ext cx="79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nteligência Computaciona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6280" y="2243160"/>
            <a:ext cx="768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eaeaea"/>
                </a:solidFill>
                <a:latin typeface="Tahoma"/>
              </a:rPr>
              <a:t>Simulated Annealing (SA)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eaeaea"/>
                </a:solidFill>
                <a:latin typeface="Tahoma"/>
              </a:rPr>
              <a:t>Aplicado ao Problema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eaeaea"/>
                </a:solidFill>
                <a:latin typeface="Tahoma"/>
              </a:rPr>
              <a:t>de K-Dispersão Discreta (PKD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1040" y="5410080"/>
            <a:ext cx="46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Garamond"/>
                <a:ea typeface="Times New Roman"/>
              </a:rPr>
              <a:t>Gilmax de Oliveira Araújo</a:t>
            </a:r>
            <a:br>
              <a:rPr sz="2800"/>
            </a:br>
            <a:r>
              <a:rPr b="0" lang="pt-BR" sz="2800" spc="-1" strike="noStrike">
                <a:solidFill>
                  <a:srgbClr val="eaeaea"/>
                </a:solidFill>
                <a:latin typeface="Garamond"/>
              </a:rPr>
              <a:t>Luciana Batista de Lim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efinando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aso contrário o programa aceita a solução de piora com um probabilidade d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P = </a:t>
            </a:r>
            <a:r>
              <a:rPr b="0" lang="pt-BR" sz="3200" spc="-1" strike="noStrike">
                <a:solidFill>
                  <a:srgbClr val="ffff00"/>
                </a:solidFill>
                <a:latin typeface="TimesNewRoman,Bold"/>
                <a:ea typeface="Times New Roman"/>
              </a:rPr>
              <a:t>e </a:t>
            </a:r>
            <a:r>
              <a:rPr b="0" lang="pt-BR" sz="3200" spc="-1" strike="noStrike" baseline="30000">
                <a:solidFill>
                  <a:srgbClr val="ffff00"/>
                </a:solidFill>
                <a:latin typeface="TimesNewRoman,Bold"/>
                <a:ea typeface="Times New Roman"/>
              </a:rPr>
              <a:t>(  </a:t>
            </a:r>
            <a:r>
              <a:rPr b="0" lang="pt-BR" sz="3200" spc="-1" strike="noStrike" baseline="30000">
                <a:solidFill>
                  <a:srgbClr val="ffff00"/>
                </a:solidFill>
                <a:latin typeface="Fv"/>
                <a:ea typeface="Times New Roman"/>
              </a:rPr>
              <a:t>Δ/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Até que a solução ótima seja encontrada ou o número máximo de interações (SAmax) seja atingido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ahoma"/>
              </a:rPr>
              <a:t>Solução ótima encontrada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S = [0 1 0 1 0 1]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Menor distância entre as arestas do polígono = 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clusão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Solução satisfatória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omparação com o Problema da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k-dispersão resolvido pelo Lingo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84400" y="407880"/>
            <a:ext cx="317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O Problema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60" y="170172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K – Dispersão Discre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1440" y="2514600"/>
            <a:ext cx="8601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Garamond"/>
              </a:rPr>
              <a:t>Dado um conjunto de n possíveis candidatos sobre os nós de um grafo, deve-se em selecionar </a:t>
            </a:r>
            <a:r>
              <a:rPr b="0" lang="en-US" sz="2800" spc="-1" strike="noStrike">
                <a:solidFill>
                  <a:srgbClr val="eaeaea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Garamond"/>
              </a:rPr>
              <a:t>k facilidades dentre as n possíveis, de tal  modo que a distância mínima entre qualquer par das k facilidades selecionadas seja maximizada.”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1743120"/>
            <a:ext cx="860112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Garamond"/>
              </a:rPr>
              <a:t>Localização de reservatórios de combustível;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Garamond"/>
              </a:rPr>
              <a:t>Alocação de agentes competitivos como franquias etc;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Garamond"/>
              </a:rPr>
              <a:t>Distribuição de depósitos de lixo;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Garamond"/>
              </a:rPr>
              <a:t>Localização de silos de mísseis e instalações nucleares;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Garamond"/>
              </a:rPr>
              <a:t>Prisões e instalações militares;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Garamond"/>
              </a:rPr>
              <a:t>Tratamento de águas residuais;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Garamond"/>
              </a:rPr>
              <a:t>Distribuição de freqüências em sistemas de comunicações;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Garamond"/>
              </a:rPr>
              <a:t>Experimentos estatísticos;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Garamond"/>
              </a:rPr>
              <a:t>Exploração de madeira etc.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87800" y="407880"/>
            <a:ext cx="2806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plicaçõ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90720" y="2286000"/>
            <a:ext cx="727236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Admite soluções de piora para escapar de ótimos locais;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As soluções de piora são aceitas com uma certa probabilidade, a qual depende de um parâmetro, chamado de temperatura;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O final do processo se dá quando a temperatura se aproxima de zero e nenhuma solução de piora é mais aceita, situação que evidencia o encontro de um ótimo local;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2880" y="228600"/>
            <a:ext cx="7569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Garamond"/>
              </a:rPr>
              <a:t>Metaheurística Simulated Annealing (Têmpera Simulada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Tahoma"/>
              </a:rPr>
              <a:t>Caso:</a:t>
            </a:r>
            <a:r>
              <a:rPr b="1" lang="pt-BR" sz="3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No Grafo abaixo, obter 3 cidades entre as 6 cidades possíveis, de tal forma que a menor distância entre ela seja maior que as menores distâncias dos possíveis polígonos formado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601640" y="2895480"/>
            <a:ext cx="5646600" cy="3089520"/>
            <a:chOff x="1601640" y="2895480"/>
            <a:chExt cx="5646600" cy="3089520"/>
          </a:xfrm>
        </p:grpSpPr>
        <p:sp>
          <p:nvSpPr>
            <p:cNvPr id="95" name=""/>
            <p:cNvSpPr/>
            <p:nvPr/>
          </p:nvSpPr>
          <p:spPr>
            <a:xfrm>
              <a:off x="1613880" y="4282200"/>
              <a:ext cx="336240" cy="381960"/>
            </a:xfrm>
            <a:prstGeom prst="ellipse">
              <a:avLst/>
            </a:pr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59560" y="3229560"/>
              <a:ext cx="335880" cy="382680"/>
            </a:xfrm>
            <a:prstGeom prst="ellipse">
              <a:avLst/>
            </a:pr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82440" y="3229560"/>
              <a:ext cx="335880" cy="382680"/>
            </a:xfrm>
            <a:prstGeom prst="ellipse">
              <a:avLst/>
            </a:pr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59560" y="5429880"/>
              <a:ext cx="335880" cy="381960"/>
            </a:xfrm>
            <a:prstGeom prst="ellipse">
              <a:avLst/>
            </a:pr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2440" y="5429880"/>
              <a:ext cx="335880" cy="381960"/>
            </a:xfrm>
            <a:prstGeom prst="ellipse">
              <a:avLst/>
            </a:pr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12000" y="4282200"/>
              <a:ext cx="336240" cy="381960"/>
            </a:xfrm>
            <a:prstGeom prst="ellipse">
              <a:avLst/>
            </a:pr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866240" y="3516120"/>
              <a:ext cx="1093320" cy="86076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82000" y="4569120"/>
              <a:ext cx="1261080" cy="95580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95800" y="5621040"/>
              <a:ext cx="218664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818320" y="4569120"/>
              <a:ext cx="1177560" cy="105192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0560" y="3516480"/>
              <a:ext cx="1345320" cy="95652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27680" y="3612240"/>
              <a:ext cx="0" cy="181728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45160" y="3564360"/>
              <a:ext cx="0" cy="181728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95800" y="3421440"/>
              <a:ext cx="218664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295800" y="3516120"/>
              <a:ext cx="2354760" cy="200844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11920" y="3516480"/>
              <a:ext cx="2438280" cy="200844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52200" y="4536720"/>
              <a:ext cx="50454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01640" y="4186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61000" y="5301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3880" y="5334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13440" y="4186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3880" y="3134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61000" y="3134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58760" y="4856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87160" y="552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10680" y="3612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20040" y="3484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72960" y="4569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42240" y="4043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95840" y="4648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01200" y="2895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66600" y="4935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358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1600" y="3612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V="1">
            <a:off x="3200400" y="4495680"/>
            <a:ext cx="3809880" cy="106704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1828800" y="4495680"/>
            <a:ext cx="3733920" cy="106704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905120" y="3429000"/>
            <a:ext cx="3809880" cy="99072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3505320"/>
            <a:ext cx="3962520" cy="990360"/>
          </a:xfrm>
          <a:prstGeom prst="line">
            <a:avLst/>
          </a:prstGeom>
          <a:ln cap="sq"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Tahoma"/>
              </a:rPr>
              <a:t>Metodologia Aplicad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Geração de uma solução aleatória inicial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A partir da tabela a seguir,que representa a matriz distância, obter um vetor de 6 elemento com valores booleanos 0 e 1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Cidade escolhida =&gt; “1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Cidade não escolhida =&gt; “0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Ex: s = [ 1 1 1 0 0 0 ]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c66"/>
                </a:solidFill>
                <a:latin typeface="Tahoma"/>
              </a:rPr>
              <a:t>Tabela representativa da matriz distância:</a:t>
            </a:r>
            <a:r>
              <a:rPr b="0" lang="pt-BR" sz="44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9810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TimesNewRoman,Bold"/>
                <a:ea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65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TimesNewRoman,Bold"/>
                <a:ea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200" y="1981080"/>
            <a:ext cx="8000280" cy="4287960"/>
            <a:chOff x="457200" y="1981080"/>
            <a:chExt cx="8000280" cy="4287960"/>
          </a:xfrm>
        </p:grpSpPr>
        <p:grpSp>
          <p:nvGrpSpPr>
            <p:cNvPr id="139" name=""/>
            <p:cNvGrpSpPr/>
            <p:nvPr/>
          </p:nvGrpSpPr>
          <p:grpSpPr>
            <a:xfrm>
              <a:off x="457200" y="1981080"/>
              <a:ext cx="1142280" cy="630360"/>
              <a:chOff x="457200" y="1981080"/>
              <a:chExt cx="1142280" cy="630360"/>
            </a:xfrm>
          </p:grpSpPr>
          <p:sp>
            <p:nvSpPr>
              <p:cNvPr id="140" name=""/>
              <p:cNvSpPr/>
              <p:nvPr/>
            </p:nvSpPr>
            <p:spPr>
              <a:xfrm>
                <a:off x="471600" y="1990800"/>
                <a:ext cx="111312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eaeaea"/>
                    </a:solidFill>
                    <a:latin typeface="Tahoma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7200" y="1981080"/>
                <a:ext cx="1142280" cy="6303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1599840" y="1981080"/>
              <a:ext cx="1142640" cy="630360"/>
              <a:chOff x="1599840" y="1981080"/>
              <a:chExt cx="1142640" cy="630360"/>
            </a:xfrm>
          </p:grpSpPr>
          <p:sp>
            <p:nvSpPr>
              <p:cNvPr id="143" name=""/>
              <p:cNvSpPr/>
              <p:nvPr/>
            </p:nvSpPr>
            <p:spPr>
              <a:xfrm>
                <a:off x="1614960" y="1990800"/>
                <a:ext cx="111204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599840" y="1981080"/>
                <a:ext cx="1142640" cy="6303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743200" y="1981080"/>
              <a:ext cx="1142280" cy="630360"/>
              <a:chOff x="2743200" y="1981080"/>
              <a:chExt cx="1142280" cy="630360"/>
            </a:xfrm>
          </p:grpSpPr>
          <p:sp>
            <p:nvSpPr>
              <p:cNvPr id="146" name=""/>
              <p:cNvSpPr/>
              <p:nvPr/>
            </p:nvSpPr>
            <p:spPr>
              <a:xfrm>
                <a:off x="2757600" y="1990800"/>
                <a:ext cx="111312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43200" y="1981080"/>
                <a:ext cx="1142280" cy="6303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885840" y="1981080"/>
              <a:ext cx="1142640" cy="630360"/>
              <a:chOff x="3885840" y="1981080"/>
              <a:chExt cx="1142640" cy="630360"/>
            </a:xfrm>
          </p:grpSpPr>
          <p:sp>
            <p:nvSpPr>
              <p:cNvPr id="149" name=""/>
              <p:cNvSpPr/>
              <p:nvPr/>
            </p:nvSpPr>
            <p:spPr>
              <a:xfrm>
                <a:off x="3900960" y="1990800"/>
                <a:ext cx="111204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85840" y="1981080"/>
                <a:ext cx="1142640" cy="6303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029200" y="1981080"/>
              <a:ext cx="1142280" cy="630360"/>
              <a:chOff x="5029200" y="1981080"/>
              <a:chExt cx="1142280" cy="630360"/>
            </a:xfrm>
          </p:grpSpPr>
          <p:sp>
            <p:nvSpPr>
              <p:cNvPr id="152" name=""/>
              <p:cNvSpPr/>
              <p:nvPr/>
            </p:nvSpPr>
            <p:spPr>
              <a:xfrm>
                <a:off x="5043600" y="1990800"/>
                <a:ext cx="111312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3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029200" y="1981080"/>
                <a:ext cx="1142280" cy="6303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171840" y="1981080"/>
              <a:ext cx="1142640" cy="630360"/>
              <a:chOff x="6171840" y="1981080"/>
              <a:chExt cx="1142640" cy="630360"/>
            </a:xfrm>
          </p:grpSpPr>
          <p:sp>
            <p:nvSpPr>
              <p:cNvPr id="155" name=""/>
              <p:cNvSpPr/>
              <p:nvPr/>
            </p:nvSpPr>
            <p:spPr>
              <a:xfrm>
                <a:off x="6186960" y="1990800"/>
                <a:ext cx="111204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4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171840" y="1981080"/>
                <a:ext cx="1142640" cy="6303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7315200" y="1981080"/>
              <a:ext cx="1142280" cy="630360"/>
              <a:chOff x="7315200" y="1981080"/>
              <a:chExt cx="1142280" cy="630360"/>
            </a:xfrm>
          </p:grpSpPr>
          <p:sp>
            <p:nvSpPr>
              <p:cNvPr id="158" name=""/>
              <p:cNvSpPr/>
              <p:nvPr/>
            </p:nvSpPr>
            <p:spPr>
              <a:xfrm>
                <a:off x="7329600" y="1990800"/>
                <a:ext cx="111312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315200" y="1981080"/>
                <a:ext cx="1142280" cy="6303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57200" y="2620800"/>
              <a:ext cx="1142280" cy="600120"/>
              <a:chOff x="457200" y="2620800"/>
              <a:chExt cx="1142280" cy="600120"/>
            </a:xfrm>
          </p:grpSpPr>
          <p:sp>
            <p:nvSpPr>
              <p:cNvPr id="161" name=""/>
              <p:cNvSpPr/>
              <p:nvPr/>
            </p:nvSpPr>
            <p:spPr>
              <a:xfrm>
                <a:off x="471600" y="263052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57200" y="262080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599840" y="2620800"/>
              <a:ext cx="1142640" cy="600120"/>
              <a:chOff x="1599840" y="2620800"/>
              <a:chExt cx="1142640" cy="600120"/>
            </a:xfrm>
          </p:grpSpPr>
          <p:sp>
            <p:nvSpPr>
              <p:cNvPr id="164" name=""/>
              <p:cNvSpPr/>
              <p:nvPr/>
            </p:nvSpPr>
            <p:spPr>
              <a:xfrm>
                <a:off x="1614960" y="263052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99840" y="262080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743200" y="2620800"/>
              <a:ext cx="1142280" cy="600120"/>
              <a:chOff x="2743200" y="2620800"/>
              <a:chExt cx="1142280" cy="600120"/>
            </a:xfrm>
          </p:grpSpPr>
          <p:sp>
            <p:nvSpPr>
              <p:cNvPr id="167" name=""/>
              <p:cNvSpPr/>
              <p:nvPr/>
            </p:nvSpPr>
            <p:spPr>
              <a:xfrm>
                <a:off x="2757600" y="263052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0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743200" y="262080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885840" y="2620800"/>
              <a:ext cx="1142640" cy="600120"/>
              <a:chOff x="3885840" y="2620800"/>
              <a:chExt cx="1142640" cy="600120"/>
            </a:xfrm>
          </p:grpSpPr>
          <p:sp>
            <p:nvSpPr>
              <p:cNvPr id="170" name=""/>
              <p:cNvSpPr/>
              <p:nvPr/>
            </p:nvSpPr>
            <p:spPr>
              <a:xfrm>
                <a:off x="3900960" y="263052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9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85840" y="262080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5029200" y="2620800"/>
              <a:ext cx="1142280" cy="600120"/>
              <a:chOff x="5029200" y="2620800"/>
              <a:chExt cx="1142280" cy="600120"/>
            </a:xfrm>
          </p:grpSpPr>
          <p:sp>
            <p:nvSpPr>
              <p:cNvPr id="173" name=""/>
              <p:cNvSpPr/>
              <p:nvPr/>
            </p:nvSpPr>
            <p:spPr>
              <a:xfrm>
                <a:off x="5043600" y="263052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029200" y="262080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6171840" y="2620800"/>
              <a:ext cx="1142640" cy="600120"/>
              <a:chOff x="6171840" y="2620800"/>
              <a:chExt cx="1142640" cy="600120"/>
            </a:xfrm>
          </p:grpSpPr>
          <p:sp>
            <p:nvSpPr>
              <p:cNvPr id="176" name=""/>
              <p:cNvSpPr/>
              <p:nvPr/>
            </p:nvSpPr>
            <p:spPr>
              <a:xfrm>
                <a:off x="6186960" y="263052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3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71840" y="262080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7315200" y="2620800"/>
              <a:ext cx="1142280" cy="600120"/>
              <a:chOff x="7315200" y="2620800"/>
              <a:chExt cx="1142280" cy="600120"/>
            </a:xfrm>
          </p:grpSpPr>
          <p:sp>
            <p:nvSpPr>
              <p:cNvPr id="179" name=""/>
              <p:cNvSpPr/>
              <p:nvPr/>
            </p:nvSpPr>
            <p:spPr>
              <a:xfrm>
                <a:off x="7329600" y="263052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15200" y="262080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57200" y="3230640"/>
              <a:ext cx="1142280" cy="599760"/>
              <a:chOff x="457200" y="3230640"/>
              <a:chExt cx="1142280" cy="599760"/>
            </a:xfrm>
          </p:grpSpPr>
          <p:sp>
            <p:nvSpPr>
              <p:cNvPr id="182" name=""/>
              <p:cNvSpPr/>
              <p:nvPr/>
            </p:nvSpPr>
            <p:spPr>
              <a:xfrm>
                <a:off x="471600" y="324000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7200" y="3230640"/>
                <a:ext cx="114228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599840" y="3230640"/>
              <a:ext cx="1142640" cy="599760"/>
              <a:chOff x="1599840" y="3230640"/>
              <a:chExt cx="1142640" cy="599760"/>
            </a:xfrm>
          </p:grpSpPr>
          <p:sp>
            <p:nvSpPr>
              <p:cNvPr id="185" name=""/>
              <p:cNvSpPr/>
              <p:nvPr/>
            </p:nvSpPr>
            <p:spPr>
              <a:xfrm>
                <a:off x="1614960" y="324000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0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599840" y="3230640"/>
                <a:ext cx="114264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743200" y="3230640"/>
              <a:ext cx="1142280" cy="599760"/>
              <a:chOff x="2743200" y="3230640"/>
              <a:chExt cx="1142280" cy="599760"/>
            </a:xfrm>
          </p:grpSpPr>
          <p:sp>
            <p:nvSpPr>
              <p:cNvPr id="188" name=""/>
              <p:cNvSpPr/>
              <p:nvPr/>
            </p:nvSpPr>
            <p:spPr>
              <a:xfrm>
                <a:off x="2757600" y="324000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43200" y="3230640"/>
                <a:ext cx="114228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885840" y="3230640"/>
              <a:ext cx="1142640" cy="599760"/>
              <a:chOff x="3885840" y="3230640"/>
              <a:chExt cx="1142640" cy="599760"/>
            </a:xfrm>
          </p:grpSpPr>
          <p:sp>
            <p:nvSpPr>
              <p:cNvPr id="191" name=""/>
              <p:cNvSpPr/>
              <p:nvPr/>
            </p:nvSpPr>
            <p:spPr>
              <a:xfrm>
                <a:off x="3900960" y="324000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85840" y="3230640"/>
                <a:ext cx="114264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029200" y="3230640"/>
              <a:ext cx="1142280" cy="599760"/>
              <a:chOff x="5029200" y="3230640"/>
              <a:chExt cx="1142280" cy="5997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43600" y="324000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1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029200" y="3230640"/>
                <a:ext cx="114228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6171840" y="3230640"/>
              <a:ext cx="1142640" cy="599760"/>
              <a:chOff x="6171840" y="3230640"/>
              <a:chExt cx="1142640" cy="599760"/>
            </a:xfrm>
          </p:grpSpPr>
          <p:sp>
            <p:nvSpPr>
              <p:cNvPr id="197" name=""/>
              <p:cNvSpPr/>
              <p:nvPr/>
            </p:nvSpPr>
            <p:spPr>
              <a:xfrm>
                <a:off x="6186960" y="324000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9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171840" y="3230640"/>
                <a:ext cx="114264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7315200" y="3230640"/>
              <a:ext cx="1142280" cy="599760"/>
              <a:chOff x="7315200" y="3230640"/>
              <a:chExt cx="1142280" cy="599760"/>
            </a:xfrm>
          </p:grpSpPr>
          <p:sp>
            <p:nvSpPr>
              <p:cNvPr id="200" name=""/>
              <p:cNvSpPr/>
              <p:nvPr/>
            </p:nvSpPr>
            <p:spPr>
              <a:xfrm>
                <a:off x="7329600" y="324000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9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315200" y="3230640"/>
                <a:ext cx="114228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457200" y="3840120"/>
              <a:ext cx="1142280" cy="600120"/>
              <a:chOff x="457200" y="3840120"/>
              <a:chExt cx="1142280" cy="600120"/>
            </a:xfrm>
          </p:grpSpPr>
          <p:sp>
            <p:nvSpPr>
              <p:cNvPr id="203" name=""/>
              <p:cNvSpPr/>
              <p:nvPr/>
            </p:nvSpPr>
            <p:spPr>
              <a:xfrm>
                <a:off x="471600" y="3849480"/>
                <a:ext cx="11131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7200" y="384012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599840" y="3840120"/>
              <a:ext cx="1142640" cy="600120"/>
              <a:chOff x="1599840" y="3840120"/>
              <a:chExt cx="1142640" cy="600120"/>
            </a:xfrm>
          </p:grpSpPr>
          <p:sp>
            <p:nvSpPr>
              <p:cNvPr id="206" name=""/>
              <p:cNvSpPr/>
              <p:nvPr/>
            </p:nvSpPr>
            <p:spPr>
              <a:xfrm>
                <a:off x="1614960" y="3849480"/>
                <a:ext cx="111204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9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599840" y="384012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2743200" y="3840120"/>
              <a:ext cx="1142280" cy="600120"/>
              <a:chOff x="2743200" y="3840120"/>
              <a:chExt cx="1142280" cy="600120"/>
            </a:xfrm>
          </p:grpSpPr>
          <p:sp>
            <p:nvSpPr>
              <p:cNvPr id="209" name=""/>
              <p:cNvSpPr/>
              <p:nvPr/>
            </p:nvSpPr>
            <p:spPr>
              <a:xfrm>
                <a:off x="2757600" y="3849480"/>
                <a:ext cx="11131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743200" y="384012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3885840" y="3840120"/>
              <a:ext cx="1142640" cy="600120"/>
              <a:chOff x="3885840" y="3840120"/>
              <a:chExt cx="1142640" cy="600120"/>
            </a:xfrm>
          </p:grpSpPr>
          <p:sp>
            <p:nvSpPr>
              <p:cNvPr id="212" name=""/>
              <p:cNvSpPr/>
              <p:nvPr/>
            </p:nvSpPr>
            <p:spPr>
              <a:xfrm>
                <a:off x="3900960" y="3849480"/>
                <a:ext cx="111204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885840" y="384012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5029200" y="3840120"/>
              <a:ext cx="1142280" cy="600120"/>
              <a:chOff x="5029200" y="3840120"/>
              <a:chExt cx="1142280" cy="600120"/>
            </a:xfrm>
          </p:grpSpPr>
          <p:sp>
            <p:nvSpPr>
              <p:cNvPr id="215" name=""/>
              <p:cNvSpPr/>
              <p:nvPr/>
            </p:nvSpPr>
            <p:spPr>
              <a:xfrm>
                <a:off x="5043600" y="3849480"/>
                <a:ext cx="11131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6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29200" y="384012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6171840" y="3840120"/>
              <a:ext cx="1142640" cy="600120"/>
              <a:chOff x="6171840" y="3840120"/>
              <a:chExt cx="1142640" cy="600120"/>
            </a:xfrm>
          </p:grpSpPr>
          <p:sp>
            <p:nvSpPr>
              <p:cNvPr id="218" name=""/>
              <p:cNvSpPr/>
              <p:nvPr/>
            </p:nvSpPr>
            <p:spPr>
              <a:xfrm>
                <a:off x="6186960" y="3849480"/>
                <a:ext cx="111204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2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171840" y="384012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15200" y="3840120"/>
              <a:ext cx="1142280" cy="600120"/>
              <a:chOff x="7315200" y="3840120"/>
              <a:chExt cx="1142280" cy="600120"/>
            </a:xfrm>
          </p:grpSpPr>
          <p:sp>
            <p:nvSpPr>
              <p:cNvPr id="221" name=""/>
              <p:cNvSpPr/>
              <p:nvPr/>
            </p:nvSpPr>
            <p:spPr>
              <a:xfrm>
                <a:off x="7329600" y="3849480"/>
                <a:ext cx="11131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4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15200" y="384012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457200" y="4449600"/>
              <a:ext cx="1142280" cy="600120"/>
              <a:chOff x="457200" y="4449600"/>
              <a:chExt cx="1142280" cy="600120"/>
            </a:xfrm>
          </p:grpSpPr>
          <p:sp>
            <p:nvSpPr>
              <p:cNvPr id="224" name=""/>
              <p:cNvSpPr/>
              <p:nvPr/>
            </p:nvSpPr>
            <p:spPr>
              <a:xfrm>
                <a:off x="471600" y="445932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3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57200" y="444960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599840" y="4449600"/>
              <a:ext cx="1142640" cy="600120"/>
              <a:chOff x="1599840" y="4449600"/>
              <a:chExt cx="1142640" cy="600120"/>
            </a:xfrm>
          </p:grpSpPr>
          <p:sp>
            <p:nvSpPr>
              <p:cNvPr id="227" name=""/>
              <p:cNvSpPr/>
              <p:nvPr/>
            </p:nvSpPr>
            <p:spPr>
              <a:xfrm>
                <a:off x="1614960" y="445932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599840" y="444960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743200" y="4449600"/>
              <a:ext cx="1142280" cy="600120"/>
              <a:chOff x="2743200" y="4449600"/>
              <a:chExt cx="1142280" cy="600120"/>
            </a:xfrm>
          </p:grpSpPr>
          <p:sp>
            <p:nvSpPr>
              <p:cNvPr id="230" name=""/>
              <p:cNvSpPr/>
              <p:nvPr/>
            </p:nvSpPr>
            <p:spPr>
              <a:xfrm>
                <a:off x="2757600" y="445932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1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743200" y="444960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3885840" y="4449600"/>
              <a:ext cx="1142640" cy="600120"/>
              <a:chOff x="3885840" y="4449600"/>
              <a:chExt cx="1142640" cy="600120"/>
            </a:xfrm>
          </p:grpSpPr>
          <p:sp>
            <p:nvSpPr>
              <p:cNvPr id="233" name=""/>
              <p:cNvSpPr/>
              <p:nvPr/>
            </p:nvSpPr>
            <p:spPr>
              <a:xfrm>
                <a:off x="3900960" y="445932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6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885840" y="444960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5029200" y="4449600"/>
              <a:ext cx="1142280" cy="600120"/>
              <a:chOff x="5029200" y="4449600"/>
              <a:chExt cx="1142280" cy="600120"/>
            </a:xfrm>
          </p:grpSpPr>
          <p:sp>
            <p:nvSpPr>
              <p:cNvPr id="236" name=""/>
              <p:cNvSpPr/>
              <p:nvPr/>
            </p:nvSpPr>
            <p:spPr>
              <a:xfrm>
                <a:off x="5043600" y="445932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029200" y="444960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171840" y="4449600"/>
              <a:ext cx="1142640" cy="600120"/>
              <a:chOff x="6171840" y="4449600"/>
              <a:chExt cx="1142640" cy="600120"/>
            </a:xfrm>
          </p:grpSpPr>
          <p:sp>
            <p:nvSpPr>
              <p:cNvPr id="239" name=""/>
              <p:cNvSpPr/>
              <p:nvPr/>
            </p:nvSpPr>
            <p:spPr>
              <a:xfrm>
                <a:off x="6186960" y="445932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8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171840" y="444960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7315200" y="4449600"/>
              <a:ext cx="1142280" cy="600120"/>
              <a:chOff x="7315200" y="4449600"/>
              <a:chExt cx="1142280" cy="600120"/>
            </a:xfrm>
          </p:grpSpPr>
          <p:sp>
            <p:nvSpPr>
              <p:cNvPr id="242" name=""/>
              <p:cNvSpPr/>
              <p:nvPr/>
            </p:nvSpPr>
            <p:spPr>
              <a:xfrm>
                <a:off x="7329600" y="445932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2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315200" y="444960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457200" y="5059440"/>
              <a:ext cx="1142280" cy="599760"/>
              <a:chOff x="457200" y="5059440"/>
              <a:chExt cx="1142280" cy="599760"/>
            </a:xfrm>
          </p:grpSpPr>
          <p:sp>
            <p:nvSpPr>
              <p:cNvPr id="245" name=""/>
              <p:cNvSpPr/>
              <p:nvPr/>
            </p:nvSpPr>
            <p:spPr>
              <a:xfrm>
                <a:off x="471600" y="506880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4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7200" y="5059440"/>
                <a:ext cx="114228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1599840" y="5059440"/>
              <a:ext cx="1142640" cy="599760"/>
              <a:chOff x="1599840" y="5059440"/>
              <a:chExt cx="1142640" cy="599760"/>
            </a:xfrm>
          </p:grpSpPr>
          <p:sp>
            <p:nvSpPr>
              <p:cNvPr id="248" name=""/>
              <p:cNvSpPr/>
              <p:nvPr/>
            </p:nvSpPr>
            <p:spPr>
              <a:xfrm>
                <a:off x="1614960" y="506880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3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599840" y="5059440"/>
                <a:ext cx="114264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743200" y="5059440"/>
              <a:ext cx="1142280" cy="599760"/>
              <a:chOff x="2743200" y="5059440"/>
              <a:chExt cx="1142280" cy="599760"/>
            </a:xfrm>
          </p:grpSpPr>
          <p:sp>
            <p:nvSpPr>
              <p:cNvPr id="251" name=""/>
              <p:cNvSpPr/>
              <p:nvPr/>
            </p:nvSpPr>
            <p:spPr>
              <a:xfrm>
                <a:off x="2757600" y="506880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9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743200" y="5059440"/>
                <a:ext cx="114228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3885840" y="5059440"/>
              <a:ext cx="1142640" cy="599760"/>
              <a:chOff x="3885840" y="5059440"/>
              <a:chExt cx="1142640" cy="599760"/>
            </a:xfrm>
          </p:grpSpPr>
          <p:sp>
            <p:nvSpPr>
              <p:cNvPr id="254" name=""/>
              <p:cNvSpPr/>
              <p:nvPr/>
            </p:nvSpPr>
            <p:spPr>
              <a:xfrm>
                <a:off x="3900960" y="506880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2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885840" y="5059440"/>
                <a:ext cx="114264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029200" y="5059440"/>
              <a:ext cx="1142280" cy="599760"/>
              <a:chOff x="5029200" y="5059440"/>
              <a:chExt cx="1142280" cy="599760"/>
            </a:xfrm>
          </p:grpSpPr>
          <p:sp>
            <p:nvSpPr>
              <p:cNvPr id="257" name=""/>
              <p:cNvSpPr/>
              <p:nvPr/>
            </p:nvSpPr>
            <p:spPr>
              <a:xfrm>
                <a:off x="5043600" y="506880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8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029200" y="5059440"/>
                <a:ext cx="114228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171840" y="5059440"/>
              <a:ext cx="1142640" cy="599760"/>
              <a:chOff x="6171840" y="5059440"/>
              <a:chExt cx="1142640" cy="599760"/>
            </a:xfrm>
          </p:grpSpPr>
          <p:sp>
            <p:nvSpPr>
              <p:cNvPr id="260" name=""/>
              <p:cNvSpPr/>
              <p:nvPr/>
            </p:nvSpPr>
            <p:spPr>
              <a:xfrm>
                <a:off x="6186960" y="5068800"/>
                <a:ext cx="11120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171840" y="5059440"/>
                <a:ext cx="114264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7315200" y="5059440"/>
              <a:ext cx="1142280" cy="599760"/>
              <a:chOff x="7315200" y="5059440"/>
              <a:chExt cx="1142280" cy="599760"/>
            </a:xfrm>
          </p:grpSpPr>
          <p:sp>
            <p:nvSpPr>
              <p:cNvPr id="263" name=""/>
              <p:cNvSpPr/>
              <p:nvPr/>
            </p:nvSpPr>
            <p:spPr>
              <a:xfrm>
                <a:off x="7329600" y="5068800"/>
                <a:ext cx="1113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8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315200" y="5059440"/>
                <a:ext cx="1142280" cy="59976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457200" y="5668920"/>
              <a:ext cx="1142280" cy="600120"/>
              <a:chOff x="457200" y="5668920"/>
              <a:chExt cx="1142280" cy="600120"/>
            </a:xfrm>
          </p:grpSpPr>
          <p:sp>
            <p:nvSpPr>
              <p:cNvPr id="266" name=""/>
              <p:cNvSpPr/>
              <p:nvPr/>
            </p:nvSpPr>
            <p:spPr>
              <a:xfrm>
                <a:off x="471600" y="5678280"/>
                <a:ext cx="11131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7200" y="566892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599840" y="5668920"/>
              <a:ext cx="1142640" cy="600120"/>
              <a:chOff x="1599840" y="5668920"/>
              <a:chExt cx="1142640" cy="600120"/>
            </a:xfrm>
          </p:grpSpPr>
          <p:sp>
            <p:nvSpPr>
              <p:cNvPr id="269" name=""/>
              <p:cNvSpPr/>
              <p:nvPr/>
            </p:nvSpPr>
            <p:spPr>
              <a:xfrm>
                <a:off x="1614960" y="5678280"/>
                <a:ext cx="111204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599840" y="566892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2743200" y="5668920"/>
              <a:ext cx="1142280" cy="600120"/>
              <a:chOff x="2743200" y="5668920"/>
              <a:chExt cx="1142280" cy="600120"/>
            </a:xfrm>
          </p:grpSpPr>
          <p:sp>
            <p:nvSpPr>
              <p:cNvPr id="272" name=""/>
              <p:cNvSpPr/>
              <p:nvPr/>
            </p:nvSpPr>
            <p:spPr>
              <a:xfrm>
                <a:off x="2757600" y="5678280"/>
                <a:ext cx="11131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9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43200" y="566892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885840" y="5668920"/>
              <a:ext cx="1142640" cy="600120"/>
              <a:chOff x="3885840" y="5668920"/>
              <a:chExt cx="1142640" cy="600120"/>
            </a:xfrm>
          </p:grpSpPr>
          <p:sp>
            <p:nvSpPr>
              <p:cNvPr id="275" name=""/>
              <p:cNvSpPr/>
              <p:nvPr/>
            </p:nvSpPr>
            <p:spPr>
              <a:xfrm>
                <a:off x="3900960" y="5678280"/>
                <a:ext cx="111204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4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85840" y="566892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5029200" y="5668920"/>
              <a:ext cx="1142280" cy="600120"/>
              <a:chOff x="5029200" y="5668920"/>
              <a:chExt cx="1142280" cy="600120"/>
            </a:xfrm>
          </p:grpSpPr>
          <p:sp>
            <p:nvSpPr>
              <p:cNvPr id="278" name=""/>
              <p:cNvSpPr/>
              <p:nvPr/>
            </p:nvSpPr>
            <p:spPr>
              <a:xfrm>
                <a:off x="5043600" y="5678280"/>
                <a:ext cx="11131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12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29200" y="566892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171840" y="5668920"/>
              <a:ext cx="1142640" cy="600120"/>
              <a:chOff x="6171840" y="5668920"/>
              <a:chExt cx="1142640" cy="60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6186960" y="5678280"/>
                <a:ext cx="111204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8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171840" y="5668920"/>
                <a:ext cx="114264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7315200" y="5668920"/>
              <a:ext cx="1142280" cy="600120"/>
              <a:chOff x="7315200" y="5668920"/>
              <a:chExt cx="1142280" cy="600120"/>
            </a:xfrm>
          </p:grpSpPr>
          <p:sp>
            <p:nvSpPr>
              <p:cNvPr id="284" name=""/>
              <p:cNvSpPr/>
              <p:nvPr/>
            </p:nvSpPr>
            <p:spPr>
              <a:xfrm>
                <a:off x="7329600" y="5678280"/>
                <a:ext cx="11131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Tahoma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315200" y="5668920"/>
                <a:ext cx="1142280" cy="60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ahoma"/>
              </a:rPr>
              <a:t>Função objetivo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Consiste na obtenção da menor distância das arestas do polígono formado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Ex:  dist (0,1) = 1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dist (0,2) = 9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dist (2,3) = 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Tahoma"/>
              </a:rPr>
              <a:t>Menor distância = 5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efinando a solução – Simulated Anneal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Gera um vizinho qualquer 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eaeaea"/>
                </a:solidFill>
                <a:latin typeface="Tahoma"/>
              </a:rPr>
              <a:t>Troca de posição de dois elemento quaisquer do vetor soluçã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ahoma"/>
              </a:rPr>
              <a:t>Ex:</a:t>
            </a:r>
            <a:r>
              <a:rPr b="0" lang="pt-BR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ahoma"/>
              </a:rPr>
              <a:t>s = [1 1 1 0 0 0]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ahoma"/>
              </a:rPr>
              <a:t>s’= [1 0 1 1 0 0]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Calcula a função objetiv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Verifica se   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f(s’) &gt; f(s) </a:t>
            </a: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se verdadeiro f(s) &lt;- f(s’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3T19:02:01Z</dcterms:created>
  <dc:creator>Fabrício Lacerda Biajoli</dc:creator>
  <dc:description/>
  <dc:language>en-US</dc:language>
  <cp:lastModifiedBy>Luciana</cp:lastModifiedBy>
  <dcterms:modified xsi:type="dcterms:W3CDTF">2005-02-17T22:06:34Z</dcterms:modified>
  <cp:revision>18</cp:revision>
  <dc:subject/>
  <dc:title>Apresentação do PowerPoint</dc:title>
</cp:coreProperties>
</file>