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27E-FD43-4F97-A002-7155DE27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4DD8-2FB1-41B3-A79A-56A96F7F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7AB-D6D7-49A9-95B3-0CAB54AE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FC6-8760-4EEA-9F68-328C4AA4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B9DF-CF10-4DAD-81F2-4E5716F9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0A9E-D12A-4849-8871-92AA343F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EA1D-A055-4106-AC30-6C267A52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C61D-C9C5-4015-A584-0F8DABF2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3C3C-41EB-413C-AA84-3C940996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7517-4B6F-4358-914B-F1892C77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390A-D8D9-479E-B710-FE374B2E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37F-3283-4F65-B577-986595E6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EE6B-317B-452F-8623-B6F9FF28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AED9-960A-4A5B-93FD-E3EEEDAD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FB46-CD51-4E29-8B40-A925F580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6D55-9E23-4934-A55E-C181EDA9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EF30-A662-461D-B898-332BD466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05B-C9F2-4D64-8D7C-EB367F92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D9A1-8392-4B6C-8254-50EE481B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C04-9747-4B43-9B6C-ACCD2272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F59-04C9-4955-AC75-4A95613A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8B0-F8AE-4583-8EE0-ADCC00E0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F4A-8454-4F9B-81B7-9BFB7815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D20-3801-4F56-BC95-9F0E9210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2404-90FE-48EE-8DF6-0373F168285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1E44-07F2-4FC1-BCE9-4C7486DA708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abalho d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teligência Computa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87280" y="306828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"/>
              </a:rPr>
              <a:t>O Problema da K-dispersã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"/>
              </a:rPr>
              <a:t>Com Algoritmos Genético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"/>
              </a:rPr>
              <a:t>Pablo Peron de Paul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"/>
              </a:rPr>
              <a:t>Lucas Reis Cost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busca de uma melhor solução por algoritmos genéticos mostrou-se eficiente em encontrar boas alternativas de cidades.  Apesar de não termos um exemplo na literatura para testarmos a eficiência do Algoritmo, percebemos que altos níveis de probabilidade de mutação, e equilíbrio entre o n° de indivíduos e número de gerações refinam a solução de forma mais eficien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crição do Proble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 Problema da K-dispersão consiste em selecionar k pontos dentre n possíveis candidatos, de forma que a distancia mínima entre eles seja maximizada. Portanto, o problema consiste em dispersar ao máximo esses pon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plicação da K-dispers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ocação de agentes competitivo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ribuição de depósitos de lixo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oração de madeira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alações militare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lização de depósitos de combustívei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ro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bordagem do PKD por Algoritmos Genétic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olução Inicia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solução inicial é construída gerando aleatoriamente vetores de soluções viáveis, de acordo com o número </a:t>
            </a:r>
            <a:r>
              <a:rPr b="0" i="1" lang="pt-BR" sz="28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de cidades escolhidas. Gera-se inicialmente </a:t>
            </a:r>
            <a:r>
              <a:rPr b="0" i="1" lang="pt-BR" sz="2800" spc="-1" strike="noStrike">
                <a:solidFill>
                  <a:srgbClr val="003366"/>
                </a:solidFill>
                <a:latin typeface="Arial"/>
              </a:rPr>
              <a:t>n/2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vetores indivíduos, sendo </a:t>
            </a:r>
            <a:r>
              <a:rPr b="0" i="1" lang="pt-BR" sz="28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o número total da populaçã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Abordagem do PKD por Algoritmos Genétic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partir dessa população inicial, fazemos cruzamentos do tipo </a:t>
            </a:r>
            <a:r>
              <a:rPr b="0" i="1" lang="pt-BR" sz="2800" spc="-1" strike="noStrike">
                <a:solidFill>
                  <a:srgbClr val="003366"/>
                </a:solidFill>
                <a:latin typeface="Arial"/>
              </a:rPr>
              <a:t>crossover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entre estas soluções criando uma nova geração de filhos, que é sujeita à uma probabilidade de mutação (troca de um bit), que então é submetida à avaliação de inviabilidade e ajustada se necessári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Abordagem do PKD por Algoritmos Genétic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ssa nova população é avaliada e guardamos o indivíduo com maior distância mínima. Depois são selecionados os novos pais pelo método da Roleta Russa, no qual indivíduos com maior distância mínima têm mais chance de sobreviver. A população sobrevivente substitui a população original, e é submetida ao mesmo programa evolutivo até que o critério de parada sejam atingidos, o qual escolhemos ser um dado número de geraçõe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Abordagem do PKD por Algoritmos Genétic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3068640"/>
            <a:ext cx="76932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ara a busca de melhores soluções, rodamos o algoritmo varias com parâmetros de n° de indivíduos da população, probabilidade de </a:t>
            </a:r>
            <a:r>
              <a:rPr b="0" i="1" lang="pt-BR" sz="2800" spc="-1" strike="noStrike">
                <a:solidFill>
                  <a:srgbClr val="003366"/>
                </a:solidFill>
                <a:latin typeface="Arial"/>
              </a:rPr>
              <a:t>crossover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, probabilidade de de mutação, e n° de gerações aleatórios e avaliamos resultados gerados por grupos de parâmetr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ados Obt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ultilização de algorítmo genético para a resolução do PKD nos retornou uma solução razoavelmente boa, como podemos observar pela representação no mapa da regiã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929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84400" y="2008080"/>
            <a:ext cx="333360" cy="405000"/>
          </a:xfrm>
          <a:prstGeom prst="ellipse">
            <a:avLst/>
          </a:prstGeom>
          <a:noFill/>
          <a:ln w="101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692280"/>
            <a:ext cx="360360" cy="358560"/>
          </a:xfrm>
          <a:prstGeom prst="ellipse">
            <a:avLst/>
          </a:prstGeom>
          <a:noFill/>
          <a:ln w="101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14680" y="2925720"/>
            <a:ext cx="360360" cy="358920"/>
          </a:xfrm>
          <a:prstGeom prst="ellipse">
            <a:avLst/>
          </a:prstGeom>
          <a:noFill/>
          <a:ln w="101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8480" y="817560"/>
            <a:ext cx="360360" cy="358920"/>
          </a:xfrm>
          <a:prstGeom prst="ellipse">
            <a:avLst/>
          </a:prstGeom>
          <a:noFill/>
          <a:ln w="101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26560" y="4830840"/>
            <a:ext cx="360360" cy="358560"/>
          </a:xfrm>
          <a:prstGeom prst="ellipse">
            <a:avLst/>
          </a:prstGeom>
          <a:noFill/>
          <a:ln w="101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19:33:39Z</dcterms:created>
  <dc:creator>Marreku</dc:creator>
  <dc:description/>
  <dc:language>en-US</dc:language>
  <cp:lastModifiedBy>COM0314168</cp:lastModifiedBy>
  <dcterms:modified xsi:type="dcterms:W3CDTF">2003-12-17T22:06:52Z</dcterms:modified>
  <cp:revision>15</cp:revision>
  <dc:subject/>
  <dc:title>Trabalho de  Otimização Combinatória</dc:title>
</cp:coreProperties>
</file>