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F3B-3BDB-4025-91F9-2142C9AE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B30-0808-440D-AF6D-4AFD2D2F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9E1-2A1E-481B-8E52-F1FEB779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F2E-7C56-499B-A3E6-16B8DCEA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CFEE-FC79-4E89-A5FC-F183E919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51C5-D2A5-4AA3-9FD3-E3DB740E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0145-7D23-4270-853C-CE5C90F8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D28F-4112-4CE2-AEEC-34002F28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2A24-6B63-4E7A-B4DC-75517A12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A5AB-2BBB-411A-8A4D-B03CF256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0478-070E-42DE-9B3B-DA5483AC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E48-BC66-49EB-A3AC-128C280B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783E-5621-4493-934B-3993743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6BBF-DB43-40C2-8F85-E4A2BA9C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534A-7F02-425C-A558-F9B542B5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6090-92B3-4838-8B68-89B64951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DA28-868A-4AC9-8109-28E43926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517-CAA2-4F63-B514-150C9628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66A-A372-4AF4-B824-B5332E21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098-C0BE-4F9F-881E-10139500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663-EF38-45D3-9D93-0FB6CE56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3F8-BC4B-43D3-A90F-360758A7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4A4-EB3D-442B-BD9F-F02868B4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CEE-6895-4A0D-97E2-BF30DCE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B72F-4F2B-4DA8-9531-43D87AD96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F6EC-CB70-48D4-885F-6B64FD1B3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eligência Computacional 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ra Otimização 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Bin Packing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rnanda Sumika Hojo de Sou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go Henrique Br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viane de Souza Coelh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ulated Anneal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 Inviabilid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45800"/>
            <a:ext cx="80773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lha no campo das soluções viáveis e inviáveis sendo que estas últimas são aceitas de acordo com uma certa probabi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unção Objetiv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 = (nº de disquetes utilizados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º mínimo de disquetes) +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enalidade *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inviabilida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ultado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i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testes foram feitos utilizando um total d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quivos de tamanhos aleatórios. Aplicando-se a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erentes técnica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am obtidos os seguintes resul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t-BR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arquivos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t-BR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áximo de disquet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t-BR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ínimo de disquete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ultado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i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1219320"/>
          <a:ext cx="8305560" cy="5297400"/>
        </p:xfrm>
        <a:graphic>
          <a:graphicData uri="http://schemas.openxmlformats.org/drawingml/2006/table">
            <a:tbl>
              <a:tblPr/>
              <a:tblGrid>
                <a:gridCol w="2133360"/>
                <a:gridCol w="2590920"/>
                <a:gridCol w="1676520"/>
                <a:gridCol w="1904760"/>
              </a:tblGrid>
              <a:tr h="105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Método aplic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Melhor solução obtida (n</a:t>
                      </a:r>
                      <a:r>
                        <a:rPr b="1" lang="en-US" sz="2800" spc="-1" strike="noStrike" baseline="30000">
                          <a:solidFill>
                            <a:srgbClr val="ff99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 disq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Tempo de C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No de sol. avaliad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F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~ 1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F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~ 1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 sem inviabil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93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 com inviabil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93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obtid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Annealing com invia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62120" y="1846440"/>
          <a:ext cx="4368600" cy="5011560"/>
        </p:xfrm>
        <a:graphic>
          <a:graphicData uri="http://schemas.openxmlformats.org/drawingml/2006/table">
            <a:tbl>
              <a:tblPr/>
              <a:tblGrid>
                <a:gridCol w="2184120"/>
                <a:gridCol w="2184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638680" y="2362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905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_star =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_star =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_melhor_obtido = 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_medio = 25,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vio = (fo_medio - fo_star) / fo_star * 1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(25,8 - 24) / 25,8 * 100 = 6,98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obtid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99072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Annealing com invia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ção do Probl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do um conjunto de n arquivos, com tamanhos t</a:t>
            </a:r>
            <a:r>
              <a:rPr b="0" lang="pt-BR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i = 1...n associados a eles, o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 Packing Problem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iste em arranjá-los no menor número de disquetes possí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disquetes possuem capacidade b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age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quiv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man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Índ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quet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a de Arqu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úmero de Arqu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aço total ocup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743200"/>
            <a:ext cx="685800" cy="6094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962520"/>
            <a:ext cx="685800" cy="6094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572000"/>
            <a:ext cx="685800" cy="6094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5181480"/>
            <a:ext cx="685800" cy="6098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791320"/>
            <a:ext cx="685800" cy="6094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352680"/>
            <a:ext cx="685800" cy="6098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30481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8954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30481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28954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30481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8954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0481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28954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048120"/>
            <a:ext cx="4572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28954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0481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876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724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876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724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4876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4724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876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4724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876920"/>
            <a:ext cx="4572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4724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487692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48769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50292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5105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6019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867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6019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867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601992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0199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61722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6248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426708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114800"/>
            <a:ext cx="457200" cy="3808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426708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4114800"/>
            <a:ext cx="457200" cy="3808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426708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114800"/>
            <a:ext cx="457200" cy="3808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57400" y="3657600"/>
            <a:ext cx="457200" cy="228600"/>
            <a:chOff x="2057400" y="3657600"/>
            <a:chExt cx="457200" cy="228600"/>
          </a:xfrm>
        </p:grpSpPr>
        <p:sp>
          <p:nvSpPr>
            <p:cNvPr id="148" name=""/>
            <p:cNvSpPr/>
            <p:nvPr/>
          </p:nvSpPr>
          <p:spPr>
            <a:xfrm>
              <a:off x="2057400" y="3657600"/>
              <a:ext cx="304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2320" y="365760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10040" y="3809880"/>
              <a:ext cx="304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3886200"/>
              <a:ext cx="1526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057400" y="5486400"/>
            <a:ext cx="457200" cy="228600"/>
            <a:chOff x="2057400" y="5486400"/>
            <a:chExt cx="457200" cy="228600"/>
          </a:xfrm>
        </p:grpSpPr>
        <p:sp>
          <p:nvSpPr>
            <p:cNvPr id="153" name=""/>
            <p:cNvSpPr/>
            <p:nvPr/>
          </p:nvSpPr>
          <p:spPr>
            <a:xfrm>
              <a:off x="2057400" y="5486400"/>
              <a:ext cx="304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548640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10040" y="5638680"/>
              <a:ext cx="304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86000" y="5715000"/>
              <a:ext cx="1526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00600" y="4267080"/>
            <a:ext cx="457200" cy="228600"/>
            <a:chOff x="4800600" y="4267080"/>
            <a:chExt cx="457200" cy="228600"/>
          </a:xfrm>
        </p:grpSpPr>
        <p:sp>
          <p:nvSpPr>
            <p:cNvPr id="158" name=""/>
            <p:cNvSpPr/>
            <p:nvPr/>
          </p:nvSpPr>
          <p:spPr>
            <a:xfrm>
              <a:off x="4800600" y="4267080"/>
              <a:ext cx="304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520" y="426708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3240" y="4419360"/>
              <a:ext cx="304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495680"/>
              <a:ext cx="1526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90720" y="1219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ção: Vetor de Disque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209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qu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286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2209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qu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ções Aplicad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uríst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construtiv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-Fit Decreasing (FF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-Fit Decreasing (BFD)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heurístic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Anneal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 Invia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Anneal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 Invia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-Fit Decreasing (FF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todo gul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n itens são ordenados e tomados em ordem decrescente de tamanh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nenhum dos disquetes já utilizados tiver capacidade suficiente para acomodar o arquivo, um novo disquete é usado. Caso contrário, o arquivo é colocado no primeiro disquete com capacidade disponí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st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Fit Decreasing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641600"/>
            <a:ext cx="80773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todo gul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n itens são ordenados e tomados em ordem decrescente de tamanh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nenhum dos disquetes já utilizados tiver capacidade suficiente para acomodar o arquivo, um novo disquete é usado. Caso contrário, o arquivo é coloca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quete mais cheio mas que tenha espaço suficiente para armazenar o arqui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ulated Annea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1532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ment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atoriamente escolhe-se um disquete de orig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e disquete, escolhe-se um arqu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ro disquete, diferente da orig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então escolhido para ser o desti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arquivo escolhido é retirado do disquete de origem e inserido no disquete de desti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09120" y="1945800"/>
            <a:ext cx="807732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lha somente no campo das soluções viáve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unção objetiv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 = (nº de disquetes utilizados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º mínimo de disque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ulated Anneal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em Inviabilid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3:54:58Z</dcterms:created>
  <dc:creator>Decom1</dc:creator>
  <dc:description/>
  <dc:language>en-US</dc:language>
  <cp:lastModifiedBy>Decom1</cp:lastModifiedBy>
  <dcterms:modified xsi:type="dcterms:W3CDTF">2003-02-19T11:16:19Z</dcterms:modified>
  <cp:revision>13</cp:revision>
  <dc:subject/>
  <dc:title>Inteligência Computacional  para Otimização    Bin Packing Problem</dc:title>
</cp:coreProperties>
</file>