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B76-FF10-4C16-A86A-06137D7F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C42-867F-495B-8E9F-A68BDC73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8EC-6480-41FF-AE75-2FD8093E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8D8-B69C-4C0F-9007-B3DAEE31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D066-A916-4E4D-B523-A7566C1A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7CA4-F962-42E1-88A1-ACE53265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95C4-4642-4A73-8D5A-A16FAB3D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2A4B-E587-453D-8283-3E4D392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7F7D-7676-4701-A23C-C9614D8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5976-152E-4C58-B659-10BFAFAF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5B84-922D-41F8-AC80-1D02495B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610-CEFE-4A23-8C56-ADC40DD5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4CCE-B87F-4675-AE7A-0C9EF16F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A23C-951B-4E34-AF27-90D9FC6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21F2-C25D-43CB-9452-CD09D1CF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D482-76CF-4310-AECF-54D1268A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9A08-9201-4722-9CA4-FE0B23AC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054-C0C4-4D8D-AA4F-4F078EEF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336-177F-4F66-9C19-4A8CB8C4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E29-BB1C-42E7-9EDB-65E40357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FE3-8936-4740-8C4A-FEAD732B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2D9-185C-461E-90C9-4DBDECF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248-7DF4-4D0F-8E94-336DD84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BB3-044E-4CE0-80B3-48635D0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8624-93CF-4E1C-A450-9B840C26CA0D}" type="slidenum"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057-86A5-47F9-ADAC-155352843AE6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Alocação de processos a computadores em uma rede em anel lógico utilizando Busca Tabu</a:t>
            </a:r>
            <a:r>
              <a:rPr b="1" lang="pt-BR" sz="4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duardo Magno Lages Figueire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&lt; emagno@iceb.ufop.br &gt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ibele Esteves Ram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&lt; sibele.ramos@bol.com.br &gt;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6840" y="0"/>
            <a:ext cx="51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Universidade Federal de Ouro Pre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Instituto de Ciências Exatas e Biológ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Departamento d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COM272 – Inteligência Comput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8320" y="2286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1280" y="45720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40120" y="2286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4640" y="61722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13640" y="6172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40120" y="28954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2000" y="3886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8320" y="2286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1280" y="45720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0120" y="2286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6440" y="39625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6800" y="46483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40120" y="28954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2000" y="3886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27920" y="586728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erá que esta é a melhor solução ??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Redução ao problema da mochila</a:t>
            </a:r>
            <a:r>
              <a:rPr b="1" lang="pt-BR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0032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da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ocess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b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é um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da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putador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C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é uma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chila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s objetos possuem um peso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que é o consumo de recursos computacionais e um benefício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que é a taxa de utilização da red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s mochilas possuem uma capacidade que é o desempenho do computa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Redução ao problema da mochila</a:t>
            </a:r>
            <a:r>
              <a:rPr b="1" lang="pt-BR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7432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ste problema, não há apenas uma mochila. ( cada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C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é uma 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dos os objetos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b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devem ser alocados a alguma das mochilas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ste  problema o objetivo não é conseguir o maior benefício possível, e sim distribuir de forma o mais igualitária possível os benefícios entre as mochil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Modelagem Matemá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19810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a solução é um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ray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de inteiros com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osições, onde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é o numero de processos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b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da posição representa um processo e o conteúdo da posição diz a qual computador este processo está alocado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a solução: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[1 – 2 – 2 – 3 – 3 – 4 – 4]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 movimento um optimal (1-opt) é alocar um processo a outro computador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 vizinho da solução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’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[2 – 2 – 2 – 3 – 3 – 4 – 4]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Modelagem Matemá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1828800"/>
            <a:ext cx="8763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cálculo de f(s) para este problema é dividido em duas partes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(s) = </a:t>
            </a:r>
            <a:r>
              <a:rPr b="0" lang="pt-BR" sz="2400" spc="-1" strike="noStrike">
                <a:solidFill>
                  <a:srgbClr val="eaeaea"/>
                </a:solidFill>
                <a:latin typeface="Symbol"/>
                <a:ea typeface="Symbol"/>
              </a:rPr>
              <a:t>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f1(m) + f2(s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soma de pesos &lt;= capacidade PC (w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1(m) = MEDIAPENAL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w &lt; soma de pesos &lt;= 1,5 * 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XPENAL           se soma de pesos &gt; 1,5 *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2(s) = maxLan – minL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XPENAL e MEDIAPENAL são parâmetros do problema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xLan é o valor de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do computador que possui maior acesso à rede e minLan o que possui o menor acess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0972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Dados do Algoritmo</a:t>
            </a: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972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2368440"/>
            <a:ext cx="8153280" cy="4117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amanh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eração s/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unçã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tal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ista Tabu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lhora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iv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eraç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6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7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9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5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20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22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7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58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83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9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7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46200" y="1523880"/>
            <a:ext cx="62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olução Inicial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unção objetivo = </a:t>
            </a:r>
            <a:r>
              <a:rPr b="1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8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Dados do Algoritmo</a:t>
            </a: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0972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828800"/>
            <a:ext cx="4343400" cy="4483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unçã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tal d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iv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eraç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7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1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1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78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7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9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2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45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9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52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58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9080" y="1863720"/>
            <a:ext cx="3520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amanho da lista tab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o de iterações s/ melho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édia da Função Objeti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sv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,04 %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Conclusã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828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algoritmo não é muito robusto porque as soluções iniciais são geradas de forma aleatória e a Busca Tabu é fortemente dependente da solução inicial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2160" y="358128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Melhorias propostas ao algoritm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4320" y="4191120"/>
            <a:ext cx="88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9232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tilização de uma lista tabu de tamanho dinâmico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90440" indent="29232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tilização de um algoritmo para gerar uma melhor solução inicial;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75000" y="629748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Fevereiro / 200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90512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presenta-se neste trabalho um algoritmo que implementa a busca por uma boa solução a problemas combinatórios (np-difícei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problema consiste na alocação de um conjunto de processos a um conjunto de computado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is requisitos devem ser satisfeit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6483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289080" algn="just"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ão sobrecarregar nenhum computador com excesso de processos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76280" indent="-289080" algn="just"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taxa de utilização da rede deve ser uniformemente distribuída entre todos os computadores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76280" indent="-289080" algn="just"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9051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te problema descreve um sistema computacional composto de computadores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C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interligados fisicamente através de um barramento comu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71600" y="3505320"/>
            <a:ext cx="6171840" cy="1599840"/>
            <a:chOff x="1371600" y="3505320"/>
            <a:chExt cx="6171840" cy="1599840"/>
          </a:xfrm>
        </p:grpSpPr>
        <p:sp>
          <p:nvSpPr>
            <p:cNvPr id="133" name=""/>
            <p:cNvSpPr/>
            <p:nvPr/>
          </p:nvSpPr>
          <p:spPr>
            <a:xfrm>
              <a:off x="1633680" y="3505320"/>
              <a:ext cx="919440" cy="7268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9760" y="3505320"/>
              <a:ext cx="919440" cy="7268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2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85480" y="3505320"/>
              <a:ext cx="919440" cy="7268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3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61560" y="3505320"/>
              <a:ext cx="919440" cy="7268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4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5105160"/>
              <a:ext cx="6171840" cy="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71800" y="4232160"/>
              <a:ext cx="0" cy="872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9480" y="4232160"/>
              <a:ext cx="0" cy="872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5200" y="4232160"/>
              <a:ext cx="0" cy="872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2880" y="4232160"/>
              <a:ext cx="0" cy="872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8600" y="5562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o o meio de transmissão é único, apenas um dos computadores poderá enviar ou receber mensagens por vez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828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a solução para evitar colisão de mensagens enviadas por diferentes computadores é admitir que cada computador tenha seu momento de utilização da red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952880" y="3048120"/>
            <a:ext cx="3809880" cy="3200040"/>
            <a:chOff x="4952880" y="3048120"/>
            <a:chExt cx="3809880" cy="3200040"/>
          </a:xfrm>
        </p:grpSpPr>
        <p:sp>
          <p:nvSpPr>
            <p:cNvPr id="146" name=""/>
            <p:cNvSpPr/>
            <p:nvPr/>
          </p:nvSpPr>
          <p:spPr>
            <a:xfrm>
              <a:off x="6540120" y="3048120"/>
              <a:ext cx="740160" cy="499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21880" y="4348440"/>
              <a:ext cx="740880" cy="499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2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40120" y="5748480"/>
              <a:ext cx="740160" cy="499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3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4348440"/>
              <a:ext cx="740160" cy="499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4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9240" y="3647880"/>
              <a:ext cx="2116440" cy="1999800"/>
            </a:xfrm>
            <a:prstGeom prst="ellipse">
              <a:avLst/>
            </a:prstGeom>
            <a:noFill/>
            <a:ln cap="rnd" w="936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2360" y="4548240"/>
              <a:ext cx="105840" cy="100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875280" y="3664440"/>
              <a:ext cx="0" cy="9000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6513480" y="4174560"/>
              <a:ext cx="1100160" cy="1046880"/>
            </a:xfrm>
            <a:custGeom>
              <a:avLst/>
              <a:gdLst>
                <a:gd name="textAreaLeft" fmla="*/ 0 w 1100160"/>
                <a:gd name="textAreaRight" fmla="*/ 1100520 w 1100160"/>
                <a:gd name="textAreaTop" fmla="*/ 0 h 1046880"/>
                <a:gd name="textAreaBottom" fmla="*/ 1047240 h 10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04920" y="38098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sta forma, foi implementada logicamente uma topologia em anel, onde cada computador tem um tempo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para transmiss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8288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ão consideradas para o problema, as características de cada máquina que compõe o sistema computac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ra simplificar o problema, consideraremos apenas o desempenho medido em Milhões de Instruções por Segundo (MIPS), de cada um dos computad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COMP046" descr=""/>
          <p:cNvPicPr/>
          <p:nvPr/>
        </p:nvPicPr>
        <p:blipFill>
          <a:blip r:embed="rId1"/>
          <a:stretch/>
        </p:blipFill>
        <p:spPr>
          <a:xfrm>
            <a:off x="533520" y="4421160"/>
            <a:ext cx="190476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COMP005" descr=""/>
          <p:cNvPicPr/>
          <p:nvPr/>
        </p:nvPicPr>
        <p:blipFill>
          <a:blip r:embed="rId2"/>
          <a:stretch/>
        </p:blipFill>
        <p:spPr>
          <a:xfrm>
            <a:off x="3048120" y="4344840"/>
            <a:ext cx="1539720" cy="1362240"/>
          </a:xfrm>
          <a:prstGeom prst="rect">
            <a:avLst/>
          </a:prstGeom>
          <a:ln w="0">
            <a:noFill/>
          </a:ln>
        </p:spPr>
      </p:pic>
      <p:pic>
        <p:nvPicPr>
          <p:cNvPr id="159" name="COMP011" descr=""/>
          <p:cNvPicPr/>
          <p:nvPr/>
        </p:nvPicPr>
        <p:blipFill>
          <a:blip r:embed="rId3"/>
          <a:stretch/>
        </p:blipFill>
        <p:spPr>
          <a:xfrm>
            <a:off x="5105520" y="4421160"/>
            <a:ext cx="1447560" cy="1274760"/>
          </a:xfrm>
          <a:prstGeom prst="rect">
            <a:avLst/>
          </a:prstGeom>
          <a:ln w="0">
            <a:noFill/>
          </a:ln>
        </p:spPr>
      </p:pic>
      <p:pic>
        <p:nvPicPr>
          <p:cNvPr id="160" name="COMP022" descr=""/>
          <p:cNvPicPr/>
          <p:nvPr/>
        </p:nvPicPr>
        <p:blipFill>
          <a:blip r:embed="rId4"/>
          <a:stretch/>
        </p:blipFill>
        <p:spPr>
          <a:xfrm>
            <a:off x="7010280" y="4421160"/>
            <a:ext cx="1590840" cy="1265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48440" y="5908680"/>
            <a:ext cx="77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 MIP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    50 MIP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0 MIP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0 MIP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98108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emos um conjunto de processos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b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que devem ser alocados aos computado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da um destes processos consome uma quantidade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de recursos da máquina a qual for alocado. (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medido em MIPS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s processos possuem ainda uma taxa de utilização da rede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medido em Megabits por segundo (Mb/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Quando o processo for alocado a um computador, este terá uma taxa de utilização da rede definida pela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de process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320" y="5603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4600" y="61722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4640" y="5638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4640" y="61722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3640" y="6172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8360" y="5638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71040" y="56386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8320" y="2286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4600" y="61722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4640" y="5638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4640" y="61722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3640" y="6172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8360" y="5638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71040" y="56386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8320" y="2286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4600" y="61722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40120" y="2286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4640" y="61722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13640" y="6172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40120" y="28954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71040" y="56386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3:55:41Z</dcterms:created>
  <dc:creator>Administrador</dc:creator>
  <dc:description/>
  <dc:language>en-US</dc:language>
  <cp:lastModifiedBy>Decom</cp:lastModifiedBy>
  <dcterms:modified xsi:type="dcterms:W3CDTF">2003-02-19T12:34:06Z</dcterms:modified>
  <cp:revision>8</cp:revision>
  <dc:subject/>
  <dc:title>Alocação de processos a computadores em uma rede em anel lógico utilizando Busca Tabu </dc:title>
</cp:coreProperties>
</file>