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759-5E69-46F2-AFFE-1A4F645C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41B-02D4-41CE-B9A3-7AEA3B92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F4F-59C5-47D1-BADB-3E6A16E6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E18-7662-4450-984E-55A015C8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ADFC-919E-44B6-AC38-F0724EEF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DA4F-4489-43D1-B4E0-372A0A04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5E4D-0B16-4E72-8EB6-18BBD32B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481E-D481-4434-8E65-D76FD1D6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6A47-44D0-40E9-B02B-9572AF66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528E-DFE7-474D-9F27-86AA00B9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C313-8887-455F-BEDF-26799A78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F66-E260-4E4E-8004-A290425E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B861-16F4-451B-B7EB-D72F8488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444D-B9D7-44D2-B659-802357FE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96C6-D6CA-4EBC-A957-B6666B1D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72CF-9AE9-4AE2-9E45-1CE89828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76DC-853F-49BC-97BA-926AC7E1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0BB-6618-4A9A-9591-C8FC4C5D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3B8-E0D9-412A-ADE4-11525700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36D-E2CD-417C-B392-74A82EF6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BDE2-4BC7-4A91-BA35-EBD69F81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9CF-C8DD-47B2-B54B-4FC36DCB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1BF-761E-460F-975D-2390E95D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2E2-0A96-4D4A-B9B4-33F0A281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24C0-C02B-43FC-B1D4-B2B0521F16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5181-C6BA-4C13-AE0A-5FE6355402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1342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ff"/>
                </a:solidFill>
                <a:latin typeface="Arial"/>
              </a:rPr>
              <a:t>Alocação de Salas</a:t>
            </a:r>
            <a:br>
              <a:rPr sz="6600"/>
            </a:b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Via Simulated Anneal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716360" y="5516640"/>
            <a:ext cx="41371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ecff"/>
                </a:solidFill>
                <a:latin typeface="Arial"/>
              </a:rPr>
              <a:t>Daniela Leal de Barce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ecff"/>
                </a:solidFill>
                <a:latin typeface="Arial"/>
              </a:rPr>
              <a:t>Elayne Ferreira de Sou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Modelagem do proble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ecff"/>
                </a:solidFill>
                <a:latin typeface="Arial"/>
              </a:rPr>
              <a:t>Representação</a:t>
            </a: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A soluções inicial e final do problema são representadas por matrizes com 91 linhas e 8 colunas, onde as linhas representam os horários disponíveis e as colunas representam as salas. São definidas, respectivamente co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tabelaS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tabelaSstar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Vizinhanç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É considerada um vizinho da solução corrente, a solução criada através dos movimentos de troca e alocação, on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roca corresponde a inserção de um determinado elemento em uma posição vaz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locação corresponde a trocar a(s) sala(s) de uma turma por outra sala vazia no mesmo horá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Função objetiv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 função objetivo consiste no valor das penalidades referentes a não cumprimento de um requisi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É considerado essencial o fato de uma sala não poder ter sobrecarga de alunos. Caso isso ocorra, é gerada uma inviabilidade na solu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Função objetiv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utra penalidade que pode ser calculada é o fato de haver ociosidade de carteiras. Neste caso, o valor adicional à função objetiva será 1 e inviabilidades não serão ge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Função objetiv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O cálculo da função objetivo é representado através do somatório de todas as penalidades sofr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Sendo pexcesso a penalidade por excesso e pociosidade, a penalidade por ociosidade, tem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Courier New"/>
                <a:ea typeface="Times New Roman"/>
              </a:rPr>
              <a:t>int fo = ∑</a:t>
            </a:r>
            <a:r>
              <a:rPr b="0" lang="pt-BR" sz="2800" spc="-1" strike="noStrike">
                <a:solidFill>
                  <a:srgbClr val="ccecff"/>
                </a:solidFill>
                <a:latin typeface="Courier New"/>
              </a:rPr>
              <a:t>(pexcesso + pocisida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Solução inici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ão escolhidos, aleatoriamente, uma sala e um horário. Caso neste instante esta sala já esteja ocupada, uma nova escolha aleatória é efetuad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É usada neste caso uma semente igual a 1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Solução fi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É gerada utilizando o método de </a:t>
            </a:r>
            <a:r>
              <a:rPr b="0" lang="pt-BR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Simulated Annealing</a:t>
            </a: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 com os seguintes parâmetr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Número Máximo de iterações em uma dada temperatura – 50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Temperatura Inicial – obtida através de uma função auto-adaptativ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Coeficiente de resfriamento – 0,99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Solução fi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79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9640" indent="-181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O valor final da função objetivo é representada pelo menor valor das fo’s de todas as soluções encont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ccff"/>
                </a:solidFill>
                <a:latin typeface="Arial"/>
              </a:rPr>
              <a:t>Resultados Computacionai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14680" y="2093760"/>
            <a:ext cx="57150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Os resultados obtidos com a utilização do método </a:t>
            </a:r>
            <a:r>
              <a:rPr b="0" lang="pt-BR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Simulated Annealing</a:t>
            </a: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  foram satisfatórios. Porém, poderia ser interessante refinar a solução final deste problema utilizando uma outra metaheurística. Essa etapa ajustaria ainda mais as aulas às salas disponíve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Simulated Anneal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Proposto por Kirkpatrick et al. (198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Simula o processo de recozimento de materi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Admite soluções de piora para escapar de ótimos loc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Técnica de pesquisa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Sobre o problema: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O problema de alocação de salas (PAS) diz respeito à distribuição de aulas, com horários previamente estabelecidos, a salas, respeitando-se um conjunto de restrições de várias naturezas (Schaefer 1999).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Descrição do problema em questã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blema fictício com os seguintes atribu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Número de salas  - 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endo 7 reais e uma vir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Número de horários – 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7 horários de segunda a sexta-feira e 5 horários aos sáb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Descrição do problema em questã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pacidade das Sa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00000" y="3284640"/>
          <a:ext cx="7283520" cy="2232000"/>
        </p:xfrm>
        <a:graphic>
          <a:graphicData uri="http://schemas.openxmlformats.org/drawingml/2006/table">
            <a:tbl>
              <a:tblPr/>
              <a:tblGrid>
                <a:gridCol w="1295280"/>
                <a:gridCol w="1260000"/>
                <a:gridCol w="736560"/>
                <a:gridCol w="629640"/>
                <a:gridCol w="735840"/>
                <a:gridCol w="736200"/>
                <a:gridCol w="629280"/>
                <a:gridCol w="631080"/>
                <a:gridCol w="629640"/>
              </a:tblGrid>
              <a:tr h="103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Sa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virt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1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5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6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7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apa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Descrição do problema em questã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Número de aulas  -  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endo 7 reais e uma virt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da aula tem como característic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igla que representa o departamento do qual faz par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ódigo da disciplin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ódigo da turma matriculad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Descrição do problema em questã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dicador se a aula é teórica ou prátic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Dias em que é disponibilizad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Horário de início e fi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Demanda da turm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emanalmente, o número de aulas de uma certa disciplina é de no máximo 6 horári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Descrição do problema em questã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stri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Uma sala não pode ser alocada para uma turma maior que sua capacida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Uma aula deve ser dada em, no máximo, 3 dias durante a seman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Descrição do problema em questã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Uma turma não pode ocupar mais de uma sala em um mesmo intervalo de horári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vitar a ociosidade de carteiras em uma sal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Uma mesma sala não pode ser ocupada por mais de uma turma ao mesmo t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1T22:21:44Z</dcterms:created>
  <dc:creator>com0314124</dc:creator>
  <dc:description/>
  <dc:language>en-US</dc:language>
  <cp:lastModifiedBy>com0314117</cp:lastModifiedBy>
  <dcterms:modified xsi:type="dcterms:W3CDTF">2005-02-18T12:42:42Z</dcterms:modified>
  <cp:revision>12</cp:revision>
  <dc:subject/>
  <dc:title>Alocação de Salas utilizando  Simulated Annealing</dc:title>
</cp:coreProperties>
</file>