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CB68-4B87-4F0D-A640-05C9265EF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7CC8-E906-46C0-9E10-3091E444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3C37-3754-418B-ABBC-57F6680B4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1988-B6AF-42FE-B453-D42F2BD1D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1D09-EE6C-4DE7-8171-7879AB9E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477E-6C34-44C9-8809-F4A3C23E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85FD-C470-4421-9F30-6CE6A46C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1CB2-BDDE-4325-AF3E-F49F695A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E8B7-1EA4-42CC-8601-AB8128CD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924E-1D82-4267-A57B-946CBE09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3398-439B-43C5-8E85-F74D6EDC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7E6E-3955-4C12-9843-C0C390DE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7574-AB9B-4EF7-AE52-C642EA245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1204920"/>
            <a:ext cx="6438960" cy="244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Problema de Alocação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de Jogos do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Campeonato Brasileir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1374840" y="4456080"/>
            <a:ext cx="445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Grupo: Antônio Augusto Ch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Fabrício Lacerda Biaj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Otávio Massashi 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teste" descr=""/>
          <p:cNvPicPr/>
          <p:nvPr/>
        </p:nvPicPr>
        <p:blipFill>
          <a:blip r:embed="rId2"/>
          <a:stretch/>
        </p:blipFill>
        <p:spPr>
          <a:xfrm>
            <a:off x="6095880" y="4025880"/>
            <a:ext cx="196848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752480"/>
            <a:ext cx="8610840" cy="45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Um jogo é representado como um registr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TJogo =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t1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t2 : integ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A tabela de solução é do tipo Jogos X Rodadas preenchida com campos do tipo TJog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Tabela: array[1..13,1..29] of TJog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3640" y="473040"/>
            <a:ext cx="61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MPLEMEN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3640" y="47304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ÉTODO UTI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6720" y="1749600"/>
            <a:ext cx="8595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Foi utilizado o Simulated Annealing para a resolução do probl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Como funcion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Parâmetr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Eficiênci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4720" y="82440"/>
            <a:ext cx="839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sultados apresentados pela Tabela Oficial do Campeonato Brasileiro de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5800" y="1832040"/>
            <a:ext cx="85312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unção Objetivo: </a:t>
            </a:r>
            <a:r>
              <a:rPr b="1" lang="en-US" sz="2800" spc="-1" strike="noStrike">
                <a:solidFill>
                  <a:srgbClr val="fb660b"/>
                </a:solidFill>
                <a:latin typeface="Times New Roman"/>
              </a:rPr>
              <a:t>80.613.55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stância Total Percorrida: </a:t>
            </a:r>
            <a:r>
              <a:rPr b="1" lang="en-US" sz="2800" spc="-1" strike="noStrike">
                <a:solidFill>
                  <a:srgbClr val="fb660b"/>
                </a:solidFill>
                <a:latin typeface="Times New Roman"/>
              </a:rPr>
              <a:t>613.556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. de Times que jogaram mais de uma vez na mesma rodada: </a:t>
            </a:r>
            <a:r>
              <a:rPr b="1" lang="en-US" sz="2800" spc="-1" strike="noStrike">
                <a:solidFill>
                  <a:srgbClr val="fb660b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. de Times que jogaram mais de duas vezes consecutivas fora de casa: </a:t>
            </a:r>
            <a:r>
              <a:rPr b="1" lang="en-US" sz="2800" spc="-1" strike="noStrike">
                <a:solidFill>
                  <a:srgbClr val="fb660b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3640" y="47304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OSSOS 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80880" y="1447920"/>
          <a:ext cx="8610840" cy="5105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447920"/>
                    <a:ext cx="8610840" cy="510516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3640" y="47304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OSSOS 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1676520"/>
            <a:ext cx="6629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empo médio de execução: ~8,5 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elhor Solução encontrada: 303.143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édia das Soluções: 340.700,3 k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svio: 11,0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ma pequena compara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20560" y="4635360"/>
          <a:ext cx="8305920" cy="1524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0560" y="4635360"/>
                    <a:ext cx="83059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3640" y="47304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NSIDERAÇÕES FI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2116080"/>
            <a:ext cx="396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xperiênci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blem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elhor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533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460520"/>
            <a:ext cx="8055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 problema consiste 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locar os jogos, montando a tabela do Campeonato Brasileiro, com o objetivo de minimizar a distância total percorrida pelos times, levando em consideração alguns requisitos, tais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m time não pode jogar mais de 1 vez na mesma rodad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-Um time não pode jogar mais de 2 vezes consecutivas fora de ca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1440" y="399960"/>
            <a:ext cx="300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650960"/>
            <a:ext cx="8229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Inicialmente temos um conjunto de 26 times, onde todos se enfrentam em turno único (único jogo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Proble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Como definir todos os jogos possíveis sem gerar repetição, levando em conta ainda o mando de camp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3640" y="473040"/>
            <a:ext cx="314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ODELAG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9200" y="14130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uponha que temos os seguintes times: Atlético, Gama, Goiás, Vasco e São Paulo; e desejamos definir todos os jogos possíveis entre e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91560" y="2959200"/>
            <a:ext cx="276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tlético X G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tlético X Goi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tlético X Va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tlético X São Pa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80880" y="3314880"/>
            <a:ext cx="250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ama X Goi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ama X Va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ama X São Pa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22640" y="518148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asco X São Pa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9800" y="4813200"/>
            <a:ext cx="249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oiás X Va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oiás X São Pa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6560" y="6048360"/>
            <a:ext cx="333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 o mando de camp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2895480"/>
            <a:ext cx="6553080" cy="2819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3640" y="473040"/>
            <a:ext cx="314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ODELAG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1800" y="1536840"/>
            <a:ext cx="8474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 problema do mando de campo nós resolvemos da seguinte manei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+ Atlético X Gama </a:t>
            </a:r>
            <a:r>
              <a:rPr b="0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Mando de campo do Atlé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tlético X Gama </a:t>
            </a:r>
            <a:r>
              <a:rPr b="0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Mando de campo do G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3640" y="473040"/>
            <a:ext cx="314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ODELAG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447920"/>
            <a:ext cx="8763120" cy="54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oram definidos dois tipos de movim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- Troca de mando de campo(trocar sinal de um jogo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roca de jogos entre rodad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ois tipos de inviabilidade foram considera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 um time joga mais de uma vez na mesma rodada (NI2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 um time joga mais de duas vezes consecutivas fora de casa (NI3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unção Objetiv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O_Star = FO + NI2*P2 + NI3*P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3640" y="473040"/>
            <a:ext cx="314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ODELAG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523880" y="2057400"/>
          <a:ext cx="6096240" cy="406404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5120" y="1209600"/>
            <a:ext cx="397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finição de uma solu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05920" y="205740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Jo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88600" y="253512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Rod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3640" y="473040"/>
            <a:ext cx="314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ODELAG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533520" y="3157560"/>
          <a:ext cx="8381880" cy="3105000"/>
        </p:xfrm>
        <a:graphic>
          <a:graphicData uri="http://schemas.openxmlformats.org/drawingml/2006/table">
            <a:tbl>
              <a:tblPr/>
              <a:tblGrid>
                <a:gridCol w="1143000"/>
                <a:gridCol w="1251000"/>
                <a:gridCol w="1198440"/>
                <a:gridCol w="1197000"/>
                <a:gridCol w="1198440"/>
                <a:gridCol w="1195560"/>
                <a:gridCol w="1198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  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3640" y="473040"/>
            <a:ext cx="61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MPLEMEN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2360" y="1447920"/>
            <a:ext cx="846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ara calcular e controlar as inviabilidades apresentadas durante a resolução do problema, foi definida a Matriz de contro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13600" y="309888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Rod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8640" y="33559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Ti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3657600"/>
            <a:ext cx="0" cy="259092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05320" y="3657600"/>
            <a:ext cx="0" cy="259092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3657600"/>
            <a:ext cx="0" cy="259092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43600" y="3657600"/>
            <a:ext cx="0" cy="259092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12160" y="3657600"/>
            <a:ext cx="0" cy="259092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44080" y="3657600"/>
            <a:ext cx="0" cy="259092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80880" y="1523880"/>
            <a:ext cx="8915400" cy="51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Para entrada de dados, foi utilizado um arquivo do tipo texto com a seguinte estrut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tim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time2                                       "VetorTimes: array[1..26] of string;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time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distancia time1 -&gt; tim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distancia time1 -&gt; time3        “MatDist: array[1..26,2..26] of integer;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distancia time25 -&gt; time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2666880"/>
            <a:ext cx="3733920" cy="4038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2666880"/>
            <a:ext cx="5105520" cy="4038840"/>
          </a:xfrm>
          <a:prstGeom prst="rect">
            <a:avLst/>
          </a:prstGeom>
          <a:noFill/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86200" y="4572000"/>
            <a:ext cx="510552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3640" y="473040"/>
            <a:ext cx="61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MPLEMEN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7T01:35:39Z</dcterms:created>
  <dc:creator>Guto</dc:creator>
  <dc:description/>
  <dc:language>en-US</dc:language>
  <cp:lastModifiedBy>Guto</cp:lastModifiedBy>
  <dcterms:modified xsi:type="dcterms:W3CDTF">2003-02-28T12:49:43Z</dcterms:modified>
  <cp:revision>26</cp:revision>
  <dc:subject/>
  <dc:title>Apresentação do PowerPoint</dc:title>
</cp:coreProperties>
</file>