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BB9-D369-4993-9BEA-06664EEA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126-8850-41F7-B595-59AE4295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046-CD8A-45B9-8A80-89A653F6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45A-ADC5-4977-AD07-06820997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2BA5-9A71-46BE-89A3-E5F9BA6A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C586-E671-49AE-8592-1CE1BBF9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F83E-1275-443E-8193-E96ED7D3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4EE8-D98A-49FF-A9AD-962EA9AC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67F9-2E52-407D-9027-D5437C58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07E7-5B85-415B-BC5C-3B7DD18C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B352-F84C-4212-A849-AF077FBD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2A6-A372-49BB-93B2-851656A9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54A1-24A2-45AD-AB48-11E5B897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45EE-5F4B-4797-9C14-F953C650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954B-BC48-4421-8393-190DE4EA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AE3C-19FF-4CF8-A994-5C6ADF25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6611-E358-4DD9-8226-3F2E2E14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165-974B-4035-965E-35988569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3C0-E991-4F6D-85B2-CC7F6722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36A4-8481-4F72-8FB4-A1442417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16C6-1D5C-42D8-9DBC-C32E2BEB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B3E-5A7E-454B-BFCA-6211D2B9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A48-F2E4-4DD9-9A86-B8683BEA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ACB-F1A3-413D-8B4E-860AC3EA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F1C0-1C4D-4A0B-A806-2E3C71CE4992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E223-E8B4-4EAA-A353-1A510D5885CC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cc00"/>
                </a:solidFill>
                <a:latin typeface="Arial"/>
              </a:rPr>
              <a:t>*lingocall</a:t>
            </a:r>
            <a:br>
              <a:rPr sz="4400"/>
            </a:br>
            <a:r>
              <a:rPr b="1" lang="pt-BR" sz="4400" spc="-1" strike="noStrike">
                <a:solidFill>
                  <a:srgbClr val="7e9ce8"/>
                </a:solidFill>
                <a:latin typeface="Arial"/>
              </a:rPr>
              <a:t>O LINGO no seu programa em C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árlinton B. Feres Carval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uilherme A. de Oliv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. Dr. Marcone J. de Freitas Sou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quema de funcionam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19640" y="3213000"/>
            <a:ext cx="2447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GODLL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12000" y="3357720"/>
            <a:ext cx="1439640" cy="71892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8000" y="3357720"/>
            <a:ext cx="1440000" cy="718920"/>
          </a:xfrm>
          <a:custGeom>
            <a:avLst/>
            <a:gdLst>
              <a:gd name="textAreaLeft" fmla="*/ 225000 w 1440000"/>
              <a:gd name="textAreaRight" fmla="*/ 1260000 w 1440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2349360"/>
            <a:ext cx="1295640" cy="100836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yProg.l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3573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1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24720" y="2781360"/>
            <a:ext cx="1079640" cy="2016000"/>
          </a:xfrm>
          <a:prstGeom prst="foldedCorner">
            <a:avLst>
              <a:gd name="adj" fmla="val 12500"/>
            </a:avLst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797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2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2014920" y="4329720"/>
            <a:ext cx="1512720" cy="1152360"/>
          </a:xfrm>
          <a:prstGeom prst="leftArrow">
            <a:avLst>
              <a:gd name="adj1" fmla="val 50000"/>
              <a:gd name="adj2" fmla="val 32818"/>
            </a:avLst>
          </a:prstGeom>
          <a:solidFill>
            <a:srgbClr val="ff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ções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penas uma definição de tip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def void (LINGOCALL)( void*[], int*, int*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otina de chamada do LINGOD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rregando a biblioteca LINGODLL.D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tendo o ponteiro do processador de scri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figurando os parâmet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ecutando o LIN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erificando er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ções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arregando a biblioteca LINGODLL.D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/ Load the LINGO D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_hInstLINGO = ::LoadLibrary( "lingodll.dll"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nteiro do processador de scri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Get a pointer to the LINGO script processor - LGC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_pLINGOCall = (LINGOCALL*) ::GetProcAddress( (HMODULE) m_hInstLINGO, "LGCSCRIPT"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ções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nfigurando os parâme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Build our list of pointers for LIN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* pArgs[4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Our command script (each line terminates with an ASCII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gs[0] = (void*)"SET ECHOIN 1\nSET TERSEO 1\nTAKE C:\\myApp\\myProg.LNG\nGO\nQUIT\n"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Capture all standard output in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gs[1] = (void*) "C:\\myApp\\CV.LOG"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Let LINGO allocate working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gs[2] = NUL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ções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utras configuraç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// Build the list of pointers to data transfer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ouble dStart[7], dOnDuty[7], dStatus, dTotal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ouble* pTransfer[3] = { &amp;dTotal, &amp;dStatus, NULL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rgs[3] = pTransfe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// We have initialized four pointer arg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 nArgs = 4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ções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xecutando o LIN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/ Pass the command script to LIN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nErrorCod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*m_pLINGOCall)( pArgs, &amp;nArgs, &amp;nErrorCod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ções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Verificando er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// Any problem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f ( nErrorCode || dStatus) 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// Had a probl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intf("Desabilitado para Solve! ErrorCode=%i dStatus=%G\n", nErrorCode, dStatu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intf("Aguardando pressionar enter;"); getch(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// Everything went ok ... load results into the dialog bo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// printf("LINGO EXECUTADO COM SUCESSO!\n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ções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Finalizando a execuçã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/ Release LINGO libr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Library( m_hInstLINGO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quema de funcionam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3213000"/>
            <a:ext cx="2447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GODLL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12000" y="3357720"/>
            <a:ext cx="1439640" cy="71892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8000" y="3357720"/>
            <a:ext cx="1440000" cy="718920"/>
          </a:xfrm>
          <a:custGeom>
            <a:avLst/>
            <a:gdLst>
              <a:gd name="textAreaLeft" fmla="*/ 225000 w 1440000"/>
              <a:gd name="textAreaRight" fmla="*/ 1260000 w 1440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2349360"/>
            <a:ext cx="1295640" cy="100836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yProg.l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3573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1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24720" y="2781360"/>
            <a:ext cx="1079640" cy="2016000"/>
          </a:xfrm>
          <a:prstGeom prst="foldedCorner">
            <a:avLst>
              <a:gd name="adj" fmla="val 12500"/>
            </a:avLst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797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2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2350400">
            <a:off x="5939640" y="1989000"/>
            <a:ext cx="1513080" cy="1152720"/>
          </a:xfrm>
          <a:prstGeom prst="leftArrow">
            <a:avLst>
              <a:gd name="adj1" fmla="val 50000"/>
              <a:gd name="adj2" fmla="val 32815"/>
            </a:avLst>
          </a:prstGeom>
          <a:solidFill>
            <a:srgbClr val="ff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spiando o arquivo parcial.d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0.00000000\n0.00000000\n0.00000000\n0.00000000\n0.00000000\n0.00000000\n0.00000000\n0.00000000\n0.00000000\n0.00000000\n1.0000000\n1.0000000\n0.00000000\n0.00000000\n0.00000000\n0.00000000..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quema de funcionam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3213000"/>
            <a:ext cx="2447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GODLL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3357720"/>
            <a:ext cx="1439640" cy="71892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357720"/>
            <a:ext cx="1440000" cy="718920"/>
          </a:xfrm>
          <a:custGeom>
            <a:avLst/>
            <a:gdLst>
              <a:gd name="textAreaLeft" fmla="*/ 225000 w 1440000"/>
              <a:gd name="textAreaRight" fmla="*/ 1260000 w 1440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2349360"/>
            <a:ext cx="1295640" cy="100836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yProg.l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3573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1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24720" y="2781360"/>
            <a:ext cx="1079640" cy="2016000"/>
          </a:xfrm>
          <a:prstGeom prst="foldedCorner">
            <a:avLst>
              <a:gd name="adj" fmla="val 12500"/>
            </a:avLst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4797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2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otinas de IO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xemplo da leitura de uma matriz 0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loat bin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ool **solucao; //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matriz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e soluco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olucao =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ria_matriz_bool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tam, tam);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int x=0 ; x&lt;=j-i ; x++)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int y=0 ; y&lt;=j-i ; y++)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scanf(fparcial, "%f", &amp;bin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olucao[y][x]=(bool)bin;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úvid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quema de funcionam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3213000"/>
            <a:ext cx="2447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GODLL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3357720"/>
            <a:ext cx="1439640" cy="71892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3357720"/>
            <a:ext cx="1440000" cy="718920"/>
          </a:xfrm>
          <a:custGeom>
            <a:avLst/>
            <a:gdLst>
              <a:gd name="textAreaLeft" fmla="*/ 225000 w 1440000"/>
              <a:gd name="textAreaRight" fmla="*/ 1260000 w 1440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2349360"/>
            <a:ext cx="1295640" cy="100836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yProg.l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3573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1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4720" y="2781360"/>
            <a:ext cx="1079640" cy="2016000"/>
          </a:xfrm>
          <a:prstGeom prst="foldedCorner">
            <a:avLst>
              <a:gd name="adj" fmla="val 12500"/>
            </a:avLst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4797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2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2133720"/>
            <a:ext cx="1513080" cy="1152360"/>
          </a:xfrm>
          <a:prstGeom prst="leftArrow">
            <a:avLst>
              <a:gd name="adj1" fmla="val 50000"/>
              <a:gd name="adj2" fmla="val 32826"/>
            </a:avLst>
          </a:prstGeom>
          <a:solidFill>
            <a:srgbClr val="ff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myProg.L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set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idades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/@file('ordem.dat')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/:v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atriz(cidades,cidades):d,x,y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ndse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@file('custo.dat'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@file('ordem.dat');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nd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n = @SIZE( cidades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[OBJECTIVE] min = fo; fo = @sum(matriz(i,j)|i#ne#j:d(i,j)*x(i,j)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!Restriçõe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@text('parcial.dat')=x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@POINTER(1) = OBJECTIV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@POINTER(2) = @STATUS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nd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quema de funcionam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3213000"/>
            <a:ext cx="2447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GODLL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2000" y="3357720"/>
            <a:ext cx="1439640" cy="71892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3357720"/>
            <a:ext cx="1440000" cy="718920"/>
          </a:xfrm>
          <a:custGeom>
            <a:avLst/>
            <a:gdLst>
              <a:gd name="textAreaLeft" fmla="*/ 225000 w 1440000"/>
              <a:gd name="textAreaRight" fmla="*/ 1260000 w 1440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349360"/>
            <a:ext cx="1295640" cy="100836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yProg.l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3573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1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4720" y="2781360"/>
            <a:ext cx="1079640" cy="2016000"/>
          </a:xfrm>
          <a:prstGeom prst="foldedCorner">
            <a:avLst>
              <a:gd name="adj" fmla="val 12500"/>
            </a:avLst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797360"/>
            <a:ext cx="1295640" cy="100800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Dat2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50920" y="4221000"/>
            <a:ext cx="1513080" cy="1152720"/>
          </a:xfrm>
          <a:prstGeom prst="leftArrow">
            <a:avLst>
              <a:gd name="adj1" fmla="val 50000"/>
              <a:gd name="adj2" fmla="val 32815"/>
            </a:avLst>
          </a:prstGeom>
          <a:solidFill>
            <a:srgbClr val="ff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otinas de IO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ipulação de arqu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 *fobjs, *fcust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bjs = fopen(“objs.dat","w"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custo = fopen("custo.dat","w"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close(fobj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close(fcusto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otinas de IO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Leitura e escrita em arqu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printf(fcusto,"%5f\n",vfloat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scanf(fparcial, "%f", &amp;bi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otinas de IO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spiando um arquivo custo.d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0.000000\n17.262677\n18.110770\n31.320920\n34.000000\n38.288379\n28.319605\n32.449961\n39.408121\n43.931765\n32.557641\n29.966648\n20.808652\n13.892444\n17.262677\n0.000000\n5.099020\n17.691806\n23.021729\n..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otinas de IO em 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Gerando um arquivo custo.d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int a=i ; a&lt;j ; a+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printf(fcusto,"%5f\n",c[a]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 k=i; k&lt;j ; k++){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printf(fobj,"%d\n",s[k]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int a=i ; a&lt;j ; a+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fprintf(fcusto,"%5f\n",c[k][a]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}; //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10:57:31Z</dcterms:created>
  <dc:creator>Darlinton B. Feres Carvalho</dc:creator>
  <dc:description/>
  <dc:language>en-US</dc:language>
  <cp:lastModifiedBy>Darlinton B. Feres Carvalho</cp:lastModifiedBy>
  <dcterms:modified xsi:type="dcterms:W3CDTF">2003-07-28T12:24:44Z</dcterms:modified>
  <cp:revision>18</cp:revision>
  <dc:subject/>
  <dc:title>lingocall O LINGO no seu programa em C</dc:title>
</cp:coreProperties>
</file>