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EE92-F5F7-4906-88F6-F204E2603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D3D9-DEEF-4A9E-99EB-8CFE667C6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4FF-6595-4CFB-A949-F9B07603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E31A-489C-4882-B7BD-49A72D750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87B9-14F4-4AF8-A277-50BB612B7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3125-4F0D-4CF3-BC95-145974AB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5860-A6A9-40B1-BB62-DB51A718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72C2-3A1D-4CFD-AE37-59FABE9B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3480-9FAC-4E0E-8BE5-9126062C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3B422-D689-4431-A65B-74AF1DDE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6CFF5-F09F-45CD-8C87-BF84035B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F7D9-59A2-4DE9-896B-43B620214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52E4-E9D7-480A-898E-BB984DBB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2146-92A0-4D79-BA09-C85D1158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639B-CEA3-44A0-B3A9-7B0F6E7C6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F627B-0CFD-48D8-BE85-8191CBED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E5FA-F9CA-4C24-9553-9C1FCCB2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1A9-2DCC-402F-BDE6-A39873D99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4610-CB7B-4B5C-B2DB-A6D3EA3C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6E4-E2B5-4BEB-8111-E7C64B2D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F8BD-A83F-4964-869B-5855879A7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2960-B63B-4C20-8845-764D3852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F8E7-BF28-4A92-B0BD-6DA4B20E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761-7476-4E84-A91E-F3722DA9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323E-1604-4499-B7E0-D0203003058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FFBD-2F2E-4114-A4AD-9A61BCA0BC0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.: Alexandre/DECE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mulação de Sistema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rcí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03640" y="1752480"/>
            <a:ext cx="3564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mular manualm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lcular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 de fi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 de atendim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mpo to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xa de ocupaçã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50920" y="1916280"/>
            <a:ext cx="460836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sistema em estudo é a parte de lavra de uma mineração a céu aber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s processos sã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egada de caminhõ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ga dos caminhões por uma carregadei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9640" y="1844640"/>
          <a:ext cx="8280360" cy="4348080"/>
        </p:xfrm>
        <a:graphic>
          <a:graphicData uri="http://schemas.openxmlformats.org/drawingml/2006/table">
            <a:tbl>
              <a:tblPr/>
              <a:tblGrid>
                <a:gridCol w="1871640"/>
                <a:gridCol w="3529080"/>
                <a:gridCol w="2879640"/>
              </a:tblGrid>
              <a:tr h="88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minhã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o da  chegada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mpo de atendiment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,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je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alizar uma simulação man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tados do Sistem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úmero de caminhõ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rregadeira ocupada ou liv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udança de est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minhão cheg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minhão sai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x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sumindo qu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icialmente não há caminhão na carg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 primeiro caminhão chega no tempo 2 minu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isão do Caminh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79440" y="2021040"/>
            <a:ext cx="838512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isão do Caminhã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mpo médio na fila = 0,36 minu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mpo médio no atendimento = 1,6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mpo médio no sistema = 2,00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isão da Carregadei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72723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axa de ocupação = 64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Visão da Carregadei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8:06:42Z</dcterms:created>
  <dc:creator>Computer</dc:creator>
  <dc:description/>
  <dc:language>en-US</dc:language>
  <cp:lastModifiedBy>Computer</cp:lastModifiedBy>
  <dcterms:modified xsi:type="dcterms:W3CDTF">2006-02-04T00:16:48Z</dcterms:modified>
  <cp:revision>20</cp:revision>
  <dc:subject/>
  <dc:title>Simulação de Sistemas</dc:title>
</cp:coreProperties>
</file>