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C6E0-25F3-417D-91CC-23459F4C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4507-AC60-4148-953C-763A71D8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5DA-170E-4655-96F9-7D4B530E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193-78DC-46EB-81EA-F12DE746B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9153F-BB78-4385-9DFE-1FD61867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39A8-F55F-49E2-9877-E8CE93CF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81A9B-F9F5-4560-BBED-8C4FF971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61A3C-A061-412C-9C4E-80BEB8FB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4F50-0AC1-4018-B843-955A298E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4E97-5029-46CA-A39C-46BBBDE41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AD661-BE3E-4462-B01D-FA60F83E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DBE9-1980-44C8-AD9F-4B45DEC3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226A5-F92E-413F-B7AF-CD7B7E80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6E3C4-E5DB-4974-B56C-CC8D9C4C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5EC4-1F38-4FEF-A707-ECE9611C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37AA-D938-4201-9EEC-0DE39656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0E850-E08E-4E52-889A-F8E3149C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4061-2342-41DD-AF2A-B50E7D21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4C2A-A8DB-41AA-97CA-3A0788D5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C1E8-17E1-44DF-9318-7D380365B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A7C8-BE12-49EE-88D1-2CE359CD9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72EA-5AF6-4ABE-A525-85B2D342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744-4D0D-479F-9D58-8C7430B2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6E78-B063-4DAF-9BDC-F4FE8B82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ADD8-4C6F-4748-B4C4-9A3F9BF5503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2140-6AA8-4E30-96E2-D9258A87BC8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mulação de Sistem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.: Alexandre/DEC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1979640" y="2133720"/>
            <a:ext cx="4870440" cy="3163680"/>
          </a:xfrm>
          <a:custGeom>
            <a:avLst/>
            <a:gdLst/>
            <a:ahLst/>
            <a:rect l="l" t="t" r="r" b="b"/>
            <a:pathLst>
              <a:path w="3068" h="1993">
                <a:moveTo>
                  <a:pt x="258" y="338"/>
                </a:moveTo>
                <a:cubicBezTo>
                  <a:pt x="278" y="281"/>
                  <a:pt x="285" y="217"/>
                  <a:pt x="318" y="166"/>
                </a:cubicBezTo>
                <a:cubicBezTo>
                  <a:pt x="334" y="103"/>
                  <a:pt x="314" y="156"/>
                  <a:pt x="353" y="106"/>
                </a:cubicBezTo>
                <a:cubicBezTo>
                  <a:pt x="402" y="43"/>
                  <a:pt x="363" y="61"/>
                  <a:pt x="413" y="46"/>
                </a:cubicBezTo>
                <a:cubicBezTo>
                  <a:pt x="433" y="52"/>
                  <a:pt x="455" y="53"/>
                  <a:pt x="473" y="63"/>
                </a:cubicBezTo>
                <a:cubicBezTo>
                  <a:pt x="502" y="80"/>
                  <a:pt x="499" y="96"/>
                  <a:pt x="516" y="123"/>
                </a:cubicBezTo>
                <a:cubicBezTo>
                  <a:pt x="534" y="151"/>
                  <a:pt x="545" y="160"/>
                  <a:pt x="568" y="183"/>
                </a:cubicBezTo>
                <a:cubicBezTo>
                  <a:pt x="571" y="192"/>
                  <a:pt x="567" y="209"/>
                  <a:pt x="576" y="209"/>
                </a:cubicBezTo>
                <a:cubicBezTo>
                  <a:pt x="593" y="209"/>
                  <a:pt x="604" y="189"/>
                  <a:pt x="619" y="183"/>
                </a:cubicBezTo>
                <a:cubicBezTo>
                  <a:pt x="638" y="175"/>
                  <a:pt x="659" y="170"/>
                  <a:pt x="679" y="166"/>
                </a:cubicBezTo>
                <a:cubicBezTo>
                  <a:pt x="753" y="150"/>
                  <a:pt x="828" y="139"/>
                  <a:pt x="903" y="131"/>
                </a:cubicBezTo>
                <a:cubicBezTo>
                  <a:pt x="989" y="134"/>
                  <a:pt x="1127" y="157"/>
                  <a:pt x="1230" y="131"/>
                </a:cubicBezTo>
                <a:cubicBezTo>
                  <a:pt x="1247" y="127"/>
                  <a:pt x="1264" y="119"/>
                  <a:pt x="1281" y="114"/>
                </a:cubicBezTo>
                <a:cubicBezTo>
                  <a:pt x="1295" y="110"/>
                  <a:pt x="1310" y="109"/>
                  <a:pt x="1324" y="106"/>
                </a:cubicBezTo>
                <a:cubicBezTo>
                  <a:pt x="1347" y="101"/>
                  <a:pt x="1393" y="89"/>
                  <a:pt x="1393" y="89"/>
                </a:cubicBezTo>
                <a:cubicBezTo>
                  <a:pt x="1465" y="106"/>
                  <a:pt x="1450" y="156"/>
                  <a:pt x="1470" y="217"/>
                </a:cubicBezTo>
                <a:cubicBezTo>
                  <a:pt x="1550" y="168"/>
                  <a:pt x="1633" y="116"/>
                  <a:pt x="1720" y="80"/>
                </a:cubicBezTo>
                <a:cubicBezTo>
                  <a:pt x="1912" y="0"/>
                  <a:pt x="1657" y="126"/>
                  <a:pt x="1831" y="37"/>
                </a:cubicBezTo>
                <a:cubicBezTo>
                  <a:pt x="1940" y="46"/>
                  <a:pt x="1930" y="30"/>
                  <a:pt x="1986" y="89"/>
                </a:cubicBezTo>
                <a:cubicBezTo>
                  <a:pt x="2002" y="124"/>
                  <a:pt x="2026" y="156"/>
                  <a:pt x="2038" y="192"/>
                </a:cubicBezTo>
                <a:cubicBezTo>
                  <a:pt x="2044" y="208"/>
                  <a:pt x="2041" y="227"/>
                  <a:pt x="2046" y="243"/>
                </a:cubicBezTo>
                <a:cubicBezTo>
                  <a:pt x="2052" y="264"/>
                  <a:pt x="2063" y="283"/>
                  <a:pt x="2072" y="303"/>
                </a:cubicBezTo>
                <a:cubicBezTo>
                  <a:pt x="2083" y="356"/>
                  <a:pt x="2092" y="346"/>
                  <a:pt x="2106" y="389"/>
                </a:cubicBezTo>
                <a:cubicBezTo>
                  <a:pt x="2148" y="331"/>
                  <a:pt x="2092" y="399"/>
                  <a:pt x="2167" y="346"/>
                </a:cubicBezTo>
                <a:cubicBezTo>
                  <a:pt x="2184" y="334"/>
                  <a:pt x="2192" y="313"/>
                  <a:pt x="2210" y="303"/>
                </a:cubicBezTo>
                <a:cubicBezTo>
                  <a:pt x="2228" y="293"/>
                  <a:pt x="2250" y="293"/>
                  <a:pt x="2270" y="286"/>
                </a:cubicBezTo>
                <a:cubicBezTo>
                  <a:pt x="2333" y="263"/>
                  <a:pt x="2392" y="238"/>
                  <a:pt x="2459" y="226"/>
                </a:cubicBezTo>
                <a:cubicBezTo>
                  <a:pt x="2490" y="231"/>
                  <a:pt x="2525" y="229"/>
                  <a:pt x="2545" y="260"/>
                </a:cubicBezTo>
                <a:cubicBezTo>
                  <a:pt x="2590" y="328"/>
                  <a:pt x="2582" y="471"/>
                  <a:pt x="2588" y="544"/>
                </a:cubicBezTo>
                <a:cubicBezTo>
                  <a:pt x="2668" y="505"/>
                  <a:pt x="2632" y="517"/>
                  <a:pt x="2691" y="501"/>
                </a:cubicBezTo>
                <a:cubicBezTo>
                  <a:pt x="2696" y="501"/>
                  <a:pt x="2899" y="495"/>
                  <a:pt x="2958" y="527"/>
                </a:cubicBezTo>
                <a:cubicBezTo>
                  <a:pt x="3068" y="588"/>
                  <a:pt x="2888" y="526"/>
                  <a:pt x="3001" y="561"/>
                </a:cubicBezTo>
                <a:cubicBezTo>
                  <a:pt x="3007" y="579"/>
                  <a:pt x="3024" y="594"/>
                  <a:pt x="3026" y="613"/>
                </a:cubicBezTo>
                <a:cubicBezTo>
                  <a:pt x="3028" y="633"/>
                  <a:pt x="3025" y="654"/>
                  <a:pt x="3018" y="673"/>
                </a:cubicBezTo>
                <a:cubicBezTo>
                  <a:pt x="2994" y="737"/>
                  <a:pt x="2954" y="728"/>
                  <a:pt x="2906" y="759"/>
                </a:cubicBezTo>
                <a:cubicBezTo>
                  <a:pt x="2946" y="790"/>
                  <a:pt x="2957" y="800"/>
                  <a:pt x="2983" y="845"/>
                </a:cubicBezTo>
                <a:cubicBezTo>
                  <a:pt x="2986" y="859"/>
                  <a:pt x="2992" y="873"/>
                  <a:pt x="2992" y="888"/>
                </a:cubicBezTo>
                <a:cubicBezTo>
                  <a:pt x="2992" y="998"/>
                  <a:pt x="2926" y="1004"/>
                  <a:pt x="2837" y="1017"/>
                </a:cubicBezTo>
                <a:cubicBezTo>
                  <a:pt x="2788" y="1014"/>
                  <a:pt x="2739" y="1015"/>
                  <a:pt x="2691" y="1008"/>
                </a:cubicBezTo>
                <a:cubicBezTo>
                  <a:pt x="2682" y="1007"/>
                  <a:pt x="2709" y="996"/>
                  <a:pt x="2717" y="1000"/>
                </a:cubicBezTo>
                <a:cubicBezTo>
                  <a:pt x="2725" y="1004"/>
                  <a:pt x="2722" y="1017"/>
                  <a:pt x="2725" y="1026"/>
                </a:cubicBezTo>
                <a:cubicBezTo>
                  <a:pt x="2709" y="1210"/>
                  <a:pt x="2680" y="1301"/>
                  <a:pt x="2485" y="1352"/>
                </a:cubicBezTo>
                <a:cubicBezTo>
                  <a:pt x="2457" y="1359"/>
                  <a:pt x="2428" y="1365"/>
                  <a:pt x="2399" y="1369"/>
                </a:cubicBezTo>
                <a:cubicBezTo>
                  <a:pt x="2345" y="1377"/>
                  <a:pt x="2235" y="1387"/>
                  <a:pt x="2235" y="1387"/>
                </a:cubicBezTo>
                <a:cubicBezTo>
                  <a:pt x="2192" y="1384"/>
                  <a:pt x="2148" y="1389"/>
                  <a:pt x="2106" y="1378"/>
                </a:cubicBezTo>
                <a:cubicBezTo>
                  <a:pt x="2097" y="1376"/>
                  <a:pt x="2090" y="1355"/>
                  <a:pt x="2098" y="1352"/>
                </a:cubicBezTo>
                <a:cubicBezTo>
                  <a:pt x="2114" y="1346"/>
                  <a:pt x="2132" y="1358"/>
                  <a:pt x="2149" y="1361"/>
                </a:cubicBezTo>
                <a:cubicBezTo>
                  <a:pt x="2173" y="1373"/>
                  <a:pt x="2200" y="1383"/>
                  <a:pt x="2218" y="1404"/>
                </a:cubicBezTo>
                <a:cubicBezTo>
                  <a:pt x="2226" y="1414"/>
                  <a:pt x="2228" y="1428"/>
                  <a:pt x="2235" y="1438"/>
                </a:cubicBezTo>
                <a:cubicBezTo>
                  <a:pt x="2240" y="1445"/>
                  <a:pt x="2247" y="1449"/>
                  <a:pt x="2253" y="1455"/>
                </a:cubicBezTo>
                <a:cubicBezTo>
                  <a:pt x="2256" y="1481"/>
                  <a:pt x="2258" y="1507"/>
                  <a:pt x="2261" y="1533"/>
                </a:cubicBezTo>
                <a:cubicBezTo>
                  <a:pt x="2266" y="1570"/>
                  <a:pt x="2278" y="1645"/>
                  <a:pt x="2278" y="1645"/>
                </a:cubicBezTo>
                <a:cubicBezTo>
                  <a:pt x="2267" y="1763"/>
                  <a:pt x="2281" y="1747"/>
                  <a:pt x="2167" y="1774"/>
                </a:cubicBezTo>
                <a:cubicBezTo>
                  <a:pt x="2230" y="1799"/>
                  <a:pt x="2216" y="1811"/>
                  <a:pt x="2244" y="1868"/>
                </a:cubicBezTo>
                <a:cubicBezTo>
                  <a:pt x="2240" y="1893"/>
                  <a:pt x="2241" y="1927"/>
                  <a:pt x="2218" y="1945"/>
                </a:cubicBezTo>
                <a:cubicBezTo>
                  <a:pt x="2211" y="1951"/>
                  <a:pt x="2200" y="1950"/>
                  <a:pt x="2192" y="1954"/>
                </a:cubicBezTo>
                <a:cubicBezTo>
                  <a:pt x="2169" y="1965"/>
                  <a:pt x="2124" y="1988"/>
                  <a:pt x="2124" y="1988"/>
                </a:cubicBezTo>
                <a:cubicBezTo>
                  <a:pt x="1897" y="1977"/>
                  <a:pt x="1587" y="1993"/>
                  <a:pt x="1350" y="1920"/>
                </a:cubicBezTo>
                <a:cubicBezTo>
                  <a:pt x="1308" y="1856"/>
                  <a:pt x="1246" y="1870"/>
                  <a:pt x="1169" y="1859"/>
                </a:cubicBezTo>
                <a:cubicBezTo>
                  <a:pt x="1136" y="1843"/>
                  <a:pt x="1117" y="1825"/>
                  <a:pt x="1092" y="1799"/>
                </a:cubicBezTo>
                <a:cubicBezTo>
                  <a:pt x="1090" y="1792"/>
                  <a:pt x="1080" y="1756"/>
                  <a:pt x="1066" y="1756"/>
                </a:cubicBezTo>
                <a:cubicBezTo>
                  <a:pt x="1053" y="1756"/>
                  <a:pt x="1044" y="1770"/>
                  <a:pt x="1032" y="1774"/>
                </a:cubicBezTo>
                <a:cubicBezTo>
                  <a:pt x="990" y="1787"/>
                  <a:pt x="946" y="1790"/>
                  <a:pt x="903" y="1799"/>
                </a:cubicBezTo>
                <a:cubicBezTo>
                  <a:pt x="678" y="1788"/>
                  <a:pt x="530" y="1799"/>
                  <a:pt x="335" y="1722"/>
                </a:cubicBezTo>
                <a:cubicBezTo>
                  <a:pt x="309" y="1685"/>
                  <a:pt x="284" y="1647"/>
                  <a:pt x="258" y="1610"/>
                </a:cubicBezTo>
                <a:cubicBezTo>
                  <a:pt x="252" y="1601"/>
                  <a:pt x="241" y="1584"/>
                  <a:pt x="241" y="1584"/>
                </a:cubicBezTo>
                <a:cubicBezTo>
                  <a:pt x="236" y="1564"/>
                  <a:pt x="239" y="1539"/>
                  <a:pt x="224" y="1524"/>
                </a:cubicBezTo>
                <a:cubicBezTo>
                  <a:pt x="203" y="1503"/>
                  <a:pt x="149" y="1486"/>
                  <a:pt x="121" y="1464"/>
                </a:cubicBezTo>
                <a:cubicBezTo>
                  <a:pt x="91" y="1440"/>
                  <a:pt x="77" y="1402"/>
                  <a:pt x="60" y="1369"/>
                </a:cubicBezTo>
                <a:cubicBezTo>
                  <a:pt x="48" y="1318"/>
                  <a:pt x="17" y="1283"/>
                  <a:pt x="69" y="1249"/>
                </a:cubicBezTo>
                <a:cubicBezTo>
                  <a:pt x="75" y="1240"/>
                  <a:pt x="86" y="1233"/>
                  <a:pt x="86" y="1223"/>
                </a:cubicBezTo>
                <a:cubicBezTo>
                  <a:pt x="86" y="1213"/>
                  <a:pt x="72" y="1208"/>
                  <a:pt x="69" y="1198"/>
                </a:cubicBezTo>
                <a:cubicBezTo>
                  <a:pt x="58" y="1167"/>
                  <a:pt x="52" y="1135"/>
                  <a:pt x="43" y="1103"/>
                </a:cubicBezTo>
                <a:cubicBezTo>
                  <a:pt x="21" y="1027"/>
                  <a:pt x="20" y="947"/>
                  <a:pt x="0" y="871"/>
                </a:cubicBezTo>
                <a:cubicBezTo>
                  <a:pt x="6" y="853"/>
                  <a:pt x="25" y="838"/>
                  <a:pt x="26" y="819"/>
                </a:cubicBezTo>
                <a:cubicBezTo>
                  <a:pt x="34" y="713"/>
                  <a:pt x="30" y="607"/>
                  <a:pt x="35" y="501"/>
                </a:cubicBezTo>
                <a:cubicBezTo>
                  <a:pt x="39" y="413"/>
                  <a:pt x="188" y="406"/>
                  <a:pt x="250" y="398"/>
                </a:cubicBezTo>
                <a:cubicBezTo>
                  <a:pt x="256" y="379"/>
                  <a:pt x="275" y="353"/>
                  <a:pt x="258" y="338"/>
                </a:cubicBez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270828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stema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3429000"/>
            <a:ext cx="2664000" cy="7920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26960" y="3645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tr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97840" y="3645000"/>
            <a:ext cx="87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aí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19280" y="3860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08720" y="3860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de Pesquisa Operaciona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imização (PL, PI, PIM, FR,..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imização x Simulaçã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de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tados à Previs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que acontece com o aumento na demand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tados à Investig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de está o gargalo no sistem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tados à Compar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É melhor ter 3 ou 4 caix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de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antagen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lic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cilid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guranç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e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e de hipótes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Simulaçã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Desvantage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Requer treina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Os resultados não são exa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nálise dos d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s 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1844640"/>
            <a:ext cx="208764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24320" y="1916280"/>
            <a:ext cx="16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0200" y="2349360"/>
            <a:ext cx="1561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u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Probl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29000" y="3429000"/>
            <a:ext cx="1671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1480" y="4421160"/>
            <a:ext cx="1451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rmu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25040" y="5084640"/>
            <a:ext cx="16009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et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299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4076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4797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9640" y="1844640"/>
            <a:ext cx="2304720" cy="38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66760" y="191628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elag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15120" y="2414520"/>
            <a:ext cx="1909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eta de d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05640" y="4508640"/>
            <a:ext cx="1377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ific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 valid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3240" y="3284640"/>
            <a:ext cx="1410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stru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 mod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781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93372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386064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2360" y="1557360"/>
            <a:ext cx="230328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557760" y="16304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i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699600" y="2062080"/>
            <a:ext cx="1608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j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im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644880" y="3054240"/>
            <a:ext cx="192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peri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048800" y="3927600"/>
            <a:ext cx="95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ál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451640" y="306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451640" y="3430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24360" y="343044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4724280"/>
            <a:ext cx="223200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973200" y="4726080"/>
            <a:ext cx="10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41640" y="5300640"/>
            <a:ext cx="1872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24720" y="4437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 – Formulação e anál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ção dos objetiv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r que o problema está sendo estudad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is serão as respostas esperad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is são os critérios de avaliaçã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ais as restrições são esperadas das soluçõ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2 – Planejamento do Proje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ursos disponíve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ção dos cenár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ronogra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ção das ativida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evantamento dos cu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 Formulação do Modelo Conceitu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boçar o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luxograma, DCA, Pseudocódig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eçar de forma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ticipação do usuá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lgumas questões devem ser respond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o discreto? Contínuo? Uma combinaçã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quanto detalha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Que relatórios gerar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3 Formulação do Modelo Conceitua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de Simula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tapas na Construção de um mode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 – Coleta de macro informaçõ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is são as relações e regras que conduzem a dinâmica do sistem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ais são as fontes dos dados necessários à alimentação do model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s dados já se encontram na forma desejada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5 – Coleta de dad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entre chega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de atendimen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manda por unidade de tem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or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6 - Construção do Mode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Codificar o mode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Linguagens de uso geral (Pascal, C, C++,..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Softwares próprios (Arena, Promodel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7 – Verificação e Valid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modelo gera informações que satisfazem aos objetivos do estu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informações são confiávei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ssui erros de programaçã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8 – Projeto Experiment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tar um conjunto de experimen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terminar que fatores devem ser vari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9 - Experiment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ecutar as simulaçõ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úmero de replicaç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íodo de simul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queci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0 – Interpretação e Anális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o o sistema está funcionand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á gargalo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 alterações funcionaram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11 - Implement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 solução sugerida é a melho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projeto é viável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Manipulação do temp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ivisão do tempo em intervalos regula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Simlação de vô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Técnica do próximo ev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 algn="just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Verdana"/>
              </a:rPr>
              <a:t>Fil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rocas de est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inuamente a qualquer ponto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inuamente em pontos discretos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retamente a qualquer ponto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iscretamente em pontos discretos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fini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m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istema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é definido como um grupo de objetos que estão juntos em alguma interação e/ou interdependência, objetivando a realização de algum objetiv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 escolha dos limites do que chamaremos sistema em estudo vai sempre depender do nosso interess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está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ralmente não envolvem a variável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dinâm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presentam o estado do sistema em função do avanço do temp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determinís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tilizam somente variáveis determinís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estocás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ma ou mais variáveis do modelo são aleatóri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sider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discre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odelos contínu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istemas de produçã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anufatura e montag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Movimentação de peças e matéria pri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Alocação de mão de ob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Áreas de armazenage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Dimensionar novos layouts e plantas industriai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Verdana"/>
              </a:rPr>
              <a:t>Encontrar e eliminar garga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de transporte e estocag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es de distribui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mazéns e entrepos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ro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Computacionai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es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des de comunic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Administrativ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gurado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peradores de crédi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ancei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plicaçõ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stemas de prestação de serviç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spitai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n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ços de emergê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Referê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Freitas (200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Prado (1997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Law &amp; Kelton (1991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Verdana"/>
              </a:rPr>
              <a:t>Soares (1990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79280" y="2133720"/>
            <a:ext cx="8785440" cy="3454200"/>
            <a:chOff x="179280" y="2133720"/>
            <a:chExt cx="8785440" cy="3454200"/>
          </a:xfrm>
        </p:grpSpPr>
        <p:sp>
          <p:nvSpPr>
            <p:cNvPr id="93" name=""/>
            <p:cNvSpPr/>
            <p:nvPr/>
          </p:nvSpPr>
          <p:spPr>
            <a:xfrm>
              <a:off x="1763640" y="3429000"/>
              <a:ext cx="647640" cy="863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1763640" y="2349360"/>
              <a:ext cx="647640" cy="50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79280" y="2637000"/>
              <a:ext cx="1871640" cy="107928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ist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11280" y="2133720"/>
              <a:ext cx="2160720" cy="358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Intervenção dire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411280" y="3933720"/>
              <a:ext cx="1871640" cy="5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Experiment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m model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932360" y="3213000"/>
              <a:ext cx="165564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rotótip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32360" y="4581360"/>
              <a:ext cx="1800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odelag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temát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596360" y="4005360"/>
              <a:ext cx="136836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oluçõ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nalític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24720" y="5084640"/>
              <a:ext cx="1368360" cy="50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imulaçã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284720" y="3429000"/>
              <a:ext cx="647640" cy="792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84720" y="4221000"/>
              <a:ext cx="64764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6732720" y="4292280"/>
              <a:ext cx="863640" cy="576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32720" y="4869000"/>
              <a:ext cx="792000" cy="504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venção Diret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er experiência de tal forma que a tomada de decisões não impactem negativamente a performance do sistem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erimentação com model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lica na criação de um modelo que a depender da aplicação deve representar e/ou demonstrar a forma de funcionamento do sistema re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xperimentação com model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tótip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os matemát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luções analític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imula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 a técnica de solução de um problema pela análise de um modelo que descreve o comportamento do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rgiu como uma extensão do Método de Monte Car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000000"/>
                </a:solidFill>
                <a:latin typeface="Verdana"/>
              </a:rPr>
              <a:t>Simulç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tivo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truir teorias e hipóteses considerando as observações efetuadas e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ar o modelo para prever o comportamento futuro, isto é, os efeitos produzidos por alterações no sistema ou nos métodos empregados em sua operaçã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del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ão descrições de um sistem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ualmente, esta descrição toma a forma de relações matemáticas e/ou lógica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modelagem depende do propósito e da complexidade do sistema sob investigaçã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00:40:25Z</dcterms:created>
  <dc:creator>Computer</dc:creator>
  <dc:description/>
  <dc:language>en-US</dc:language>
  <cp:lastModifiedBy>Computer</cp:lastModifiedBy>
  <dcterms:modified xsi:type="dcterms:W3CDTF">2006-02-04T12:39:58Z</dcterms:modified>
  <cp:revision>75</cp:revision>
  <dc:subject/>
  <dc:title>Simulação de Sistemas</dc:title>
</cp:coreProperties>
</file>