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5CEA-0907-4F4F-A5B6-5F4B7F065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37DD-7F62-4789-B9FE-49D70F060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2981-CEA9-4AF5-99BC-96DA58EE1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431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485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8377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5431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2485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BFFD-363B-4A52-AC6B-921C8186B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9C6-51AD-41CF-8408-981B325C64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0DD-17A9-4C71-90C7-2C89F7CFA7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DEF-B48F-4437-9D16-D0C1BE26DD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C88-D7B3-46D9-B409-1C79F796B8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761-968F-4AFF-B74B-651D0389D6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647676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315-2C2A-4EC1-9D6D-03036468E5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5AA-41D0-4087-BE81-2DC66A3460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FC42-6689-41C6-85C6-528366689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8CC-57FF-4DD4-A1B9-51CF15F4A9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71D-FC95-43EC-BF4E-EF59E5FE32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54D-BDB3-4D57-B6B6-0C6BABB2EF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064-0661-460A-9E95-37BA0E614C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431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485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77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431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485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65B-E271-4095-916E-A51CFE38B4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2AE2-E78B-4A62-9939-7536C23E9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9564-FE4F-4857-BE32-466B8EDF9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86CE-E4FB-47B8-8E9E-4162655C2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647676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6475-B198-40D1-80EE-6B869C85F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189A-EDCF-47CE-9947-9843DDC1F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4BD8-D82B-4390-B579-E2972079A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48C7-47BE-4055-BCAC-5E21450DD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144000" cy="47160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 rot="10800000">
            <a:off x="1665000" y="6400800"/>
            <a:ext cx="7467480" cy="457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000640" y="6457680"/>
            <a:ext cx="6858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E9B1-B715-40F5-AE98-13CBC84698CB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0800000"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733920" cy="990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14480" y="200160"/>
            <a:ext cx="1066680" cy="837720"/>
            <a:chOff x="114480" y="200160"/>
            <a:chExt cx="1066680" cy="837720"/>
          </a:xfrm>
        </p:grpSpPr>
        <p:sp>
          <p:nvSpPr>
            <p:cNvPr id="7" name=""/>
            <p:cNvSpPr/>
            <p:nvPr/>
          </p:nvSpPr>
          <p:spPr>
            <a:xfrm>
              <a:off x="219960" y="2437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14480" y="52704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20016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52880" y="6145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41200" y="85428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2520" y="41796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87560" y="33084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70040" y="72360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66320" y="6145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0840" y="94140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77840" y="618480"/>
              <a:ext cx="84600" cy="239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03040" y="592560"/>
              <a:ext cx="25380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08520" y="309240"/>
              <a:ext cx="50760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905040" y="400320"/>
              <a:ext cx="182880" cy="6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516240" y="287280"/>
              <a:ext cx="126720" cy="326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41440" y="679680"/>
              <a:ext cx="23256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16240" y="705600"/>
              <a:ext cx="105480" cy="239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77840" y="330840"/>
              <a:ext cx="63360" cy="196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85440" y="291240"/>
              <a:ext cx="124200" cy="426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33720" y="919800"/>
              <a:ext cx="263880" cy="6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V="1">
              <a:off x="866520" y="693000"/>
              <a:ext cx="21132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22520" y="243720"/>
              <a:ext cx="365040" cy="104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112400" y="431640"/>
              <a:ext cx="20880" cy="174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702720" y="701280"/>
              <a:ext cx="380520" cy="283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>
              <a:off x="199080" y="264960"/>
              <a:ext cx="423000" cy="283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" name="PlaceHolder 3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510A-F951-474A-A4BA-EC413B88F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86000"/>
            <a:ext cx="9144000" cy="144792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0" y="2286000"/>
            <a:ext cx="9144000" cy="148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7080" y="1224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274464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64000" y="99072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10000" y="3213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16240" y="449892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38960" y="2160720"/>
            <a:ext cx="52992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89840" y="169236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00640" y="3797280"/>
            <a:ext cx="52884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70680" y="3213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4840" y="496728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9120" y="3235320"/>
            <a:ext cx="476280" cy="1285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00240" y="3095640"/>
            <a:ext cx="1432080" cy="351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97120" y="1574640"/>
            <a:ext cx="2863800" cy="819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60960" y="2064960"/>
            <a:ext cx="1032120" cy="336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866760" y="1459080"/>
            <a:ext cx="717480" cy="1753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10040" y="3564000"/>
            <a:ext cx="1312920" cy="350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67120" y="3701880"/>
            <a:ext cx="596880" cy="1287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959120" y="1692360"/>
            <a:ext cx="357120" cy="10522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22920" y="1481040"/>
            <a:ext cx="701640" cy="2287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38600" y="4849920"/>
            <a:ext cx="1488960" cy="336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845320" y="3637080"/>
            <a:ext cx="1191960" cy="350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0640" y="1224000"/>
            <a:ext cx="2062440" cy="560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232760" y="2233440"/>
            <a:ext cx="118800" cy="9352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19760" y="3681360"/>
            <a:ext cx="2147760" cy="1519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077920" y="1341000"/>
            <a:ext cx="2386080" cy="1521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633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Logística Aplicada a Transporte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7560" y="4191120"/>
            <a:ext cx="6933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one Jamilson Freitas Sou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artamento de Comput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mepage: http://www.decom.ufop.br/prof/marc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: marcone@iceb.ufop.b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niversidade Federal de Ouro P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211640" y="323028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03640" y="18396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88000" y="9126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03280" y="205344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00360" y="6282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24360" y="198252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68480" y="82332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27640" y="554616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16720" y="305244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85080" y="433476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730600" y="64764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53160" y="200664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24680" y="43560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447920" y="838080"/>
            <a:ext cx="1218960" cy="152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752480" y="990720"/>
            <a:ext cx="106704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90720"/>
            <a:ext cx="30492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6857640" y="3352680"/>
            <a:ext cx="1066680" cy="99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553080" y="4648320"/>
            <a:ext cx="1371600" cy="99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105160" y="1219320"/>
            <a:ext cx="68580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495320" y="2286000"/>
            <a:ext cx="1295640" cy="99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4191-5132-4E3C-A775-39CF43F78A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447920" y="19836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828800" y="1386000"/>
          <a:ext cx="5638680" cy="2190600"/>
        </p:xfrm>
        <a:graphic>
          <a:graphicData uri="http://schemas.openxmlformats.org/drawingml/2006/table">
            <a:tbl>
              <a:tblPr/>
              <a:tblGrid>
                <a:gridCol w="939960"/>
                <a:gridCol w="939600"/>
                <a:gridCol w="939960"/>
                <a:gridCol w="939600"/>
                <a:gridCol w="939960"/>
                <a:gridCol w="9396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1828800" y="4205160"/>
          <a:ext cx="5715000" cy="3808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90360"/>
                <a:gridCol w="914400"/>
                <a:gridCol w="952560"/>
                <a:gridCol w="9525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"/>
          <p:cNvSpPr/>
          <p:nvPr/>
        </p:nvSpPr>
        <p:spPr>
          <a:xfrm>
            <a:off x="1815480" y="5195880"/>
            <a:ext cx="52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= 2  (número de facilidades a serem localiza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44200" y="5805360"/>
            <a:ext cx="32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 = 5 (número de localida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62080" y="3595680"/>
            <a:ext cx="33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usto de ligação entre as loca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88360" y="4586400"/>
            <a:ext cx="33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usto fixo de instalação da facilid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B31F-2E64-4583-94B1-2A14738220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úmero de Localid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úmero de facilidades (medianas) a serem localizad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usto de ligação entre a localidade i e sua facilidade mais próxima 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usto de instalação da facilidade 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 as seguintes variáveis de decisã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80880" y="5410080"/>
                <a:ext cx="31068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e a mediana j é instalad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04920" y="4346640"/>
                <a:ext cx="50292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e a localidade  i é atendida pela facilidade j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CE78-53CE-463C-9D62-79F24989BD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6218280"/>
            <a:ext cx="2057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35100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                                  Problema da P-mediana não Capacitad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73160" y="15238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mizar z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362320" y="2209680"/>
                <a:ext cx="308592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286000" y="4343400"/>
                <a:ext cx="47116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292480" y="5257800"/>
                <a:ext cx="16002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195800" y="5332320"/>
                <a:ext cx="1519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894120" y="5486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9520" y="21337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jeit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665440" y="1143000"/>
                <a:ext cx="30639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395440" y="3209760"/>
                <a:ext cx="13924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5562720" y="236232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2438280"/>
            <a:ext cx="2895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Cada região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é atendida por uma única facil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33526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10280" y="42670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3565440"/>
            <a:ext cx="289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facilidades devem ser instalad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2920" y="4098960"/>
            <a:ext cx="198108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Uma região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é atendida por uma única facil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somente se houver uma facilidade instalada na região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1ABF-7435-43D6-95E3-2D89788205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blema do Caixeiro Viaja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siste em encontrar uma rota q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ta de uma cidade orig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sse por todas as demais cidades uma única ve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torne à cidade origem ao final do percur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ercorra a menor distância possí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ota conhecida como ciclo hamiltoni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5A07-B411-4C58-B3DB-5E44529FB4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6218280"/>
            <a:ext cx="2057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35100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                                  Problema do Caixeiro Viajante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73160" y="15238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mizar z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438280" y="2209680"/>
                <a:ext cx="3200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411280" y="4952880"/>
                <a:ext cx="4737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sub/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471760" y="5762520"/>
                <a:ext cx="15667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59520" y="21337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jeit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590920" y="1219320"/>
                <a:ext cx="16272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514600" y="3121200"/>
                <a:ext cx="32004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514600" y="3959280"/>
                <a:ext cx="37148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392720" y="5783400"/>
                <a:ext cx="10760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5715000" y="236232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1320" y="327672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40384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49528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2575080"/>
            <a:ext cx="3048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De cada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só sai um arco (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18040" y="3489480"/>
            <a:ext cx="3200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A cada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só chega um arco (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3962520"/>
            <a:ext cx="2895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A cada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, exceto a origem, a quantidade de fluxo que chega à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menos a quantidade de fluxo que sai da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é igual a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162920" y="5029200"/>
            <a:ext cx="1828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O máximo de fluxo no arco (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) é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E489-7D7B-4CD2-8ADF-4DF999F7A6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o Caixeiro Viajante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euríst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é da classe NP-difícil: não existem algoritmos exatos que o resolvam em tempo polinom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a dimensões mais elevadas, a resolução por modelos de programação matemática é proibitiva em termos de tempos computacion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é resolvido por meio de heu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ão garantem a otimalidade da solução f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duzem soluções finais de boa qualidade rapid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B7EF-EE5E-4EE4-B5D2-787F79C72C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7827840" y="1143000"/>
          <a:ext cx="1163880" cy="167472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7746840" y="1447920"/>
            <a:ext cx="130824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7269480" y="449568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"/>
          <p:cNvCxnSpPr>
            <a:stCxn id="317" idx="7"/>
            <a:endCxn id="311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8ADB-B21F-4393-983A-8388C3B815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827840" y="1143000"/>
          <a:ext cx="1163880" cy="140004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7746840" y="1727280"/>
            <a:ext cx="130824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7269480" y="449568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"/>
          <p:cNvCxnSpPr>
            <a:stCxn id="331" idx="7"/>
            <a:endCxn id="325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"/>
          <p:cNvCxnSpPr>
            <a:stCxn id="325" idx="6"/>
            <a:endCxn id="328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2464920" y="3695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C5AB-8FBA-4605-808D-7185F082A8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7827840" y="1143000"/>
          <a:ext cx="1163880" cy="112536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7746840" y="1727280"/>
            <a:ext cx="130824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7269480" y="449568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47" idx="7"/>
            <a:endCxn id="341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41" idx="6"/>
            <a:endCxn id="344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2577600" y="374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"/>
          <p:cNvCxnSpPr>
            <a:stCxn id="344" idx="3"/>
            <a:endCxn id="342" idx="7"/>
          </p:cNvCxnSpPr>
          <p:nvPr/>
        </p:nvCxnSpPr>
        <p:spPr>
          <a:xfrm flipH="1">
            <a:off x="3644280" y="4788000"/>
            <a:ext cx="71172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3950640" y="49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AA8C-6065-464C-AD41-CC482AA271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ula 3 - Rotei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219320"/>
            <a:ext cx="701028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Problema das p-median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Problema do Caixeiro Viaja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Modelagem de programação matemát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Modelagem heurístic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Vizinho mais próxim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Inserção mais bar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Problema de Roteamento de Veícul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Modelagem heurístic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Clarke e Wrigh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Vizinho mais próxim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ACFB-51B7-4CCE-B61B-6604D8BF3E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7827840" y="1143000"/>
          <a:ext cx="1163880" cy="85104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746840" y="1727280"/>
            <a:ext cx="130824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7269480" y="449568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5" idx="7"/>
            <a:endCxn id="359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1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"/>
          <p:cNvCxnSpPr>
            <a:stCxn id="359" idx="6"/>
            <a:endCxn id="362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3" name=""/>
          <p:cNvSpPr/>
          <p:nvPr/>
        </p:nvSpPr>
        <p:spPr>
          <a:xfrm>
            <a:off x="2577600" y="374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62" idx="3"/>
            <a:endCxn id="360" idx="7"/>
          </p:cNvCxnSpPr>
          <p:nvPr/>
        </p:nvCxnSpPr>
        <p:spPr>
          <a:xfrm flipH="1">
            <a:off x="3644280" y="4788000"/>
            <a:ext cx="71172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3950640" y="49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"/>
          <p:cNvCxnSpPr>
            <a:stCxn id="360" idx="2"/>
            <a:endCxn id="364" idx="6"/>
          </p:cNvCxnSpPr>
          <p:nvPr/>
        </p:nvCxnSpPr>
        <p:spPr>
          <a:xfrm flipH="1">
            <a:off x="2310840" y="549864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693520" y="5465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AFD5-9771-4610-99A2-6F856086BD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10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7827840" y="1143000"/>
          <a:ext cx="1163880" cy="57636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7248960" y="449568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"/>
          <p:cNvCxnSpPr>
            <a:stCxn id="385" idx="7"/>
            <a:endCxn id="379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9" idx="6"/>
            <a:endCxn id="382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2577600" y="374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"/>
          <p:cNvCxnSpPr>
            <a:stCxn id="382" idx="3"/>
            <a:endCxn id="380" idx="7"/>
          </p:cNvCxnSpPr>
          <p:nvPr/>
        </p:nvCxnSpPr>
        <p:spPr>
          <a:xfrm flipH="1">
            <a:off x="3644280" y="4788000"/>
            <a:ext cx="71172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3950640" y="49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80" idx="2"/>
            <a:endCxn id="384" idx="6"/>
          </p:cNvCxnSpPr>
          <p:nvPr/>
        </p:nvCxnSpPr>
        <p:spPr>
          <a:xfrm flipH="1">
            <a:off x="2310840" y="549864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6" name=""/>
          <p:cNvSpPr/>
          <p:nvPr/>
        </p:nvSpPr>
        <p:spPr>
          <a:xfrm>
            <a:off x="2693520" y="5465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"/>
          <p:cNvCxnSpPr>
            <a:stCxn id="384" idx="7"/>
            <a:endCxn id="383" idx="3"/>
          </p:cNvCxnSpPr>
          <p:nvPr/>
        </p:nvCxnSpPr>
        <p:spPr>
          <a:xfrm flipV="1">
            <a:off x="2247840" y="394884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8" name=""/>
          <p:cNvSpPr/>
          <p:nvPr/>
        </p:nvSpPr>
        <p:spPr>
          <a:xfrm>
            <a:off x="2706120" y="462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03D3-CADC-460B-A08F-FDC715595A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9339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– Passo final: “Inserção forçad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7248960" y="449568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"/>
          <p:cNvCxnSpPr>
            <a:stCxn id="405" idx="7"/>
            <a:endCxn id="400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"/>
          <p:cNvCxnSpPr>
            <a:stCxn id="400" idx="6"/>
            <a:endCxn id="402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2" name=""/>
          <p:cNvSpPr/>
          <p:nvPr/>
        </p:nvSpPr>
        <p:spPr>
          <a:xfrm>
            <a:off x="2464920" y="3695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"/>
          <p:cNvCxnSpPr>
            <a:stCxn id="402" idx="3"/>
            <a:endCxn id="401" idx="7"/>
          </p:cNvCxnSpPr>
          <p:nvPr/>
        </p:nvCxnSpPr>
        <p:spPr>
          <a:xfrm flipH="1">
            <a:off x="3644280" y="4788000"/>
            <a:ext cx="71172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3950640" y="49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"/>
          <p:cNvCxnSpPr>
            <a:stCxn id="401" idx="2"/>
            <a:endCxn id="404" idx="6"/>
          </p:cNvCxnSpPr>
          <p:nvPr/>
        </p:nvCxnSpPr>
        <p:spPr>
          <a:xfrm flipH="1">
            <a:off x="2310840" y="549864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6" name=""/>
          <p:cNvSpPr/>
          <p:nvPr/>
        </p:nvSpPr>
        <p:spPr>
          <a:xfrm>
            <a:off x="2693520" y="5465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"/>
          <p:cNvCxnSpPr>
            <a:stCxn id="404" idx="7"/>
            <a:endCxn id="403" idx="3"/>
          </p:cNvCxnSpPr>
          <p:nvPr/>
        </p:nvCxnSpPr>
        <p:spPr>
          <a:xfrm flipV="1">
            <a:off x="2247840" y="394884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2706120" y="462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"/>
          <p:cNvCxnSpPr>
            <a:stCxn id="403" idx="2"/>
            <a:endCxn id="405" idx="6"/>
          </p:cNvCxnSpPr>
          <p:nvPr/>
        </p:nvCxnSpPr>
        <p:spPr>
          <a:xfrm flipH="1">
            <a:off x="1269720" y="3797280"/>
            <a:ext cx="200736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2018880" y="4241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FA94-7EE8-4CFB-A4AB-E6BD42FB46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Inserção mais Barat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324000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6944400" y="48006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"/>
          <p:cNvCxnSpPr>
            <a:stCxn id="427" idx="6"/>
            <a:endCxn id="425" idx="2"/>
          </p:cNvCxnSpPr>
          <p:nvPr/>
        </p:nvCxnSpPr>
        <p:spPr>
          <a:xfrm flipV="1">
            <a:off x="1270080" y="3796920"/>
            <a:ext cx="200736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5" idx="3"/>
            <a:endCxn id="426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6" idx="1"/>
            <a:endCxn id="427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2057040" y="42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77C8-100C-4C62-8A21-A04088419A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Inserção mais Barat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6629400" y="1143000"/>
          <a:ext cx="2354400" cy="2773440"/>
        </p:xfrm>
        <a:graphic>
          <a:graphicData uri="http://schemas.openxmlformats.org/drawingml/2006/table">
            <a:tbl>
              <a:tblPr/>
              <a:tblGrid>
                <a:gridCol w="372960"/>
                <a:gridCol w="373320"/>
                <a:gridCol w="392040"/>
                <a:gridCol w="121608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k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+ 2 – 2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5 – 2 =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9 – 2 =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+ 9 – 7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+ 8 – 7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+ 2 – 7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+ 1 – 2 =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+ 6 – 2 =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+ 6 – 2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441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6" name=""/>
          <p:cNvSpPr/>
          <p:nvPr/>
        </p:nvSpPr>
        <p:spPr>
          <a:xfrm>
            <a:off x="6527880" y="1447920"/>
            <a:ext cx="255276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6945120" y="4800600"/>
            <a:ext cx="1012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1 + 1 =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44" idx="6"/>
            <a:endCxn id="442" idx="2"/>
          </p:cNvCxnSpPr>
          <p:nvPr/>
        </p:nvCxnSpPr>
        <p:spPr>
          <a:xfrm flipV="1">
            <a:off x="1270080" y="3796920"/>
            <a:ext cx="200736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2" idx="3"/>
            <a:endCxn id="443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43" idx="1"/>
            <a:endCxn id="444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057040" y="42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"/>
          <p:cNvCxnSpPr>
            <a:stCxn id="444" idx="7"/>
            <a:endCxn id="438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"/>
          <p:cNvSpPr/>
          <p:nvPr/>
        </p:nvSpPr>
        <p:spPr>
          <a:xfrm>
            <a:off x="1372680" y="4017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8" idx="6"/>
            <a:endCxn id="442" idx="2"/>
          </p:cNvCxnSpPr>
          <p:nvPr/>
        </p:nvCxnSpPr>
        <p:spPr>
          <a:xfrm>
            <a:off x="2311200" y="379692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8" name=""/>
          <p:cNvSpPr/>
          <p:nvPr/>
        </p:nvSpPr>
        <p:spPr>
          <a:xfrm>
            <a:off x="2628360" y="3581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EBE87-34F1-4E94-8970-7BACED421D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231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Inserção mais Barat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6629400" y="1143000"/>
          <a:ext cx="2354400" cy="2498760"/>
        </p:xfrm>
        <a:graphic>
          <a:graphicData uri="http://schemas.openxmlformats.org/drawingml/2006/table">
            <a:tbl>
              <a:tblPr/>
              <a:tblGrid>
                <a:gridCol w="372960"/>
                <a:gridCol w="373320"/>
                <a:gridCol w="392040"/>
                <a:gridCol w="121608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k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1 – 1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4 – 1 =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+ 5 – 2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+ 9 – 2 =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+ 8 – 7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+ 2 – 7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+ 6 – 2 =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+ 6 – 2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463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6945120" y="4800600"/>
            <a:ext cx="1012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2 + 4 = 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"/>
          <p:cNvCxnSpPr>
            <a:stCxn id="464" idx="3"/>
            <a:endCxn id="465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>
            <a:stCxn id="465" idx="1"/>
            <a:endCxn id="466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66" idx="7"/>
            <a:endCxn id="460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1372680" y="4017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"/>
          <p:cNvCxnSpPr>
            <a:stCxn id="460" idx="6"/>
            <a:endCxn id="464" idx="2"/>
          </p:cNvCxnSpPr>
          <p:nvPr/>
        </p:nvCxnSpPr>
        <p:spPr>
          <a:xfrm>
            <a:off x="2311200" y="379692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2628360" y="3581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27880" y="2006640"/>
            <a:ext cx="255276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"/>
          <p:cNvCxnSpPr>
            <a:stCxn id="460" idx="5"/>
            <a:endCxn id="463" idx="2"/>
          </p:cNvCxnSpPr>
          <p:nvPr/>
        </p:nvCxnSpPr>
        <p:spPr>
          <a:xfrm>
            <a:off x="2247840" y="3949200"/>
            <a:ext cx="204552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63" idx="1"/>
            <a:endCxn id="464" idx="5"/>
          </p:cNvCxnSpPr>
          <p:nvPr/>
        </p:nvCxnSpPr>
        <p:spPr>
          <a:xfrm flipH="1" flipV="1">
            <a:off x="3644280" y="3949200"/>
            <a:ext cx="71172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3963600" y="40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731680" y="3924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0858-1143-40FC-843B-1ED3AA76E8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27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Inserção mais Barat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– Passo f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629400" y="1143000"/>
          <a:ext cx="2354400" cy="1674720"/>
        </p:xfrm>
        <a:graphic>
          <a:graphicData uri="http://schemas.openxmlformats.org/drawingml/2006/table">
            <a:tbl>
              <a:tblPr/>
              <a:tblGrid>
                <a:gridCol w="372960"/>
                <a:gridCol w="373320"/>
                <a:gridCol w="392040"/>
                <a:gridCol w="121608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k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4 – 1 =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+ 3 – 1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+ 9 – 5 =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+ 2 – 7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+ 6 – 2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487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6945120" y="4800600"/>
            <a:ext cx="1012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6 + 4 = 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"/>
          <p:cNvCxnSpPr>
            <a:stCxn id="488" idx="3"/>
            <a:endCxn id="489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" name=""/>
          <p:cNvCxnSpPr>
            <a:stCxn id="489" idx="1"/>
            <a:endCxn id="490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"/>
          <p:cNvCxnSpPr>
            <a:stCxn id="490" idx="7"/>
            <a:endCxn id="484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1372680" y="4017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527880" y="2286000"/>
            <a:ext cx="255276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"/>
          <p:cNvCxnSpPr>
            <a:stCxn id="484" idx="5"/>
            <a:endCxn id="487" idx="2"/>
          </p:cNvCxnSpPr>
          <p:nvPr/>
        </p:nvCxnSpPr>
        <p:spPr>
          <a:xfrm>
            <a:off x="2247840" y="3949200"/>
            <a:ext cx="204552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87" idx="1"/>
            <a:endCxn id="488" idx="5"/>
          </p:cNvCxnSpPr>
          <p:nvPr/>
        </p:nvCxnSpPr>
        <p:spPr>
          <a:xfrm flipH="1" flipV="1">
            <a:off x="3644280" y="3949200"/>
            <a:ext cx="71172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3963600" y="40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731680" y="3924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5" name=""/>
          <p:cNvCxnSpPr>
            <a:stCxn id="488" idx="4"/>
            <a:endCxn id="485" idx="0"/>
          </p:cNvCxnSpPr>
          <p:nvPr/>
        </p:nvCxnSpPr>
        <p:spPr>
          <a:xfrm>
            <a:off x="3492000" y="4013280"/>
            <a:ext cx="1080" cy="1270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485" idx="2"/>
            <a:endCxn id="489" idx="6"/>
          </p:cNvCxnSpPr>
          <p:nvPr/>
        </p:nvCxnSpPr>
        <p:spPr>
          <a:xfrm flipH="1">
            <a:off x="2310840" y="549864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3442680" y="4678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718720" y="5473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3AB2-AAD7-4986-AD01-00B5C122D01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8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1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315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blema de Roteamento de Veículos (PRV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1235160" y="3751920"/>
            <a:ext cx="111744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Depósi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1160" y="30607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09800" y="31813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213200" y="27874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305440" y="317484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11600" y="34732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900520" y="28638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295800" y="29844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97400" y="32893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03840" y="32259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49640" y="40384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79760" y="43243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009800" y="47052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76560" y="43308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517760" y="477504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73520" y="49975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35640" y="44514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45120" y="38545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0200" y="47242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348000" y="2482920"/>
            <a:ext cx="1241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Consumido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3114360" y="267336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3444840" y="2711520"/>
            <a:ext cx="1144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3647880" y="27115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52800" y="2711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600120" y="3321000"/>
            <a:ext cx="76320" cy="7923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76440" y="3803760"/>
            <a:ext cx="558720" cy="355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5000" y="3244680"/>
            <a:ext cx="304920" cy="76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184040" y="304164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400040" y="3016080"/>
            <a:ext cx="190800" cy="7192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212560" y="3409920"/>
            <a:ext cx="190440" cy="3240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505240" y="3092400"/>
            <a:ext cx="457200" cy="1778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3134160" y="3041640"/>
            <a:ext cx="214200" cy="882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 flipV="1">
            <a:off x="3488400" y="3217680"/>
            <a:ext cx="94680" cy="1616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716280" y="3395160"/>
            <a:ext cx="270000" cy="694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553920" y="3474720"/>
            <a:ext cx="449640" cy="48636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3033720" y="3695040"/>
            <a:ext cx="383400" cy="27396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354040" y="3678840"/>
            <a:ext cx="541080" cy="12096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8840" y="3562200"/>
            <a:ext cx="610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Rot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981000" y="4057560"/>
            <a:ext cx="609840" cy="3812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19160" y="4489560"/>
            <a:ext cx="304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197000" y="4552920"/>
            <a:ext cx="190440" cy="279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22200" y="4870440"/>
            <a:ext cx="368640" cy="50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743120" y="4971960"/>
            <a:ext cx="304920" cy="1526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212920" y="4933440"/>
            <a:ext cx="914400" cy="2034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1819080" y="4057560"/>
            <a:ext cx="990360" cy="5335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2936520" y="4667040"/>
            <a:ext cx="190440" cy="17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18800" y="5156280"/>
            <a:ext cx="3848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1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724280" y="1371600"/>
            <a:ext cx="4191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Restriçõ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ada rota começa e termina no depósit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ada vértice, com exceção do depósito, é visitado uma única vez, por somente um veícul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 demanda total de uma rota não deve superar a capacidade do veícul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A595-B34C-4FAA-8D9A-43396347A5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2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8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e Roteamento de Veículos (PRV)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euríst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izinho mais Próximo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larke and Wrigh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FE9F-43D2-40B2-9A67-B0C18D1CFFB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7062840" y="1143000"/>
          <a:ext cx="1928880" cy="167472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65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6997680" y="144792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83920" y="411480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49560" y="279396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1C27-99D4-4D1F-BBDA-EA241194A5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8080" y="1371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Clás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ocalizar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nós (medianas, facilidades) de forma a minimizar a soma dos custos de ligação entre cada nó de demanda e sua mediana mais próx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lic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ocalização de fábricas, depósitos, hospitais, escolas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EEDD-20E0-4BE8-8774-F4F62367B1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7062840" y="1143000"/>
          <a:ext cx="1928880" cy="140004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89" name=""/>
          <p:cNvSpPr/>
          <p:nvPr/>
        </p:nvSpPr>
        <p:spPr>
          <a:xfrm>
            <a:off x="6997680" y="200664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783920" y="411480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649560" y="252720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E6C1-5B05-47AD-9518-9C948B0822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7062840" y="1143000"/>
          <a:ext cx="1928880" cy="112536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03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6997680" y="144792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77600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649560" y="224784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5EB8-08A2-4935-9D51-15D895BC61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 rot="19435800">
            <a:off x="457776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039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7062840" y="1143000"/>
          <a:ext cx="1928880" cy="85104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25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77600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649560" y="196848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F030-6523-436B-B351-8FA27238B7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 rot="3205200">
            <a:off x="3761280" y="40536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801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 rot="19435800">
            <a:off x="457776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039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7062840" y="1143000"/>
          <a:ext cx="1928880" cy="85104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48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78896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997680" y="144792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649560" y="196848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02B3-72C2-49EA-B76E-F573519F3F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 rot="647400">
            <a:off x="406044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37156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 rot="3205200">
            <a:off x="3761280" y="40536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801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H="1" rot="19435800">
            <a:off x="457776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39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7062840" y="1143000"/>
          <a:ext cx="1928880" cy="57636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74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78896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97680" y="144792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49560" y="170172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43A3-8858-47C2-9399-53AEEC08A7D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 flipH="1" rot="20720400">
            <a:off x="3990600" y="4776120"/>
            <a:ext cx="1356120" cy="289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647400">
            <a:off x="406044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37156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 rot="3205200">
            <a:off x="3761280" y="40536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801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 rot="19435800">
            <a:off x="457776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039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– Passo f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78896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721320" y="49831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91840" y="303516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379F-C6BA-4331-9E0E-07C38714005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 flipH="1" rot="18619800">
            <a:off x="2368800" y="427464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 rot="7528800">
            <a:off x="396360" y="345960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 rot="3205200">
            <a:off x="1107000" y="40536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 rot="14194200">
            <a:off x="2436120" y="2382120"/>
            <a:ext cx="135648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 rot="3568800">
            <a:off x="-22032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rot="14412600">
            <a:off x="1257840" y="242388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rot="8874600">
            <a:off x="367560" y="1872720"/>
            <a:ext cx="1356840" cy="289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-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297180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20" name=""/>
          <p:cNvSpPr/>
          <p:nvPr/>
        </p:nvSpPr>
        <p:spPr>
          <a:xfrm>
            <a:off x="3747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006640" y="5664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828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 rot="19435800">
            <a:off x="2000160" y="326304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628640" y="3270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 rot="10249800">
            <a:off x="403920" y="2876760"/>
            <a:ext cx="135612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 rot="20720400">
            <a:off x="1374480" y="4776120"/>
            <a:ext cx="1356120" cy="289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023840" y="566100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60020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6160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942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0299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029960" y="4775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05444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499040" y="5499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753560" y="5295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234520" y="52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2363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350440" y="4780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467160" y="40384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>
            <a:off x="5090400" y="4038480"/>
            <a:ext cx="3884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(6 + 6) + (7 + 7) + (8 + 8) + (9 + 9) + (10 + 10) = 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517000" y="452124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409560" y="303516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DF040-820F-45D4-8268-8DE7323EF9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9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2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5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8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1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7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0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3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6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9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2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5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8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1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4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0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3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 flipH="1" rot="14194200">
            <a:off x="2436120" y="2382120"/>
            <a:ext cx="135648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 rot="10249800">
            <a:off x="403920" y="2876760"/>
            <a:ext cx="135612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rot="647400">
            <a:off x="139356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rot="18619800">
            <a:off x="2394360" y="427464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 rot="7528800">
            <a:off x="421920" y="345960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rot="3205200">
            <a:off x="1132200" y="405360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 rot="3568800">
            <a:off x="-19476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 rot="14412600">
            <a:off x="1283760" y="242388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 rot="8874600">
            <a:off x="394200" y="1872360"/>
            <a:ext cx="13557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-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54" name=""/>
          <p:cNvSpPr/>
          <p:nvPr/>
        </p:nvSpPr>
        <p:spPr>
          <a:xfrm>
            <a:off x="39996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3184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5029200" y="1143000"/>
          <a:ext cx="3962520" cy="304812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400320"/>
                <a:gridCol w="398520"/>
                <a:gridCol w="399960"/>
                <a:gridCol w="1236600"/>
                <a:gridCol w="7621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 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i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57" name=""/>
          <p:cNvSpPr/>
          <p:nvPr/>
        </p:nvSpPr>
        <p:spPr>
          <a:xfrm>
            <a:off x="290844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 rot="19435800">
            <a:off x="202500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65420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 rot="20720400">
            <a:off x="1398960" y="47764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04940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62576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4871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96812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551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055160" y="4775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000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779120" y="5295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260080" y="52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2615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70468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52880" y="3657600"/>
            <a:ext cx="4114800" cy="241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499040" y="5499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50440" y="4780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467160" y="47242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5517000" y="520704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100840" y="4724280"/>
            <a:ext cx="11332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80 – </a:t>
            </a:r>
            <a:r>
              <a:rPr b="1" i="1" lang="pt-BR" sz="1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pt-BR" sz="13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= 6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635160" y="416556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2ED4-97DD-4EB6-92FE-73FB3EC3231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08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1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4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7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1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4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6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827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 rot="10623000">
            <a:off x="703080" y="3294720"/>
            <a:ext cx="340668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rot="647400">
            <a:off x="139356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 rot="18619800">
            <a:off x="2394360" y="427464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 rot="7528800">
            <a:off x="421920" y="345960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 rot="3205200">
            <a:off x="1132200" y="405360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 rot="3568800">
            <a:off x="-19476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 rot="14412600">
            <a:off x="1283760" y="242388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 rot="8874600">
            <a:off x="394200" y="1872360"/>
            <a:ext cx="13557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-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89" name=""/>
          <p:cNvSpPr/>
          <p:nvPr/>
        </p:nvSpPr>
        <p:spPr>
          <a:xfrm>
            <a:off x="39996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03184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5029200" y="1143000"/>
          <a:ext cx="3962520" cy="277344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400320"/>
                <a:gridCol w="398520"/>
                <a:gridCol w="399960"/>
                <a:gridCol w="1236600"/>
                <a:gridCol w="7621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 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i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92" name=""/>
          <p:cNvSpPr/>
          <p:nvPr/>
        </p:nvSpPr>
        <p:spPr>
          <a:xfrm>
            <a:off x="290844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 rot="19435800">
            <a:off x="202500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65420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 rot="20720400">
            <a:off x="1398960" y="47764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4940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62576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4871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6812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0551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055160" y="4775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8000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779120" y="5295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260080" y="52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2615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70468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467160" y="47242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5517000" y="520704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100840" y="4724280"/>
            <a:ext cx="11332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63 – </a:t>
            </a:r>
            <a:r>
              <a:rPr b="1" i="1" lang="pt-BR" sz="1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pt-BR" sz="13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= 4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12440" y="511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635160" y="389880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952880" y="2006640"/>
            <a:ext cx="4114800" cy="241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875C-FFD7-43FD-83E2-7526FDE2C82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62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65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68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71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5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81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 rot="1365600">
            <a:off x="-64980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rot="10623000">
            <a:off x="703080" y="3294720"/>
            <a:ext cx="340668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rot="647400">
            <a:off x="139356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 rot="7528800">
            <a:off x="421920" y="345960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 rot="3205200">
            <a:off x="1132200" y="405360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rot="3568800">
            <a:off x="-19476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rot="8874600">
            <a:off x="394200" y="1872360"/>
            <a:ext cx="13557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39996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3184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5029200" y="1143000"/>
          <a:ext cx="3962520" cy="249876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400320"/>
                <a:gridCol w="398520"/>
                <a:gridCol w="399960"/>
                <a:gridCol w="1236600"/>
                <a:gridCol w="7621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 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i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825" name=""/>
          <p:cNvSpPr/>
          <p:nvPr/>
        </p:nvSpPr>
        <p:spPr>
          <a:xfrm>
            <a:off x="290844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H="1" rot="19435800">
            <a:off x="202500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65420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H="1" rot="20720400">
            <a:off x="1398960" y="47764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940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2576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4871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96812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0551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08000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260080" y="52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2615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70468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467160" y="47242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5517000" y="520704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100840" y="4724280"/>
            <a:ext cx="11332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9 – </a:t>
            </a:r>
            <a:r>
              <a:rPr b="1" i="1" lang="pt-BR" sz="1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pt-BR" sz="13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= 3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12440" y="511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33784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635160" y="361944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952880" y="2552760"/>
            <a:ext cx="4114800" cy="241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D7DA-51D7-46C9-B512-B1ADAFD6091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6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9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22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25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9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2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4" dur="2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35" dur="2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1371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stri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odas as regiões devem ser atendidas por uma fac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número de facilidades instaladas deve ser igual a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ma regiã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só pode ser atendida por uma facilidade da regiã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se uma facilidade for instalada em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cada facilidade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está associado um custo de instalação f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D099-3C52-4E9B-AA8B-39E84619A7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 rot="1365600">
            <a:off x="-64980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rot="10623000">
            <a:off x="703080" y="3294720"/>
            <a:ext cx="340668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rot="647400">
            <a:off x="139356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 rot="3205200">
            <a:off x="1132200" y="405360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 rot="3568800">
            <a:off x="-19476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– Passo f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852" name=""/>
          <p:cNvSpPr/>
          <p:nvPr/>
        </p:nvSpPr>
        <p:spPr>
          <a:xfrm>
            <a:off x="39996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03184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5029200" y="1143000"/>
          <a:ext cx="3962520" cy="192240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400320"/>
                <a:gridCol w="398520"/>
                <a:gridCol w="399960"/>
                <a:gridCol w="1236600"/>
                <a:gridCol w="7621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 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i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855" name=""/>
          <p:cNvSpPr/>
          <p:nvPr/>
        </p:nvSpPr>
        <p:spPr>
          <a:xfrm>
            <a:off x="290844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 rot="19435800">
            <a:off x="202500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65420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H="1" rot="20720400">
            <a:off x="1398960" y="47764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04940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62576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871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0551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08000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2615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70468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467160" y="47242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3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2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712440" y="511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33784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635160" y="304812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7931-4A4A-4357-80AC-BA937ED15A2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167652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200400"/>
            <a:ext cx="53316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59092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403848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2362320"/>
            <a:ext cx="53316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502920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144792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14800" y="472428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457200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1828800"/>
            <a:ext cx="53316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BF67-E444-498C-B2FF-9FEC162BB1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167652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3200400"/>
            <a:ext cx="53316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259092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403848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2362320"/>
            <a:ext cx="53316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502920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144792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472428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457200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1828800"/>
            <a:ext cx="53316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A83E-E940-4A13-ADB2-645AC6124F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167652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200400"/>
            <a:ext cx="53316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259092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403848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2362320"/>
            <a:ext cx="53316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502920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44792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472428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457200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1828800"/>
            <a:ext cx="53316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1930320"/>
            <a:ext cx="30492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819520" y="2362320"/>
            <a:ext cx="83808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438280" y="3581280"/>
            <a:ext cx="15264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371600" y="3504960"/>
            <a:ext cx="10666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2895480"/>
            <a:ext cx="9144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029200" y="2209680"/>
            <a:ext cx="4572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43680" y="2742840"/>
            <a:ext cx="1371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3657600"/>
            <a:ext cx="129528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495320" y="3733920"/>
            <a:ext cx="3049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7150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oma dos custos das arestas de ligação deve ser mínima! O problema é dito não capacitado porque não há restrições de capacidade de atendimento, isto é, cada facilidade pode atender um número ilimitado de local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D478-D6AB-4DA0-93D2-EDDCA59CFE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211640" y="323028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03640" y="18396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88000" y="9126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3280" y="205344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00360" y="6282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24360" y="198252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8480" y="82332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27640" y="554616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16720" y="305244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85080" y="433476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010A-EDF8-44AE-B216-DF7BA97DE1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211640" y="323028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03640" y="18396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8000" y="9126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3280" y="205344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00360" y="6282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24360" y="198252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68480" y="82332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27640" y="554616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16720" y="305244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85080" y="433476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6400440" y="3429000"/>
            <a:ext cx="228600" cy="2133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3429000"/>
            <a:ext cx="1067040" cy="99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2362320"/>
            <a:ext cx="609480" cy="761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447920" y="914400"/>
            <a:ext cx="12952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752480" y="990720"/>
            <a:ext cx="106704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133720"/>
            <a:ext cx="76212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581280" y="1218960"/>
            <a:ext cx="1219320" cy="68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53080" y="307332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25960" y="1854360"/>
            <a:ext cx="30456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30600" y="64764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7AF6-86D4-4F9C-BCF8-61818C0C15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04:06:18Z</dcterms:created>
  <dc:creator>carol</dc:creator>
  <dc:description/>
  <dc:language>en-US</dc:language>
  <cp:lastModifiedBy>Marcone Jamilson Freitas Souza</cp:lastModifiedBy>
  <dcterms:modified xsi:type="dcterms:W3CDTF">2006-02-17T22:34:52Z</dcterms:modified>
  <cp:revision>784</cp:revision>
  <dc:subject/>
  <dc:title>Slide 1</dc:title>
</cp:coreProperties>
</file>