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51F1-A339-4CDA-AFFA-E16069011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DDFA-C3FF-4580-AB9B-B6E38DB04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A819-0CE5-4834-AF58-F3DFDBFD7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BBF1-F869-42C9-800B-8AC58E7BF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426-F37F-4901-8190-CEF7FC40A3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686-C4F4-466B-82AF-7096F26F5D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D9C-B7DE-4127-9527-58C5E0ABD3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2B2-A38B-44EA-A9F5-3FF6A6D8CF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5F6-FADE-4A9C-B01A-52AC11EF80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4E7-3183-4298-A3D9-F6D9CFA462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5A0-7055-4A30-9446-FD0E5ED030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CF78-5830-45CB-9DCD-A2CD273F6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CA3-A85A-46CE-A9B7-ADBB2ED218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E16-B084-4835-B23D-A11B2127F0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D67-AACF-4FC1-8BE6-69689AAC89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0EC-DC87-4D29-BFAF-663E7AAF7A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670-EDFC-4EDE-A572-B604A3C02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5F68-8072-4128-861F-7135006BE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D808-C7E4-4130-AA98-5AD477306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FA23-E1E5-4A2B-85DE-D3FEBB29D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411A-CB6B-4E86-B807-815F3F760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C391-C825-4757-A233-FF7AD4F3B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609A-FC1E-4F69-A88E-34E73B2D4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BC1F-ABD1-4ECA-9874-3B4104B7A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7160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1665000" y="6400800"/>
            <a:ext cx="7467480" cy="457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00640" y="6457680"/>
            <a:ext cx="6858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E7B3-9C0A-445B-A4A4-A3CE94ACED62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14480" y="200160"/>
            <a:ext cx="1066680" cy="837720"/>
            <a:chOff x="114480" y="200160"/>
            <a:chExt cx="1066680" cy="837720"/>
          </a:xfrm>
        </p:grpSpPr>
        <p:sp>
          <p:nvSpPr>
            <p:cNvPr id="7" name=""/>
            <p:cNvSpPr/>
            <p:nvPr/>
          </p:nvSpPr>
          <p:spPr>
            <a:xfrm>
              <a:off x="219960" y="2437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4480" y="5270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20016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288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0" y="85428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2520" y="41796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3308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0040" y="72360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632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0840" y="94140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77840" y="618480"/>
              <a:ext cx="8460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03040" y="592560"/>
              <a:ext cx="25380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08520" y="309240"/>
              <a:ext cx="5076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05040" y="400320"/>
              <a:ext cx="182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516240" y="287280"/>
              <a:ext cx="12672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41440" y="679680"/>
              <a:ext cx="23256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6240" y="705600"/>
              <a:ext cx="10548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77840" y="330840"/>
              <a:ext cx="63360" cy="19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85440" y="291240"/>
              <a:ext cx="124200" cy="42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33720" y="919800"/>
              <a:ext cx="263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6520" y="693000"/>
              <a:ext cx="21132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2520" y="243720"/>
              <a:ext cx="365040" cy="104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112400" y="431640"/>
              <a:ext cx="20880" cy="174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702720" y="701280"/>
              <a:ext cx="38052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199080" y="264960"/>
              <a:ext cx="42300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3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C3C0-8721-4916-A6C9-DD4E0EAEB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14479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2286000"/>
            <a:ext cx="9144000" cy="148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1224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74464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4000" y="9907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000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16240" y="44989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38960" y="2160720"/>
            <a:ext cx="52992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9840" y="169236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0640" y="3797280"/>
            <a:ext cx="52884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068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496728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9120" y="3235320"/>
            <a:ext cx="476280" cy="1285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00240" y="3095640"/>
            <a:ext cx="1432080" cy="35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7120" y="1574640"/>
            <a:ext cx="2863800" cy="81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60960" y="2064960"/>
            <a:ext cx="103212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66760" y="1459080"/>
            <a:ext cx="717480" cy="1753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3564000"/>
            <a:ext cx="131292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7120" y="3701880"/>
            <a:ext cx="596880" cy="128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59120" y="1692360"/>
            <a:ext cx="357120" cy="1052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22920" y="1481040"/>
            <a:ext cx="701640" cy="2287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38600" y="4849920"/>
            <a:ext cx="148896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45320" y="3637080"/>
            <a:ext cx="119196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0640" y="1224000"/>
            <a:ext cx="2062440" cy="560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232760" y="2233440"/>
            <a:ext cx="118800" cy="935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19760" y="3681360"/>
            <a:ext cx="2147760" cy="1519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77920" y="1341000"/>
            <a:ext cx="2386080" cy="152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633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ogística Aplicada a Transport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ne Jamilson Freitas Sou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amento de Comput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epage: http://www.decom.ufop.br/prof/marc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marcone@iceb.ufop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versidade Federal de Ouro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Rede de Distribuiçã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Carros Brasil Lt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1523880"/>
            <a:ext cx="5790600" cy="4647960"/>
            <a:chOff x="1828800" y="1523880"/>
            <a:chExt cx="5790600" cy="4647960"/>
          </a:xfrm>
        </p:grpSpPr>
        <p:sp>
          <p:nvSpPr>
            <p:cNvPr id="219" name=""/>
            <p:cNvSpPr/>
            <p:nvPr/>
          </p:nvSpPr>
          <p:spPr>
            <a:xfrm>
              <a:off x="3798720" y="2443680"/>
              <a:ext cx="691200" cy="6897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8720" y="3842640"/>
              <a:ext cx="69120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8360" y="1523880"/>
              <a:ext cx="688320" cy="6919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28360" y="3514320"/>
              <a:ext cx="68832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28360" y="4453920"/>
              <a:ext cx="690480" cy="6919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9480" y="2060640"/>
              <a:ext cx="73116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28800" y="1676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7520" y="514620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6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30160" y="26164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30160" y="401544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3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57040" y="2213640"/>
              <a:ext cx="949320" cy="17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9480" y="1868760"/>
              <a:ext cx="309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97680" y="1523880"/>
              <a:ext cx="691200" cy="689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30160" y="2040840"/>
              <a:ext cx="18338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42880" y="3133440"/>
              <a:ext cx="2520" cy="6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9440" y="1676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9440" y="370836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3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9440" y="4628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956680" y="3095640"/>
              <a:ext cx="1004040" cy="18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110040" y="4379040"/>
              <a:ext cx="726840" cy="6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129480" y="3938760"/>
              <a:ext cx="3098880" cy="13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129480" y="4858560"/>
              <a:ext cx="309888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29480" y="5491080"/>
              <a:ext cx="309888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97680" y="4973760"/>
              <a:ext cx="691200" cy="687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87400" y="158112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39720" y="204084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1200" y="275040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66560" y="328680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3160" y="390024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6360" y="4456080"/>
              <a:ext cx="46188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83160" y="453276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97640" y="506952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23840" y="566388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080" y="202176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8360" y="5479200"/>
              <a:ext cx="69048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61600" y="5673240"/>
              <a:ext cx="757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F251-A74B-4C3E-A1FA-8163C21405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Representa um caso especial de problemas de redes, em que o custo associado a cada arco representa a distância entre dois pontos (nós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O objetivo do problema é encontrar a rota de custo mínimo, que una um nó origem (O) a um nó destino (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743200" y="3886200"/>
            <a:ext cx="4648320" cy="2209680"/>
            <a:chOff x="2743200" y="3886200"/>
            <a:chExt cx="4648320" cy="2209680"/>
          </a:xfrm>
        </p:grpSpPr>
        <p:sp>
          <p:nvSpPr>
            <p:cNvPr id="258" name=""/>
            <p:cNvSpPr/>
            <p:nvPr/>
          </p:nvSpPr>
          <p:spPr>
            <a:xfrm flipV="1">
              <a:off x="3259080" y="4317480"/>
              <a:ext cx="60480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5400" y="4714920"/>
              <a:ext cx="546120" cy="5522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6880" y="5541840"/>
              <a:ext cx="54936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1360" y="3886200"/>
              <a:ext cx="54612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03800" y="4716360"/>
              <a:ext cx="547560" cy="550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36880" y="3886200"/>
              <a:ext cx="54936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3000" y="4164120"/>
              <a:ext cx="135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398840" y="5099040"/>
              <a:ext cx="8208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4680" y="5160960"/>
              <a:ext cx="60336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3200" y="4716360"/>
              <a:ext cx="549360" cy="55404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97480" y="4243320"/>
              <a:ext cx="5479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1360" y="499284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9320" y="4992840"/>
              <a:ext cx="18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45F4-AF86-46D7-941C-1A3EC50056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Menor Caminh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Adornos &amp; Teci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2589120"/>
            <a:ext cx="5333760" cy="2287440"/>
            <a:chOff x="2209680" y="2589120"/>
            <a:chExt cx="5333760" cy="2287440"/>
          </a:xfrm>
        </p:grpSpPr>
        <p:sp>
          <p:nvSpPr>
            <p:cNvPr id="274" name=""/>
            <p:cNvSpPr/>
            <p:nvPr/>
          </p:nvSpPr>
          <p:spPr>
            <a:xfrm flipV="1">
              <a:off x="2801880" y="3034800"/>
              <a:ext cx="6926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15960" y="3445920"/>
              <a:ext cx="627480" cy="5734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64640" y="4303080"/>
              <a:ext cx="6292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61000" y="2589120"/>
              <a:ext cx="6274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33520" y="3448080"/>
              <a:ext cx="627480" cy="57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64640" y="2589120"/>
              <a:ext cx="6292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92120" y="2876760"/>
              <a:ext cx="155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109400" y="3844800"/>
              <a:ext cx="94104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84600" y="3908520"/>
              <a:ext cx="6926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9680" y="3448080"/>
              <a:ext cx="629280" cy="5731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88480" y="2957760"/>
              <a:ext cx="62748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92800" y="260676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7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5800" y="3067200"/>
              <a:ext cx="7905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1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75800" y="4083120"/>
              <a:ext cx="7905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4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40600" y="413064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7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52960" y="3670560"/>
              <a:ext cx="7884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62360" y="305136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5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61000" y="3733920"/>
              <a:ext cx="12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9200" y="346392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50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37160" y="3733920"/>
              <a:ext cx="21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287C-B827-4ADF-B4D7-89847E3FB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njunto de C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1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dade ori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dade destin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istância entre as cidades i e j  (unid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14400" y="5037120"/>
                <a:ext cx="3924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rota ij é selecion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ECD8-26C8-4419-B85E-1F1FF7A4D2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311120" y="1523880"/>
                <a:ext cx="659628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        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            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478E-2F0B-4D86-9B86-6F68EFCBD3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Trata situações nas quais deseja-se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ahoma"/>
              </a:rPr>
              <a:t>maximizar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 a quantidade de fluxo de um ponto origem para um ponto destino, estando sujeito a restrições de capacidade de fluxo nos arc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1624-02F9-4DF7-B499-C99E21EAB1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Fluxo Máxim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GasoBras Lt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62320" y="2273400"/>
            <a:ext cx="5028480" cy="2526840"/>
            <a:chOff x="2362320" y="2273400"/>
            <a:chExt cx="5028480" cy="2526840"/>
          </a:xfrm>
        </p:grpSpPr>
        <p:sp>
          <p:nvSpPr>
            <p:cNvPr id="305" name=""/>
            <p:cNvSpPr/>
            <p:nvPr/>
          </p:nvSpPr>
          <p:spPr>
            <a:xfrm flipV="1">
              <a:off x="2920680" y="2775240"/>
              <a:ext cx="651240" cy="60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97160" y="3208680"/>
              <a:ext cx="593640" cy="6040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45280" y="41122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13840" y="2305080"/>
              <a:ext cx="59364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16360" y="41122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45280" y="23050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8600" y="3143880"/>
              <a:ext cx="745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37120" y="2608200"/>
              <a:ext cx="146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7120" y="4415400"/>
              <a:ext cx="146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38480" y="2708640"/>
              <a:ext cx="1627200" cy="150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04480" y="3695760"/>
              <a:ext cx="651240" cy="60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62320" y="3210480"/>
              <a:ext cx="591480" cy="60228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7840" y="2693160"/>
              <a:ext cx="59148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207480" y="3620520"/>
              <a:ext cx="59148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14760" y="227340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57880" y="274176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41680" y="3880080"/>
              <a:ext cx="74520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14760" y="4348800"/>
              <a:ext cx="745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33120" y="388008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88560" y="274176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D452-C6EB-40E6-BF63-4B5D01E834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njunto dos Nó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Nó ori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ó destin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apacidade do arco i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fluxo que atravessa o arco i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1BE7-E984-425F-97F2-F1A506372D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58880" y="1406520"/>
                <a:ext cx="7929360" cy="43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F9C0-60E7-4FD6-BA53-53AE757676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Clás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ocalizar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ós (medianas, facilidades) de forma a minimizar a soma dos custos de ligação entre cada nó de demanda e sua mediana mais próx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ocalização de fábricas, depósitos, hospitais, escolas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514B-2C20-4B16-8C6E-E13D1705CC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ula 2 - Rote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219320"/>
            <a:ext cx="70102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Transporte como uma Re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Redes de Distribui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Menor Caminh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Fluxo Máxi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as p-median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Caixeiro Viaja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0E3A-EB31-426B-B3A9-BA77D00EA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stri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odas as regiões devem ser atendidas por uma fac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número de facilidades instaladas deve ser igual a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ma regi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ó pode ser atendida por uma facilidade da regi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e uma facilidade for instalada 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ada facilida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normalmente associa-se um custo de instalação f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2DE3-8026-4FB6-8559-3FC8E86F7B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4211640" y="323028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3640" y="1839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88000" y="912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03280" y="205344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00360" y="6282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24360" y="19825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68480" y="8233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27640" y="55461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16720" y="305244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85080" y="43347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196F-59B2-4528-9D65-96375CF1F1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828800" y="1386000"/>
          <a:ext cx="5638680" cy="219060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  <a:gridCol w="939600"/>
                <a:gridCol w="939960"/>
                <a:gridCol w="9396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1828800" y="4205160"/>
          <a:ext cx="571500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90360"/>
                <a:gridCol w="914400"/>
                <a:gridCol w="952560"/>
                <a:gridCol w="9525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1815480" y="5195880"/>
            <a:ext cx="52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= 2  (número de facilidades a serem localiz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44200" y="580536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 = 5 (número de local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62080" y="359568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de ligação entre as loc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8360" y="458640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fixo de instalação da faci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2A1B-0B91-4E57-9136-E3EF1A607C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Local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facilidades (medianas) a serem localizad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ligação entre a localidade i e sua facilidade mais próxima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instalação da facilidade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s seguintes variáveis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0880" y="5410080"/>
                <a:ext cx="3106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mediana j é instal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04920" y="4346640"/>
                <a:ext cx="5029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localidade  i é atendida pela facilidade j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A9E6-44E3-434F-9304-C9CE7DF1EF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368440" y="2209680"/>
                <a:ext cx="13716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368440" y="4495680"/>
                <a:ext cx="1295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292480" y="5257800"/>
                <a:ext cx="1600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151160" y="5318280"/>
                <a:ext cx="1494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3894120" y="548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23040" y="2514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90720" y="47242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n; j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597040" y="1143000"/>
                <a:ext cx="32004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368440" y="320976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54BE-9135-4C1D-8CA0-22D413C1BD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iste em encontrar uma rota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ta de uma cidade orig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sse por todas as demais cidades uma única v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torne à cidade origem ao final do percur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rcorra a menor distância possí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ta conhecida como ciclo hamiltoni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6EA3-463B-49E6-9FBF-D7BAE34A27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o Caixeiro Viajant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438280" y="2209680"/>
                <a:ext cx="320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514600" y="4952880"/>
                <a:ext cx="45306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471760" y="5762520"/>
                <a:ext cx="15667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590920" y="1219320"/>
                <a:ext cx="1627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514600" y="3121200"/>
                <a:ext cx="320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828880" y="3959280"/>
                <a:ext cx="3714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343400" y="5654520"/>
                <a:ext cx="117468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1CD1-4923-4880-8CFF-79B0928860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porte - Defin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Dado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um conjunto de fontes de produção,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uma rede de caminhos possíveis de transpor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os mercados para os quais determinados produtos devem ser transportados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Problema de Transporte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consiste em determinar, dentre as diversas maneiras de distribuição de um produto, a que resultará no menor custo de transporte entre as fontes de produção e os mercados consumidore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A33E-0562-4319-891E-1162FE01D8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e 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junto de Fontes, M = {1,2,...,m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junto de Mercados, N = {1,2,...,n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ferta da Fonte i 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manda do Mercado j 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usto unitário de transporte da fonte i para o mercado j (u.m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antidade de itens transportados da fonte i para o mercado 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5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9DDB-4FFB-4FD0-B78D-7EB21A674D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1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=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33680" y="1787400"/>
                <a:ext cx="641016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0B68-BBCE-476B-B909-2AE9CCCDE5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2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g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CC0E-172D-468A-9AF2-0D22C27134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l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8EC4-438E-490F-B6AF-6EDD73266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porte como uma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438280" y="1295280"/>
            <a:ext cx="4571640" cy="2513880"/>
            <a:chOff x="2438280" y="1295280"/>
            <a:chExt cx="4571640" cy="2513880"/>
          </a:xfrm>
        </p:grpSpPr>
        <p:sp>
          <p:nvSpPr>
            <p:cNvPr id="157" name=""/>
            <p:cNvSpPr/>
            <p:nvPr/>
          </p:nvSpPr>
          <p:spPr>
            <a:xfrm>
              <a:off x="5592960" y="1295280"/>
              <a:ext cx="571680" cy="55980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89000" y="2271960"/>
              <a:ext cx="572040" cy="55836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89000" y="3249360"/>
              <a:ext cx="572040" cy="5598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143460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1640" y="1419120"/>
              <a:ext cx="896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13520" y="2427120"/>
              <a:ext cx="896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1360" y="3391200"/>
              <a:ext cx="898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8280" y="241200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3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8280" y="338868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93880" y="157428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593880" y="169812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593880" y="1821960"/>
              <a:ext cx="2097720" cy="17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93880" y="157428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3880" y="255132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93880" y="269100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3880" y="352872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3880" y="2551320"/>
              <a:ext cx="2030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3880" y="1574280"/>
              <a:ext cx="2165040" cy="167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71520" y="3249360"/>
              <a:ext cx="571680" cy="558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71520" y="2270160"/>
              <a:ext cx="571680" cy="559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71520" y="1295280"/>
              <a:ext cx="571680" cy="558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48880" y="13413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79600" y="1651680"/>
              <a:ext cx="382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3760" y="188424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99800" y="211680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5800" y="23187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00760" y="258264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52280" y="29703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43320" y="317160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48880" y="348192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457200" y="4191120"/>
          <a:ext cx="8458200" cy="1339560"/>
        </p:xfrm>
        <a:graphic>
          <a:graphicData uri="http://schemas.openxmlformats.org/drawingml/2006/table">
            <a:tbl>
              <a:tblPr/>
              <a:tblGrid>
                <a:gridCol w="2743200"/>
                <a:gridCol w="5715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pótese do Probl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Restr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= 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= Oferta (-) ou Demanda (+) do n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&gt; 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erta (-) ou Demanda (+) do N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&lt; 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erta (-) ou Demanda (+) do N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905120" y="5791320"/>
            <a:ext cx="5715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egra do Fluxo Balanceado (Ragsdale, 2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E108-806B-4CED-8E85-EB750C4ABE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s de Rede de Distribuição  Defin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219320"/>
            <a:ext cx="861048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problemas nos quais existem múltiplas fontes, mercados e locais intermediários, por onde os produtos transportados podem pass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im como no Problema de Transporte, o objetivo da modelagem é determinar o carregamento da rede que minimiza o custo total do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89200" y="4108320"/>
            <a:ext cx="3787560" cy="2139480"/>
            <a:chOff x="2689200" y="4108320"/>
            <a:chExt cx="3787560" cy="2139480"/>
          </a:xfrm>
        </p:grpSpPr>
        <p:sp>
          <p:nvSpPr>
            <p:cNvPr id="193" name=""/>
            <p:cNvSpPr/>
            <p:nvPr/>
          </p:nvSpPr>
          <p:spPr>
            <a:xfrm>
              <a:off x="2689200" y="4108320"/>
              <a:ext cx="335520" cy="3747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89200" y="4590000"/>
              <a:ext cx="335520" cy="3747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89200" y="5874840"/>
              <a:ext cx="335520" cy="3729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27000" y="479772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62200" y="4429800"/>
              <a:ext cx="335520" cy="374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62200" y="5606640"/>
              <a:ext cx="335520" cy="375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6760" y="462708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24720" y="4269960"/>
              <a:ext cx="1437120" cy="32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24720" y="4269960"/>
              <a:ext cx="1437120" cy="144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024720" y="4642560"/>
              <a:ext cx="143712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24720" y="4804560"/>
              <a:ext cx="1437120" cy="10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024720" y="4698360"/>
              <a:ext cx="1485360" cy="138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024720" y="5874840"/>
              <a:ext cx="148536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41240" y="4108320"/>
              <a:ext cx="335520" cy="3747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41240" y="5874840"/>
              <a:ext cx="335520" cy="3729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1240" y="4590000"/>
              <a:ext cx="335520" cy="3747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89120" y="488304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798080" y="4321080"/>
              <a:ext cx="134316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98080" y="4590000"/>
              <a:ext cx="134316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98080" y="4590000"/>
              <a:ext cx="1391040" cy="13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798080" y="4376520"/>
              <a:ext cx="1343160" cy="14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798080" y="4856400"/>
              <a:ext cx="1343160" cy="9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98080" y="5819760"/>
              <a:ext cx="134316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D6D1-7E6E-4182-AD39-252AF521C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4:06:18Z</dcterms:created>
  <dc:creator>carol</dc:creator>
  <dc:description/>
  <dc:language>en-US</dc:language>
  <cp:lastModifiedBy>Marcone Jamilson Freitas Souza</cp:lastModifiedBy>
  <dcterms:modified xsi:type="dcterms:W3CDTF">2006-02-10T21:40:54Z</dcterms:modified>
  <cp:revision>750</cp:revision>
  <dc:subject/>
  <dc:title>Slide 1</dc:title>
</cp:coreProperties>
</file>