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EC83-01B6-4391-A22B-3ECBD69A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F59-95D5-4DB7-AEE3-EC7145580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2830-C481-4CCA-A4F7-2F9A847AD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0D94-A4E9-4CCB-A719-DD93B59C0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766-7265-40F1-96C0-DE575ADCF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0B5-7F55-4354-BD84-A05C594A0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8D8-7EAF-43B9-90BF-D31BE1092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160-603F-4EAD-B2B1-81F5CEAF0A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8BE-5601-46F6-8FD2-10DCC1A5A9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494-042B-4B39-B85B-2A7E3D355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E70-6AD4-4E28-BF36-34C654632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DD30-B418-4C14-A171-990CD59EC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D41-FF92-4B94-83F1-703B51D9A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799-9F4E-43C0-855A-35CD86E18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4AE-F84D-4105-858C-8F7FB6EEE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135-17BC-4083-829F-795E1C776C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82F-BCF5-4CDE-9407-987E072BF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BD36-65D5-4E01-BFFA-F2A0EB90A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B9AD-C470-4DDC-935A-1D625FFB2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9B8B-E652-4326-B499-6ED65777A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A646-C6DB-49F6-BA61-CC1C8358F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6481-ED48-4D18-994A-3F05D84B4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9456-A402-4E71-806A-F90968193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15B3-C7E0-4EA8-8DC3-14E0F4BDD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B1A-38BA-4665-8AC3-8F073436BD4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B49B-3A82-427E-A219-BF23B1CA8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54E4-224A-4D6B-A9F2-55EEDA8BA2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Caso LCL Bicicletas Ltda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Fábrica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io, São Paulo e Belo Horizont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Capacidades de produção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io = 2000, SP = 3000, BH = 150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Mercados consumidore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ecife, Salvador e Manau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emanda dos mercados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: Recife = 2000, Salvador = 2000, Manaus = 1000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6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3784680"/>
          <a:ext cx="7772040" cy="1339920"/>
        </p:xfrm>
        <a:graphic>
          <a:graphicData uri="http://schemas.openxmlformats.org/drawingml/2006/table">
            <a:tbl>
              <a:tblPr/>
              <a:tblGrid>
                <a:gridCol w="2826720"/>
                <a:gridCol w="1529640"/>
                <a:gridCol w="1767600"/>
                <a:gridCol w="164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brica/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fe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vador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us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o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ão Paulo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 Horizonte (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7050-7461-4103-B6AD-A41773E2E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685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olução utilizando Variáveis Dum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280" y="4694400"/>
          <a:ext cx="8839440" cy="124920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 &gt; 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 &gt; Capac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busca de novos centros consumi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criação de uma nova fá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capacidade ociosa das fáb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demanda não aten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981080" y="601992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ções e interpretações para as variáveis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629080" y="1295280"/>
            <a:ext cx="4152240" cy="3200040"/>
            <a:chOff x="2629080" y="1295280"/>
            <a:chExt cx="4152240" cy="3200040"/>
          </a:xfrm>
        </p:grpSpPr>
        <p:sp>
          <p:nvSpPr>
            <p:cNvPr id="236" name=""/>
            <p:cNvSpPr/>
            <p:nvPr/>
          </p:nvSpPr>
          <p:spPr>
            <a:xfrm>
              <a:off x="5412600" y="1295280"/>
              <a:ext cx="504720" cy="5295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9360" y="2220120"/>
              <a:ext cx="50400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09360" y="3146040"/>
              <a:ext cx="50400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1428120"/>
              <a:ext cx="753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2240" y="1422360"/>
              <a:ext cx="7905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71960" y="2315160"/>
              <a:ext cx="7905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0880" y="3207960"/>
              <a:ext cx="7920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2352600"/>
              <a:ext cx="7531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29080" y="3277080"/>
              <a:ext cx="753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0040" y="155952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50040" y="1677240"/>
              <a:ext cx="175896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650040" y="1794600"/>
              <a:ext cx="18493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0040" y="1559520"/>
              <a:ext cx="175896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0040" y="248364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650040" y="2616840"/>
              <a:ext cx="175896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50040" y="341028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0040" y="2483640"/>
              <a:ext cx="178992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0040" y="1559520"/>
              <a:ext cx="1908720" cy="15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7800" y="3146040"/>
              <a:ext cx="504000" cy="52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7800" y="2218320"/>
              <a:ext cx="504000" cy="531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7800" y="1295280"/>
              <a:ext cx="504000" cy="528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46080" y="3966480"/>
              <a:ext cx="504720" cy="528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9320" y="3966480"/>
              <a:ext cx="7920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96840" y="1677600"/>
              <a:ext cx="1860480" cy="229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96840" y="2570040"/>
              <a:ext cx="1779480" cy="153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96840" y="3462840"/>
              <a:ext cx="177948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AAC6-2AC5-4FC1-ABF0-BE818F4190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685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olução sem Variáveis Dum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0" y="1981080"/>
            <a:ext cx="4800240" cy="2895480"/>
            <a:chOff x="2286000" y="1981080"/>
            <a:chExt cx="4800240" cy="2895480"/>
          </a:xfrm>
        </p:grpSpPr>
        <p:sp>
          <p:nvSpPr>
            <p:cNvPr id="264" name=""/>
            <p:cNvSpPr/>
            <p:nvPr/>
          </p:nvSpPr>
          <p:spPr>
            <a:xfrm>
              <a:off x="5598000" y="1981080"/>
              <a:ext cx="599760" cy="6444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94040" y="3105720"/>
              <a:ext cx="599760" cy="6436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4040" y="4232160"/>
              <a:ext cx="599760" cy="6444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6000" y="2142720"/>
              <a:ext cx="896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3320" y="2228760"/>
              <a:ext cx="940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4840" y="33897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3040" y="4499280"/>
              <a:ext cx="943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0" y="3267360"/>
              <a:ext cx="896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4391640"/>
              <a:ext cx="8960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99560" y="230184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99560" y="2446560"/>
              <a:ext cx="2094480" cy="9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499560" y="2588760"/>
              <a:ext cx="2202120" cy="19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9560" y="2301840"/>
              <a:ext cx="209448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99560" y="342648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499560" y="3588120"/>
              <a:ext cx="209448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9560" y="4553280"/>
              <a:ext cx="20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9560" y="3426480"/>
              <a:ext cx="213156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99560" y="2301840"/>
              <a:ext cx="2272680" cy="19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0560" y="4232160"/>
              <a:ext cx="599760" cy="64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0560" y="3103200"/>
              <a:ext cx="599760" cy="646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0560" y="1981080"/>
              <a:ext cx="599760" cy="64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7760" y="203472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5160" y="239220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97520" y="265968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5200" y="2926800"/>
              <a:ext cx="4017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1000" y="315936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0920" y="346320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6240" y="3909240"/>
              <a:ext cx="3999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9960" y="4141800"/>
              <a:ext cx="401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97760" y="4499280"/>
              <a:ext cx="39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976-F4A3-4CD4-8D14-4559B9B31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9D58-4A15-40E7-90C8-FF343A346D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l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35C1-A146-41F5-B673-344B859F7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como um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38280" y="1295280"/>
            <a:ext cx="4571640" cy="2513880"/>
            <a:chOff x="2438280" y="1295280"/>
            <a:chExt cx="4571640" cy="2513880"/>
          </a:xfrm>
        </p:grpSpPr>
        <p:sp>
          <p:nvSpPr>
            <p:cNvPr id="303" name=""/>
            <p:cNvSpPr/>
            <p:nvPr/>
          </p:nvSpPr>
          <p:spPr>
            <a:xfrm>
              <a:off x="5592960" y="1295280"/>
              <a:ext cx="571680" cy="55980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89000" y="2271960"/>
              <a:ext cx="572040" cy="55836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9000" y="3249360"/>
              <a:ext cx="572040" cy="5598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4346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1640" y="1419120"/>
              <a:ext cx="896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3520" y="2427120"/>
              <a:ext cx="896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1360" y="3391200"/>
              <a:ext cx="898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280" y="241200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3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38280" y="3388680"/>
              <a:ext cx="8524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.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93880" y="157428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593880" y="169812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593880" y="1821960"/>
              <a:ext cx="2097720" cy="17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93880" y="157428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93880" y="25513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593880" y="2691000"/>
              <a:ext cx="1994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93880" y="3528720"/>
              <a:ext cx="19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93880" y="2551320"/>
              <a:ext cx="203076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93880" y="1574280"/>
              <a:ext cx="2165040" cy="16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1520" y="324936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1520" y="2270160"/>
              <a:ext cx="571680" cy="55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1520" y="1295280"/>
              <a:ext cx="571680" cy="558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48880" y="1341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79600" y="1651680"/>
              <a:ext cx="382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3760" y="18842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9800" y="21168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5800" y="23187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0760" y="258264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2280" y="297036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3320" y="317160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8880" y="3481920"/>
              <a:ext cx="3819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457200" y="4191120"/>
          <a:ext cx="8458200" cy="1460520"/>
        </p:xfrm>
        <a:graphic>
          <a:graphicData uri="http://schemas.openxmlformats.org/drawingml/2006/table">
            <a:tbl>
              <a:tblPr/>
              <a:tblGrid>
                <a:gridCol w="2743200"/>
                <a:gridCol w="571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pótese do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Rest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=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= Oferta ou Demanda do n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gt;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ou Demanda do N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erta &lt;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adas – Saíd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erta ou Demanda do N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905120" y="5791320"/>
            <a:ext cx="571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egra do Fluxo Balanceado (Ragsdale, 2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A9B0-EFCE-44F6-89F4-CD84252C28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Problema de Escala de Produção Caso LCL Fórmula 1 Ltd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2446200"/>
          <a:ext cx="8382240" cy="243036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2100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dos Contra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 de Prod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sto Unitário de Prod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m milhões de 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pt-BR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F616-9A3C-40C0-BD27-2920DA05F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s de Rede de Distribuição 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861048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problemas nos quais existem múltiplas fontes, mercados e locais intermediários, por onde os produtos transportados podem pass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im como no Problema de Transporte, o objetivo da modelagem é determinar o carregamento da rede que minimiza o custo total do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689200" y="4108320"/>
            <a:ext cx="3787560" cy="2139480"/>
            <a:chOff x="2689200" y="4108320"/>
            <a:chExt cx="3787560" cy="2139480"/>
          </a:xfrm>
        </p:grpSpPr>
        <p:sp>
          <p:nvSpPr>
            <p:cNvPr id="342" name=""/>
            <p:cNvSpPr/>
            <p:nvPr/>
          </p:nvSpPr>
          <p:spPr>
            <a:xfrm>
              <a:off x="2689200" y="410832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89200" y="4590000"/>
              <a:ext cx="335520" cy="374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89200" y="5874840"/>
              <a:ext cx="335520" cy="3729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27000" y="479772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62200" y="4429800"/>
              <a:ext cx="335520" cy="37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2200" y="5606640"/>
              <a:ext cx="335520" cy="37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96760" y="462708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24720" y="4269960"/>
              <a:ext cx="1437120" cy="3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24720" y="4269960"/>
              <a:ext cx="1437120" cy="14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024720" y="4642560"/>
              <a:ext cx="143712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24720" y="4804560"/>
              <a:ext cx="143712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024720" y="4698360"/>
              <a:ext cx="1485360" cy="138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024720" y="5874840"/>
              <a:ext cx="148536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240" y="410832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1240" y="5874840"/>
              <a:ext cx="335520" cy="3729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1240" y="4590000"/>
              <a:ext cx="335520" cy="37476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89120" y="4883040"/>
              <a:ext cx="24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798080" y="432108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98080" y="4590000"/>
              <a:ext cx="134316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98080" y="4590000"/>
              <a:ext cx="139104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798080" y="4376520"/>
              <a:ext cx="1343160" cy="14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798080" y="4856400"/>
              <a:ext cx="1343160" cy="9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98080" y="5819760"/>
              <a:ext cx="134316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FB40-9D8C-4B17-9022-7207D8F965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Rede de Distribuiçã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Carros Brasil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828800" y="1523880"/>
            <a:ext cx="5790600" cy="4647960"/>
            <a:chOff x="1828800" y="1523880"/>
            <a:chExt cx="5790600" cy="4647960"/>
          </a:xfrm>
        </p:grpSpPr>
        <p:sp>
          <p:nvSpPr>
            <p:cNvPr id="368" name=""/>
            <p:cNvSpPr/>
            <p:nvPr/>
          </p:nvSpPr>
          <p:spPr>
            <a:xfrm>
              <a:off x="3798720" y="2443680"/>
              <a:ext cx="691200" cy="6897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98720" y="3842640"/>
              <a:ext cx="69120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28360" y="1523880"/>
              <a:ext cx="688320" cy="6919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28360" y="3514320"/>
              <a:ext cx="68832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8360" y="4453920"/>
              <a:ext cx="690480" cy="6919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9480" y="2060640"/>
              <a:ext cx="73116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80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47520" y="514620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6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30160" y="26164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30160" y="401544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57040" y="2213640"/>
              <a:ext cx="9493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29480" y="1868760"/>
              <a:ext cx="30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97680" y="1523880"/>
              <a:ext cx="691200" cy="689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30160" y="2040840"/>
              <a:ext cx="18338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42880" y="3133440"/>
              <a:ext cx="252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9440" y="1676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9440" y="370836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3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9440" y="4628880"/>
              <a:ext cx="7599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956680" y="3095640"/>
              <a:ext cx="10040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110040" y="4379040"/>
              <a:ext cx="726840" cy="6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129480" y="3938760"/>
              <a:ext cx="3098880" cy="13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129480" y="4858560"/>
              <a:ext cx="3098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9480" y="5491080"/>
              <a:ext cx="309888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7680" y="4973760"/>
              <a:ext cx="691200" cy="687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87400" y="15811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39720" y="20408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01200" y="27504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66560" y="328680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53160" y="390024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6360" y="4456080"/>
              <a:ext cx="46188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3160" y="4532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97640" y="506952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23840" y="566388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23080" y="2021760"/>
              <a:ext cx="461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28360" y="5479200"/>
              <a:ext cx="690480" cy="6926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61600" y="5673240"/>
              <a:ext cx="757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5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C059-7A9B-4DA5-B0E4-5E4E31E4B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um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Transporte como uma Re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s de Redes de Distribui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Menor Camin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roblema do Fluxo Máxi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Estudo de Caso – Distribuidora de Cerve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Outros Ex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4EF4-0FE8-4D1A-87E7-9F1BCAA59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Rede de Distribu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junto de Fo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junto de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usto unitário de transporte do mercado i para o mercado j (u.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ntidade de itens transportados do mercado i para o mercado 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just">
              <a:lnSpc>
                <a:spcPct val="15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BE71-3BD8-466A-B79A-C456EBD7AC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Rede de Distribu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947880" y="1814400"/>
                <a:ext cx="7324560" cy="39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115B-A136-4565-9F58-72E6350DE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epresenta um caso especial de problemas de redes, em que o custo associado a cada arco representa a distância entre dois pontos (nós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 objetivo do problema é encontrar a rota de custo mínimo, que una um nó origem (O) a um nó destino (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43200" y="3886200"/>
            <a:ext cx="4648320" cy="2209680"/>
            <a:chOff x="2743200" y="3886200"/>
            <a:chExt cx="4648320" cy="2209680"/>
          </a:xfrm>
        </p:grpSpPr>
        <p:sp>
          <p:nvSpPr>
            <p:cNvPr id="412" name=""/>
            <p:cNvSpPr/>
            <p:nvPr/>
          </p:nvSpPr>
          <p:spPr>
            <a:xfrm flipV="1">
              <a:off x="3259080" y="4317480"/>
              <a:ext cx="6048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400" y="4714920"/>
              <a:ext cx="546120" cy="5522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6880" y="554184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51360" y="3886200"/>
              <a:ext cx="54612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3800" y="4716360"/>
              <a:ext cx="547560" cy="550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36880" y="3886200"/>
              <a:ext cx="549360" cy="55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83000" y="4164120"/>
              <a:ext cx="135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98840" y="5099040"/>
              <a:ext cx="8208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4680" y="5160960"/>
              <a:ext cx="60336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43200" y="4716360"/>
              <a:ext cx="549360" cy="5540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7480" y="4243320"/>
              <a:ext cx="5479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1360" y="499284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89320" y="4992840"/>
              <a:ext cx="18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9241-F37C-4F57-9523-606FD21A33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Menor Caminh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Adornos &amp; Tec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09680" y="2589120"/>
            <a:ext cx="5333760" cy="2287440"/>
            <a:chOff x="2209680" y="2589120"/>
            <a:chExt cx="5333760" cy="2287440"/>
          </a:xfrm>
        </p:grpSpPr>
        <p:sp>
          <p:nvSpPr>
            <p:cNvPr id="428" name=""/>
            <p:cNvSpPr/>
            <p:nvPr/>
          </p:nvSpPr>
          <p:spPr>
            <a:xfrm flipV="1">
              <a:off x="2801880" y="303480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15960" y="3445920"/>
              <a:ext cx="627480" cy="5734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64640" y="430308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1000" y="2589120"/>
              <a:ext cx="6274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33520" y="3448080"/>
              <a:ext cx="62748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4640" y="2589120"/>
              <a:ext cx="629280" cy="573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2120" y="2876760"/>
              <a:ext cx="15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09400" y="3844800"/>
              <a:ext cx="94104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84600" y="3908520"/>
              <a:ext cx="6926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680" y="3448080"/>
              <a:ext cx="629280" cy="5731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8480" y="2957760"/>
              <a:ext cx="6274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2800" y="26067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75800" y="3067200"/>
              <a:ext cx="790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1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75800" y="4083120"/>
              <a:ext cx="790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0600" y="413064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7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52960" y="3670560"/>
              <a:ext cx="788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2360" y="305136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5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61000" y="3733920"/>
              <a:ext cx="12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9200" y="3463920"/>
              <a:ext cx="79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50 k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37160" y="3733920"/>
              <a:ext cx="21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9D61-30AE-494B-84FC-F6EF38226B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e C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e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s cidades i e j  (unid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14400" y="5037120"/>
                <a:ext cx="39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rota ij é selecion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7CEA-984D-45A8-8BF3-E55D9FD76B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Menor Cami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27200" y="1523880"/>
                <a:ext cx="776592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       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F274-B62D-43D9-949F-35DD8190E0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Trata situações nas quais deseja-se maximizar a quantidade de fluxo de um ponto de origem para um ponto de destino, estando sujeito a restrições de capacidade de fluxo nos ar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5D1F-634F-4F7F-AB93-EDCB0FB4CD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o Fluxo Máxim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aso LCL GasoBras Lt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362320" y="2273400"/>
            <a:ext cx="5028480" cy="2526840"/>
            <a:chOff x="2362320" y="2273400"/>
            <a:chExt cx="5028480" cy="2526840"/>
          </a:xfrm>
        </p:grpSpPr>
        <p:sp>
          <p:nvSpPr>
            <p:cNvPr id="459" name=""/>
            <p:cNvSpPr/>
            <p:nvPr/>
          </p:nvSpPr>
          <p:spPr>
            <a:xfrm flipV="1">
              <a:off x="2920680" y="277524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97160" y="3208680"/>
              <a:ext cx="593640" cy="60408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4528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13840" y="2305080"/>
              <a:ext cx="59364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6360" y="41122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45280" y="2305080"/>
              <a:ext cx="591480" cy="60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8600" y="314388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7120" y="26082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7120" y="4415400"/>
              <a:ext cx="14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38480" y="2708640"/>
              <a:ext cx="162720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04480" y="3695760"/>
              <a:ext cx="651240" cy="60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62320" y="3210480"/>
              <a:ext cx="591480" cy="60228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7840" y="2693160"/>
              <a:ext cx="59148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207480" y="3620520"/>
              <a:ext cx="59148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14760" y="227340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5788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41680" y="3880080"/>
              <a:ext cx="74520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14760" y="4348800"/>
              <a:ext cx="745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33120" y="388008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4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8560" y="2741760"/>
              <a:ext cx="7455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³</a:t>
              </a: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137B-2281-43DA-8F98-8E2336E043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njunto dos Nó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Nó ori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 desti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apacidade d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uxo que atravessa o arco i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A329-1D22-484A-AF74-3BD0AD4409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o Fluxo Má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58880" y="1406520"/>
                <a:ext cx="7929360" cy="43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 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040E-A7C8-453C-A64C-E6B4E87235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porte - Defin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Dado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 conjunto de fontes de produção,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uma rede de caminhos possíveis de transpor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os mercados para os quais determinados produtos devem ser transportados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Problema de Transporte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consiste em determinar, dentre as diversas maneiras de distribuição de um produto, a que resultará no menor custo de transporte entre as fontes de produção e os mercados consumidor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1D05-5F5B-4593-B9A5-634963122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Problema de Escala de Produção como Modelos de Rede -Caso LCL EletroBrasil Ltd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90920" y="1243080"/>
            <a:ext cx="4482720" cy="5081040"/>
            <a:chOff x="2590920" y="1243080"/>
            <a:chExt cx="4482720" cy="5081040"/>
          </a:xfrm>
        </p:grpSpPr>
        <p:sp>
          <p:nvSpPr>
            <p:cNvPr id="487" name=""/>
            <p:cNvSpPr/>
            <p:nvPr/>
          </p:nvSpPr>
          <p:spPr>
            <a:xfrm flipV="1">
              <a:off x="3820320" y="319680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0320" y="28065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820320" y="44996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20320" y="410940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820320" y="58028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20320" y="541224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835080" y="18939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40440" y="189432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3080" y="1561320"/>
              <a:ext cx="541800" cy="52272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8320" y="2862720"/>
              <a:ext cx="5414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9760" y="4165560"/>
              <a:ext cx="5396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13730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24760" y="167724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2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9640" y="300924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20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9640" y="4297320"/>
              <a:ext cx="848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2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50680" y="20246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9960" y="14022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50680" y="46306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0440" y="450000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0680" y="33274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0440" y="319716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920" y="267444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0440" y="2543760"/>
              <a:ext cx="539640" cy="52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90920" y="397908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0440" y="3848760"/>
              <a:ext cx="5396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90920" y="528192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1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40440" y="5151960"/>
              <a:ext cx="5396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50680" y="5933520"/>
              <a:ext cx="807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-5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40440" y="5801400"/>
              <a:ext cx="541440" cy="52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85440" y="193752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5440" y="324072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2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5440" y="454356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3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85440" y="5832360"/>
              <a:ext cx="5094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24360" y="5470200"/>
              <a:ext cx="541440" cy="52272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9000" y="5602320"/>
              <a:ext cx="850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[+180.000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35080" y="1503360"/>
              <a:ext cx="1888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40440" y="1243080"/>
              <a:ext cx="541440" cy="520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39960" y="180756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24840" y="27050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1104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24840" y="400788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24840" y="441360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24840" y="531108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24840" y="57164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94360" y="2068200"/>
              <a:ext cx="144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34240" y="232884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94360" y="337104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34240" y="3631680"/>
              <a:ext cx="359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94360" y="4674240"/>
              <a:ext cx="144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34240" y="4934520"/>
              <a:ext cx="361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373A-8CFD-4496-85BA-EEB1E4A8D6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Estudo de Caso – Distribuidora de Cerveja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Fábricas: Porto Alegre (A), Belo Horizonte (B), Salvador (C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Mercados: Curitiba (1), Recife (2), São Paulo    (3),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Belém(4) e Brasília(5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04920" y="2286000"/>
          <a:ext cx="4038480" cy="1339920"/>
        </p:xfrm>
        <a:graphic>
          <a:graphicData uri="http://schemas.openxmlformats.org/drawingml/2006/table">
            <a:tbl>
              <a:tblPr/>
              <a:tblGrid>
                <a:gridCol w="1412640"/>
                <a:gridCol w="2625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á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952880" y="2286000"/>
          <a:ext cx="2667240" cy="2009520"/>
        </p:xfrm>
        <a:graphic>
          <a:graphicData uri="http://schemas.openxmlformats.org/drawingml/2006/table">
            <a:tbl>
              <a:tblPr/>
              <a:tblGrid>
                <a:gridCol w="1176480"/>
                <a:gridCol w="14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066680" y="4495680"/>
          <a:ext cx="6782040" cy="146052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890640"/>
                <a:gridCol w="1014120"/>
                <a:gridCol w="914400"/>
                <a:gridCol w="838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em / Dest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2057400" y="594360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s de transpo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07E5-55A1-4C83-9A9B-041A7FA3C3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Distribuidora de Cervejas – Caso 1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gramação para o Mercado Atua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rogramar o abastecimento dos mercados regionais para o próximo mês, de modo a  atender totalmente à demanda prevista, minimizando o gasto total com o transpor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B3B2-26C8-41B1-B3E9-AB2D818706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91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gramação da Expansão de Ofer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ara os próximos cinco anos, a empresa prevê um crescimento do mercado, que resultará em novas demandas, como mostrado na tabela abaix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276720" y="3171960"/>
          <a:ext cx="2666880" cy="2009520"/>
        </p:xfrm>
        <a:graphic>
          <a:graphicData uri="http://schemas.openxmlformats.org/drawingml/2006/table">
            <a:tbl>
              <a:tblPr/>
              <a:tblGrid>
                <a:gridCol w="1176120"/>
                <a:gridCol w="14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BE24-DDB0-4701-872B-BF2B024CE9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91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Caso 2  -  Opção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Ampliação das capacidades de produção das fábricas de Belo Horizonte, passando de 42.000 para 60.000 caixas por mês, e de Salvador, que passaria das atuais 26.000 para 58.000 caixas.  Essas duas fábricas são as únicas que apresentam possibilidade de ampliaçã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3108-3ECC-4AA3-825A-2A750EF87C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dora de Cervej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Caso 2  -  Opçã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onstrução de uma nova fábrica em Vitória, com capacidade para 50.000 caix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studos de transporte mostraram que os custos unitários do abastecimento dos depósitos regionais a partir de vitória 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838080" y="3648240"/>
          <a:ext cx="6934320" cy="817560"/>
        </p:xfrm>
        <a:graphic>
          <a:graphicData uri="http://schemas.openxmlformats.org/drawingml/2006/table">
            <a:tbl>
              <a:tblPr/>
              <a:tblGrid>
                <a:gridCol w="2259000"/>
                <a:gridCol w="935280"/>
                <a:gridCol w="911160"/>
                <a:gridCol w="1036440"/>
                <a:gridCol w="935280"/>
                <a:gridCol w="85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tória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879A-B843-44FC-ABAA-7C9F931284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Designação de Tarefa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arefa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, B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áquina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, 2 e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terminar a quais máquinas as tarefas devem ser alocadas, de modo a minimizar o custo to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14400" y="3797280"/>
          <a:ext cx="7391520" cy="1460520"/>
        </p:xfrm>
        <a:graphic>
          <a:graphicData uri="http://schemas.openxmlformats.org/drawingml/2006/table">
            <a:tbl>
              <a:tblPr/>
              <a:tblGrid>
                <a:gridCol w="2293920"/>
                <a:gridCol w="1658880"/>
                <a:gridCol w="1654200"/>
                <a:gridCol w="178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s/Máqu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quina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ref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743200" y="52578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ustos de alocação das 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8D57-9545-44AE-B311-AB24295969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3716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9856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1371600"/>
            <a:ext cx="868680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 que consiste em localizar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ós (medianas) de forma a minimizar a soma das distâncias de cada nó de demanda até sua mediana mais próx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35640" y="2565360"/>
            <a:ext cx="5941440" cy="3798720"/>
            <a:chOff x="1835640" y="2565360"/>
            <a:chExt cx="5941440" cy="3798720"/>
          </a:xfrm>
        </p:grpSpPr>
        <p:sp>
          <p:nvSpPr>
            <p:cNvPr id="561" name=""/>
            <p:cNvSpPr/>
            <p:nvPr/>
          </p:nvSpPr>
          <p:spPr>
            <a:xfrm>
              <a:off x="2734920" y="4828680"/>
              <a:ext cx="355320" cy="3150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16800" y="296964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60280" y="3243960"/>
              <a:ext cx="355320" cy="3150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91880" y="426168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38760" y="5551200"/>
              <a:ext cx="355320" cy="3164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336120" y="3175920"/>
              <a:ext cx="150228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60880" y="3515040"/>
              <a:ext cx="3231000" cy="88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960280" y="3515040"/>
              <a:ext cx="150480" cy="12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60880" y="3515040"/>
              <a:ext cx="1577520" cy="21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110760" y="3243960"/>
              <a:ext cx="1728000" cy="169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110760" y="4465080"/>
              <a:ext cx="3381120" cy="54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35520" y="5143680"/>
              <a:ext cx="180324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39360" y="3175920"/>
              <a:ext cx="1352160" cy="11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88880" y="3311640"/>
              <a:ext cx="0" cy="22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139360" y="4533120"/>
              <a:ext cx="1427040" cy="10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4320" y="32421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44040" y="426168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39840" y="59583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39840" y="256536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35640" y="5143680"/>
              <a:ext cx="83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=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AE4B-821D-4E3E-97EA-CA7584E196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1751400" y="5195880"/>
            <a:ext cx="54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93960" y="3595680"/>
            <a:ext cx="27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ância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3CE1-2991-4A38-8CE1-589D1EBF36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medianas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istância entre a localidade i e sua mediana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median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8ADD-E244-487D-B2D0-8B6E755909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1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=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1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0; M2 =10; M3 =10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terminar quanto deve ser produzido e  entregue por cada fonte a cada mercado, de forma a minimizar os custo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76920" y="3352680"/>
            <a:ext cx="4038120" cy="2590560"/>
            <a:chOff x="4876920" y="3352680"/>
            <a:chExt cx="4038120" cy="2590560"/>
          </a:xfrm>
        </p:grpSpPr>
        <p:sp>
          <p:nvSpPr>
            <p:cNvPr id="146" name=""/>
            <p:cNvSpPr/>
            <p:nvPr/>
          </p:nvSpPr>
          <p:spPr>
            <a:xfrm>
              <a:off x="8419320" y="3430800"/>
              <a:ext cx="4957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30840" y="4530240"/>
              <a:ext cx="4842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30840" y="5472360"/>
              <a:ext cx="484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4240" y="3352680"/>
              <a:ext cx="568440" cy="55584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10640" y="4415400"/>
              <a:ext cx="568440" cy="55584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0640" y="5387040"/>
              <a:ext cx="568440" cy="5562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8720" y="3445560"/>
              <a:ext cx="8499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4554720"/>
              <a:ext cx="6624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922720" y="3844440"/>
              <a:ext cx="19879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22720" y="3632040"/>
              <a:ext cx="207900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22720" y="4693680"/>
              <a:ext cx="19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2720" y="4693680"/>
              <a:ext cx="2022480" cy="8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2720" y="3632040"/>
              <a:ext cx="2268000" cy="175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02520" y="4415400"/>
              <a:ext cx="567720" cy="554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0680" y="3352680"/>
              <a:ext cx="568440" cy="554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45360" y="349992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39320" y="455472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8920" y="3499920"/>
              <a:ext cx="454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8920" y="4575960"/>
              <a:ext cx="454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65360" y="5532840"/>
              <a:ext cx="455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19120" y="3630240"/>
              <a:ext cx="198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228600" y="413388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2D13-2392-42CF-9ADE-3589B0F96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368440" y="2209680"/>
                <a:ext cx="1371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8440" y="4495680"/>
                <a:ext cx="129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151160" y="5318280"/>
                <a:ext cx="149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23040" y="2514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90720" y="4724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n; 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597040" y="1143000"/>
                <a:ext cx="3200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368440" y="320976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70A4-1FAF-4394-AF6C-D84136C645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80880" y="137160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melhança com o Problema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ós intermediários entre os nós de origem e de dest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 objetivo do problema é fazer o fluxo dos pontos de oferta chegarem aos pontos de demanda, passando por pontos intermediários de transbordo, com o menor cu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74680"/>
            <a:ext cx="647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bo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523880" y="4684680"/>
            <a:ext cx="6019920" cy="1030320"/>
            <a:chOff x="1523880" y="4684680"/>
            <a:chExt cx="6019920" cy="1030320"/>
          </a:xfrm>
        </p:grpSpPr>
        <p:sp>
          <p:nvSpPr>
            <p:cNvPr id="614" name=""/>
            <p:cNvSpPr/>
            <p:nvPr/>
          </p:nvSpPr>
          <p:spPr>
            <a:xfrm>
              <a:off x="1523880" y="4724280"/>
              <a:ext cx="53352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43400" y="51814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57400" y="4952880"/>
              <a:ext cx="2286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0280" y="4724280"/>
              <a:ext cx="533520" cy="533520"/>
            </a:xfrm>
            <a:prstGeom prst="ellipse">
              <a:avLst/>
            </a:prstGeom>
            <a:solidFill>
              <a:srgbClr val="e2e2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76920" y="5029200"/>
              <a:ext cx="21333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8480" y="468468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16840" y="4890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D5C2-C45E-4EA3-9C1D-D5D4BC7D52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e Transbor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5800" y="1523880"/>
          <a:ext cx="1828800" cy="146052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3733920" y="1523880"/>
          <a:ext cx="2057400" cy="1295280"/>
        </p:xfrm>
        <a:graphic>
          <a:graphicData uri="http://schemas.openxmlformats.org/drawingml/2006/table">
            <a:tbl>
              <a:tblPr/>
              <a:tblGrid>
                <a:gridCol w="648000"/>
                <a:gridCol w="419040"/>
                <a:gridCol w="457200"/>
                <a:gridCol w="533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k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80880" y="3789360"/>
          <a:ext cx="3733920" cy="88884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480"/>
                <a:gridCol w="9334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306000" y="5257800"/>
            <a:ext cx="23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500    i = 1, ...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6880" y="5805360"/>
            <a:ext cx="233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500    k = 1, 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7010280" y="1600200"/>
          <a:ext cx="1295280" cy="1117440"/>
        </p:xfrm>
        <a:graphic>
          <a:graphicData uri="http://schemas.openxmlformats.org/drawingml/2006/table">
            <a:tbl>
              <a:tblPr/>
              <a:tblGrid>
                <a:gridCol w="533520"/>
                <a:gridCol w="7617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3200400" y="289548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tâncias dos de transbordo 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4754520"/>
            <a:ext cx="304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manda dos ponto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09420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tâncias dos de origem 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s de transbo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5880" y="2819520"/>
            <a:ext cx="304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abertura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ó de trasbo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334120" y="3733920"/>
            <a:ext cx="2666880" cy="2209680"/>
            <a:chOff x="5334120" y="3733920"/>
            <a:chExt cx="2666880" cy="2209680"/>
          </a:xfrm>
        </p:grpSpPr>
        <p:sp>
          <p:nvSpPr>
            <p:cNvPr id="633" name=""/>
            <p:cNvSpPr/>
            <p:nvPr/>
          </p:nvSpPr>
          <p:spPr>
            <a:xfrm>
              <a:off x="5334120" y="3733920"/>
              <a:ext cx="533160" cy="5331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34120" y="4572000"/>
              <a:ext cx="53316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34120" y="5410080"/>
              <a:ext cx="533160" cy="5335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114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51814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67480" y="3809880"/>
              <a:ext cx="533520" cy="533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7480" y="5410080"/>
              <a:ext cx="533520" cy="533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7480" y="4648320"/>
              <a:ext cx="533520" cy="533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7F16-BF33-4C7D-BEB1-89119CF0D2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Formulação Matemática para o Problema de Trans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98360" y="114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11430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4680" y="114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4440" y="19051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600200" y="2209680"/>
                <a:ext cx="1447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600200" y="2971800"/>
                <a:ext cx="1981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600200" y="3809880"/>
                <a:ext cx="17524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600200" y="4876920"/>
                <a:ext cx="1905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600200" y="5791320"/>
                <a:ext cx="990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516040" y="5881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2743200" y="5807160"/>
                <a:ext cx="1066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3792240" y="5881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962520" y="579132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286000" y="914400"/>
                <a:ext cx="15238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4114800" y="914400"/>
                <a:ext cx="1676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400800" y="914400"/>
                <a:ext cx="1371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44880" y="25146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= 1,...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51000" y="32767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= 1,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89520" y="4114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 = 1,...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14720" y="51055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= 1,...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C2E1-A835-4C23-BF30-DED00C606B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2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&gt;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2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0; M2 =10; M3 =10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800600" y="3124080"/>
            <a:ext cx="4038120" cy="2742840"/>
            <a:chOff x="4800600" y="3124080"/>
            <a:chExt cx="4038120" cy="2742840"/>
          </a:xfrm>
        </p:grpSpPr>
        <p:sp>
          <p:nvSpPr>
            <p:cNvPr id="171" name=""/>
            <p:cNvSpPr/>
            <p:nvPr/>
          </p:nvSpPr>
          <p:spPr>
            <a:xfrm>
              <a:off x="8342280" y="3207240"/>
              <a:ext cx="496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4520" y="4370760"/>
              <a:ext cx="484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54520" y="5368320"/>
              <a:ext cx="484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37920" y="3124080"/>
              <a:ext cx="567720" cy="5889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34320" y="424980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34320" y="527832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2040" y="3222720"/>
              <a:ext cx="849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396680"/>
              <a:ext cx="6624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46400" y="3645000"/>
              <a:ext cx="198792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6400" y="3420000"/>
              <a:ext cx="2079000" cy="8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6400" y="4543920"/>
              <a:ext cx="19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6400" y="4543920"/>
              <a:ext cx="202212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46400" y="3420000"/>
              <a:ext cx="2268000" cy="18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25840" y="424980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4360" y="312408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69040" y="327996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63000" y="439668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9800" y="3279960"/>
              <a:ext cx="61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9040" y="44193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600" y="5432400"/>
              <a:ext cx="61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42800" y="3418560"/>
              <a:ext cx="19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228600" y="352440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300C-2874-4D82-B701-4DE5E9C23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Problema de Transporte – Exemplo 3</a:t>
            </a:r>
            <a:br>
              <a:rPr sz="2700"/>
            </a:b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Oferta &lt; Demanda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ontes de oferta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e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pacidades de produ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= 15 e B =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ercados consumidore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, M2 e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emanda dos mercado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1 = 25; M2 =10; M3 =15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Custos de Transpor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800600" y="3124080"/>
            <a:ext cx="4038120" cy="2742840"/>
            <a:chOff x="4800600" y="3124080"/>
            <a:chExt cx="4038120" cy="2742840"/>
          </a:xfrm>
        </p:grpSpPr>
        <p:sp>
          <p:nvSpPr>
            <p:cNvPr id="196" name=""/>
            <p:cNvSpPr/>
            <p:nvPr/>
          </p:nvSpPr>
          <p:spPr>
            <a:xfrm>
              <a:off x="8342280" y="3207240"/>
              <a:ext cx="496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54520" y="4370760"/>
              <a:ext cx="484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54520" y="5368320"/>
              <a:ext cx="484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7920" y="3124080"/>
              <a:ext cx="567720" cy="588960"/>
            </a:xfrm>
            <a:prstGeom prst="ellipse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34320" y="424980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34320" y="5278320"/>
              <a:ext cx="568440" cy="588600"/>
            </a:xfrm>
            <a:prstGeom prst="ellipse">
              <a:avLst/>
            </a:prstGeom>
            <a:solidFill>
              <a:srgbClr val="c0c0c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2040" y="3222720"/>
              <a:ext cx="849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0600" y="4396680"/>
              <a:ext cx="6624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[2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846400" y="3645000"/>
              <a:ext cx="198792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46400" y="3420000"/>
              <a:ext cx="2079000" cy="8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6400" y="4543920"/>
              <a:ext cx="19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46400" y="4543920"/>
              <a:ext cx="202212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46400" y="3420000"/>
              <a:ext cx="2268000" cy="18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25840" y="424980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74360" y="3124080"/>
              <a:ext cx="568440" cy="58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9040" y="3279960"/>
              <a:ext cx="377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63000" y="4396680"/>
              <a:ext cx="28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9040" y="32799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89040" y="441936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49800" y="5432400"/>
              <a:ext cx="53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2800" y="3418560"/>
              <a:ext cx="19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228600" y="3524400"/>
          <a:ext cx="4419720" cy="819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066680"/>
                <a:gridCol w="990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/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ad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C65A-ECA6-4A6E-BD2E-ACBEECEB6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e 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M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Fontes, M = {1,2,...,m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junto de Mercados, N = {1,2,...,n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ferta da Fonte i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manda do Mercado j 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usto unitário de transporte da fonte i para o mercado j (u.m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 a seguinte variável de deci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idade de itens transportados da fonte i para o mercado 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uni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210B-2EC1-486D-92C6-8FC78899F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1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=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33680" y="1787400"/>
                <a:ext cx="641016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A95A-2161-4B90-8FCE-2EC4597C7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– Caso 2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Oferta &gt; Dem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61960" y="1555920"/>
                <a:ext cx="7439040" cy="46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5DF3-1144-419A-BA88-89B6325AB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04T01:12:35Z</dcterms:modified>
  <cp:revision>712</cp:revision>
  <dc:subject/>
  <dc:title>Slide 1</dc:title>
</cp:coreProperties>
</file>