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4.xml.rels" ContentType="application/vnd.openxmlformats-package.relationships+xml"/>
  <Override PartName="/ppt/notesSlides/_rels/notesSlide57.xml.rels" ContentType="application/vnd.openxmlformats-package.relationships+xml"/>
  <Override PartName="/ppt/notesSlides/notesSlide57.xml" ContentType="application/vnd.openxmlformats-officedocument.presentationml.notesSlide+xml"/>
  <Override PartName="/ppt/notesSlides/notesSlide7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1838-4186-4745-BBC7-E23203B40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69E58-D4F9-4ED3-9697-14E8F5A0D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FCBF-62DB-412E-9525-1870D724D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350C0-1C1F-40C3-9166-76F3A674C2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37094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DD16E-8AC2-4BF4-8564-958613C72B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93740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26700-0C3B-4983-8B87-D9FAB9693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431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485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8377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5431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62485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26C57-5DFE-4268-AA5E-21DFF7497A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BD40-C5E0-4D3B-A091-FCCB4F2ED6B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BE32-9A15-43FA-8345-C7F6D355B2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98BB-71A7-4B1F-8BC9-7056CC6078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46E0-B800-4FFD-9EB3-CE2AE3EA70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31CF-2A4B-4FF3-B3EC-F6E6462182E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647676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70E9-03EF-4FC0-BBAA-C8FFA43AFF5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A3F4-9456-4E87-A9E6-299B8F30CE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EE8D4-7456-4BA1-B67A-88A591FF79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3740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45DB-2C1C-4854-B5F3-87351090AC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FFCE-3289-43DB-8DEB-0101AEB0EA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7720" y="37094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5754-C4CB-4B52-AFFD-D450A60C7E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3740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AF90-A85E-4C8E-A20D-FF5883B5AB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5431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48520" y="160020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77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5431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248520" y="3709440"/>
            <a:ext cx="257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CD75-EEAE-4EC1-B12D-191DC0F12F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F7B6E-52E4-4DD5-B2C8-14CC033BEC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251DF-09A4-4CDF-80E6-12321F428F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688B4-A806-4491-A74A-1DDF01138D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447560" y="274320"/>
            <a:ext cx="6476760" cy="296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89806-9C57-44E1-8DED-A0587CEFAC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92FB7-7608-4C23-BEF7-05286DF82A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937400" y="370944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431E9-3E99-400B-951E-F57D8275CE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7400" y="1600200"/>
            <a:ext cx="3904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837720" y="3709440"/>
            <a:ext cx="80010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B3F09-DE27-420E-A93B-F461DEB427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00800"/>
            <a:ext cx="9144000" cy="471600"/>
          </a:xfrm>
          <a:prstGeom prst="rect">
            <a:avLst/>
          </a:prstGeom>
          <a:gradFill rotWithShape="0">
            <a:gsLst>
              <a:gs pos="0">
                <a:srgbClr val="bbe0e3">
                  <a:alpha val="68235"/>
                </a:srgbClr>
              </a:gs>
              <a:gs pos="100000">
                <a:srgbClr val="6699ff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"/>
          <p:cNvSpPr/>
          <p:nvPr/>
        </p:nvSpPr>
        <p:spPr>
          <a:xfrm rot="10800000">
            <a:off x="1665000" y="6400800"/>
            <a:ext cx="7467480" cy="457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8000640" y="6457680"/>
            <a:ext cx="68580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25AC-DC2B-47EA-8F29-22A4B8953F05}" type="slidenum"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10800000"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bbe0e3">
                  <a:alpha val="68235"/>
                </a:srgbClr>
              </a:gs>
              <a:gs pos="100000">
                <a:srgbClr val="6699ff">
                  <a:alpha val="68235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3733920" cy="9907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114480" y="200160"/>
            <a:ext cx="1066680" cy="837720"/>
            <a:chOff x="114480" y="200160"/>
            <a:chExt cx="1066680" cy="837720"/>
          </a:xfrm>
        </p:grpSpPr>
        <p:sp>
          <p:nvSpPr>
            <p:cNvPr id="7" name=""/>
            <p:cNvSpPr/>
            <p:nvPr/>
          </p:nvSpPr>
          <p:spPr>
            <a:xfrm>
              <a:off x="219960" y="243720"/>
              <a:ext cx="93600" cy="9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14480" y="527040"/>
              <a:ext cx="93600" cy="9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200160"/>
              <a:ext cx="93600" cy="9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52880" y="614520"/>
              <a:ext cx="93600" cy="9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41200" y="854280"/>
              <a:ext cx="93600" cy="9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12520" y="417960"/>
              <a:ext cx="93600" cy="9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087560" y="330840"/>
              <a:ext cx="93600" cy="9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70040" y="723600"/>
              <a:ext cx="93600" cy="968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66320" y="614520"/>
              <a:ext cx="93600" cy="9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0840" y="941400"/>
              <a:ext cx="93600" cy="964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77840" y="618480"/>
              <a:ext cx="84600" cy="239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03040" y="592560"/>
              <a:ext cx="253800" cy="65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08520" y="309240"/>
              <a:ext cx="507600" cy="152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V="1">
              <a:off x="905040" y="400320"/>
              <a:ext cx="182880" cy="62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>
              <a:off x="516240" y="287280"/>
              <a:ext cx="126720" cy="3268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41440" y="679680"/>
              <a:ext cx="232560" cy="65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16240" y="705600"/>
              <a:ext cx="105480" cy="239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177840" y="330840"/>
              <a:ext cx="63360" cy="196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685440" y="291240"/>
              <a:ext cx="124200" cy="426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33720" y="919800"/>
              <a:ext cx="263880" cy="62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flipV="1">
              <a:off x="866520" y="693000"/>
              <a:ext cx="211320" cy="65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722520" y="243720"/>
              <a:ext cx="365040" cy="104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>
              <a:off x="1112400" y="431640"/>
              <a:ext cx="20880" cy="174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>
              <a:off x="702720" y="701280"/>
              <a:ext cx="380520" cy="283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>
              <a:off x="199080" y="264960"/>
              <a:ext cx="423000" cy="283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" name="PlaceHolder 3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9A62-8184-42FB-91D8-5E212EDDA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286000"/>
            <a:ext cx="9144000" cy="1447920"/>
          </a:xfrm>
          <a:prstGeom prst="rect">
            <a:avLst/>
          </a:prstGeom>
          <a:gradFill rotWithShape="0">
            <a:gsLst>
              <a:gs pos="0">
                <a:srgbClr val="bbe0e3">
                  <a:alpha val="68235"/>
                </a:srgbClr>
              </a:gs>
              <a:gs pos="100000">
                <a:srgbClr val="6699ff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40" y="2286000"/>
            <a:ext cx="9144000" cy="1482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>
                  <a:alpha val="0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197080" y="122400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00200" y="274464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64000" y="99072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10000" y="321300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16240" y="449892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38960" y="2160720"/>
            <a:ext cx="52992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89840" y="169236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00640" y="3797280"/>
            <a:ext cx="52884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70680" y="321300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344840" y="4967280"/>
            <a:ext cx="530280" cy="519120"/>
          </a:xfrm>
          <a:prstGeom prst="ellipse">
            <a:avLst/>
          </a:prstGeom>
          <a:solidFill>
            <a:srgbClr val="bbe0e3">
              <a:alpha val="57000"/>
            </a:srgbClr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59120" y="3235320"/>
            <a:ext cx="476280" cy="1285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00240" y="3095640"/>
            <a:ext cx="1432080" cy="3510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97120" y="1574640"/>
            <a:ext cx="2863800" cy="81936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6060960" y="2064960"/>
            <a:ext cx="1032120" cy="336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866760" y="1459080"/>
            <a:ext cx="717480" cy="1753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010040" y="3564000"/>
            <a:ext cx="1312920" cy="350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67120" y="3701880"/>
            <a:ext cx="596880" cy="12877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959120" y="1692360"/>
            <a:ext cx="357120" cy="10522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22920" y="1481040"/>
            <a:ext cx="701640" cy="22878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38600" y="4849920"/>
            <a:ext cx="1488960" cy="336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5845320" y="3637080"/>
            <a:ext cx="1191960" cy="350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30640" y="1224000"/>
            <a:ext cx="2062440" cy="560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7232760" y="2233440"/>
            <a:ext cx="118800" cy="9352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4919760" y="3681360"/>
            <a:ext cx="2147760" cy="15192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077920" y="1341000"/>
            <a:ext cx="2386080" cy="15210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title"/>
          </p:nvPr>
        </p:nvSpPr>
        <p:spPr>
          <a:xfrm>
            <a:off x="685800" y="2263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6332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ahoma"/>
              </a:rPr>
              <a:t>Logística Aplicada a Transportes</a:t>
            </a: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7560" y="4191120"/>
            <a:ext cx="69339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cone Jamilson Freitas Souz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artamento de Computaçã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mepage: http://www.decom.ufop.br/prof/marc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: marcone@iceb.ufop.b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80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niversidade Federal de Ouro Pr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blema do Caixeiro Viajante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eurística do Vizinho mais Próxi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Heurística de Bellmore &amp; Nemha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artir da cidade origem e construir uma rota da seguinte form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 próxima cidade a ser inserida na rota é aquela, ainda não visitada, mais próxima da última cidade visita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 todas as cidades já foram inseridas na rota, então retornar à cidade orig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78C30-B431-4EC6-A63F-E9BBC953600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827840" y="1143000"/>
          <a:ext cx="1163880" cy="1674720"/>
        </p:xfrm>
        <a:graphic>
          <a:graphicData uri="http://schemas.openxmlformats.org/drawingml/2006/table">
            <a:tbl>
              <a:tblPr/>
              <a:tblGrid>
                <a:gridCol w="373320"/>
                <a:gridCol w="392040"/>
                <a:gridCol w="39852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5228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"/>
          <p:cNvSpPr/>
          <p:nvPr/>
        </p:nvSpPr>
        <p:spPr>
          <a:xfrm>
            <a:off x="7746840" y="1447920"/>
            <a:ext cx="130824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638680" y="4495320"/>
            <a:ext cx="1981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7269480" y="449568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"/>
          <p:cNvCxnSpPr>
            <a:stCxn id="194" idx="7"/>
            <a:endCxn id="188" idx="3"/>
          </p:cNvCxnSpPr>
          <p:nvPr/>
        </p:nvCxnSpPr>
        <p:spPr>
          <a:xfrm flipV="1">
            <a:off x="1206000" y="3949200"/>
            <a:ext cx="737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1334520" y="4051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A4782-91D0-44A3-A41A-F227EA778C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3b3b1"/>
                                      </p:to>
                                    </p:animClr>
                                    <p:set>
                                      <p:cBhvr>
                                        <p:cTn id="1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827840" y="1143000"/>
          <a:ext cx="1163880" cy="1400040"/>
        </p:xfrm>
        <a:graphic>
          <a:graphicData uri="http://schemas.openxmlformats.org/drawingml/2006/table">
            <a:tbl>
              <a:tblPr/>
              <a:tblGrid>
                <a:gridCol w="373320"/>
                <a:gridCol w="392040"/>
                <a:gridCol w="39852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</a:tbl>
          </a:graphicData>
        </a:graphic>
      </p:graphicFrame>
      <p:sp>
        <p:nvSpPr>
          <p:cNvPr id="205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5228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"/>
          <p:cNvSpPr/>
          <p:nvPr/>
        </p:nvSpPr>
        <p:spPr>
          <a:xfrm>
            <a:off x="7746840" y="1727280"/>
            <a:ext cx="130824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638680" y="4495320"/>
            <a:ext cx="1981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7269480" y="449568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"/>
          <p:cNvCxnSpPr>
            <a:stCxn id="208" idx="7"/>
            <a:endCxn id="202" idx="3"/>
          </p:cNvCxnSpPr>
          <p:nvPr/>
        </p:nvCxnSpPr>
        <p:spPr>
          <a:xfrm flipV="1">
            <a:off x="1206000" y="3949200"/>
            <a:ext cx="737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1334520" y="4051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"/>
          <p:cNvCxnSpPr>
            <a:stCxn id="202" idx="6"/>
            <a:endCxn id="205" idx="2"/>
          </p:cNvCxnSpPr>
          <p:nvPr/>
        </p:nvCxnSpPr>
        <p:spPr>
          <a:xfrm>
            <a:off x="2311200" y="3797280"/>
            <a:ext cx="198180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2464920" y="3695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9F6DD-148F-4503-8458-E5B218E5C9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3b3b1"/>
                                      </p:to>
                                    </p:animClr>
                                    <p:set>
                                      <p:cBhvr>
                                        <p:cTn id="48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7827840" y="1143000"/>
          <a:ext cx="1163880" cy="1125360"/>
        </p:xfrm>
        <a:graphic>
          <a:graphicData uri="http://schemas.openxmlformats.org/drawingml/2006/table">
            <a:tbl>
              <a:tblPr/>
              <a:tblGrid>
                <a:gridCol w="373320"/>
                <a:gridCol w="392040"/>
                <a:gridCol w="39852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5228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/>
          <p:nvPr/>
        </p:nvSpPr>
        <p:spPr>
          <a:xfrm>
            <a:off x="7746840" y="1727280"/>
            <a:ext cx="130824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638680" y="4495320"/>
            <a:ext cx="1981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7269480" y="449568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24" idx="7"/>
            <a:endCxn id="218" idx="3"/>
          </p:cNvCxnSpPr>
          <p:nvPr/>
        </p:nvCxnSpPr>
        <p:spPr>
          <a:xfrm flipV="1">
            <a:off x="1206000" y="3949200"/>
            <a:ext cx="737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1334520" y="4051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"/>
          <p:cNvCxnSpPr>
            <a:stCxn id="218" idx="6"/>
            <a:endCxn id="221" idx="2"/>
          </p:cNvCxnSpPr>
          <p:nvPr/>
        </p:nvCxnSpPr>
        <p:spPr>
          <a:xfrm>
            <a:off x="2311200" y="3797280"/>
            <a:ext cx="198180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2" name=""/>
          <p:cNvSpPr/>
          <p:nvPr/>
        </p:nvSpPr>
        <p:spPr>
          <a:xfrm>
            <a:off x="2577600" y="3746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3" name=""/>
          <p:cNvCxnSpPr>
            <a:stCxn id="221" idx="3"/>
            <a:endCxn id="219" idx="7"/>
          </p:cNvCxnSpPr>
          <p:nvPr/>
        </p:nvCxnSpPr>
        <p:spPr>
          <a:xfrm flipH="1">
            <a:off x="3644280" y="4788000"/>
            <a:ext cx="711720" cy="55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4" name=""/>
          <p:cNvSpPr/>
          <p:nvPr/>
        </p:nvSpPr>
        <p:spPr>
          <a:xfrm>
            <a:off x="3950640" y="4991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68FB9-9EFC-4E06-BE09-BF97AE0AC6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3b3b1"/>
                                      </p:to>
                                    </p:animClr>
                                    <p:set>
                                      <p:cBhvr>
                                        <p:cTn id="7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827840" y="1143000"/>
          <a:ext cx="1163880" cy="851040"/>
        </p:xfrm>
        <a:graphic>
          <a:graphicData uri="http://schemas.openxmlformats.org/drawingml/2006/table">
            <a:tbl>
              <a:tblPr/>
              <a:tblGrid>
                <a:gridCol w="373320"/>
                <a:gridCol w="392040"/>
                <a:gridCol w="39852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5228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4" name=""/>
          <p:cNvSpPr/>
          <p:nvPr/>
        </p:nvSpPr>
        <p:spPr>
          <a:xfrm>
            <a:off x="7746840" y="1727280"/>
            <a:ext cx="130824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638680" y="4495320"/>
            <a:ext cx="1981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"/>
          <p:cNvSpPr/>
          <p:nvPr/>
        </p:nvSpPr>
        <p:spPr>
          <a:xfrm>
            <a:off x="7269480" y="449568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7" name=""/>
          <p:cNvCxnSpPr>
            <a:stCxn id="242" idx="7"/>
            <a:endCxn id="236" idx="3"/>
          </p:cNvCxnSpPr>
          <p:nvPr/>
        </p:nvCxnSpPr>
        <p:spPr>
          <a:xfrm flipV="1">
            <a:off x="1206000" y="3949200"/>
            <a:ext cx="737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8" name=""/>
          <p:cNvSpPr/>
          <p:nvPr/>
        </p:nvSpPr>
        <p:spPr>
          <a:xfrm>
            <a:off x="1334520" y="4051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9" name=""/>
          <p:cNvCxnSpPr>
            <a:stCxn id="236" idx="6"/>
            <a:endCxn id="239" idx="2"/>
          </p:cNvCxnSpPr>
          <p:nvPr/>
        </p:nvCxnSpPr>
        <p:spPr>
          <a:xfrm>
            <a:off x="2311200" y="3797280"/>
            <a:ext cx="198180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0" name=""/>
          <p:cNvSpPr/>
          <p:nvPr/>
        </p:nvSpPr>
        <p:spPr>
          <a:xfrm>
            <a:off x="2577600" y="3746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"/>
          <p:cNvCxnSpPr>
            <a:stCxn id="239" idx="3"/>
            <a:endCxn id="237" idx="7"/>
          </p:cNvCxnSpPr>
          <p:nvPr/>
        </p:nvCxnSpPr>
        <p:spPr>
          <a:xfrm flipH="1">
            <a:off x="3644280" y="4788000"/>
            <a:ext cx="711720" cy="55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3950640" y="4991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37" idx="2"/>
            <a:endCxn id="241" idx="6"/>
          </p:cNvCxnSpPr>
          <p:nvPr/>
        </p:nvCxnSpPr>
        <p:spPr>
          <a:xfrm flipH="1">
            <a:off x="2310840" y="5498640"/>
            <a:ext cx="965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2693520" y="5465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3D338-5846-4ACD-B9F5-3E63938645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7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3b3b1"/>
                                      </p:to>
                                    </p:animClr>
                                    <p:set>
                                      <p:cBhvr>
                                        <p:cTn id="10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7827840" y="1143000"/>
          <a:ext cx="1163880" cy="576360"/>
        </p:xfrm>
        <a:graphic>
          <a:graphicData uri="http://schemas.openxmlformats.org/drawingml/2006/table">
            <a:tbl>
              <a:tblPr/>
              <a:tblGrid>
                <a:gridCol w="373320"/>
                <a:gridCol w="392040"/>
                <a:gridCol w="39852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5228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638680" y="4495320"/>
            <a:ext cx="1981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7248960" y="449568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6" name=""/>
          <p:cNvCxnSpPr>
            <a:stCxn id="262" idx="7"/>
            <a:endCxn id="256" idx="3"/>
          </p:cNvCxnSpPr>
          <p:nvPr/>
        </p:nvCxnSpPr>
        <p:spPr>
          <a:xfrm flipV="1">
            <a:off x="1206000" y="3949200"/>
            <a:ext cx="737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7" name=""/>
          <p:cNvSpPr/>
          <p:nvPr/>
        </p:nvSpPr>
        <p:spPr>
          <a:xfrm>
            <a:off x="1334520" y="4051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" name=""/>
          <p:cNvCxnSpPr>
            <a:stCxn id="256" idx="6"/>
            <a:endCxn id="259" idx="2"/>
          </p:cNvCxnSpPr>
          <p:nvPr/>
        </p:nvCxnSpPr>
        <p:spPr>
          <a:xfrm>
            <a:off x="2311200" y="3797280"/>
            <a:ext cx="198180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9" name=""/>
          <p:cNvSpPr/>
          <p:nvPr/>
        </p:nvSpPr>
        <p:spPr>
          <a:xfrm>
            <a:off x="2577600" y="3746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"/>
          <p:cNvCxnSpPr>
            <a:stCxn id="259" idx="3"/>
            <a:endCxn id="257" idx="7"/>
          </p:cNvCxnSpPr>
          <p:nvPr/>
        </p:nvCxnSpPr>
        <p:spPr>
          <a:xfrm flipH="1">
            <a:off x="3644280" y="4788000"/>
            <a:ext cx="711720" cy="55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3950640" y="4991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"/>
          <p:cNvCxnSpPr>
            <a:stCxn id="257" idx="2"/>
            <a:endCxn id="261" idx="6"/>
          </p:cNvCxnSpPr>
          <p:nvPr/>
        </p:nvCxnSpPr>
        <p:spPr>
          <a:xfrm flipH="1">
            <a:off x="2310840" y="5498640"/>
            <a:ext cx="965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"/>
          <p:cNvSpPr/>
          <p:nvPr/>
        </p:nvSpPr>
        <p:spPr>
          <a:xfrm>
            <a:off x="2693520" y="5465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"/>
          <p:cNvCxnSpPr>
            <a:stCxn id="261" idx="7"/>
            <a:endCxn id="260" idx="3"/>
          </p:cNvCxnSpPr>
          <p:nvPr/>
        </p:nvCxnSpPr>
        <p:spPr>
          <a:xfrm flipV="1">
            <a:off x="2247840" y="3948840"/>
            <a:ext cx="1092960" cy="1397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2706120" y="462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EC18B-06CD-4FC2-A3CF-EA2BC010BD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3b3b1"/>
                                      </p:to>
                                    </p:animClr>
                                    <p:set>
                                      <p:cBhvr>
                                        <p:cTn id="133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9339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– Passo final: “Inserção forçada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15228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638680" y="4495320"/>
            <a:ext cx="19814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"/>
          <p:cNvSpPr/>
          <p:nvPr/>
        </p:nvSpPr>
        <p:spPr>
          <a:xfrm>
            <a:off x="7248960" y="449568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82" idx="7"/>
            <a:endCxn id="277" idx="3"/>
          </p:cNvCxnSpPr>
          <p:nvPr/>
        </p:nvCxnSpPr>
        <p:spPr>
          <a:xfrm flipV="1">
            <a:off x="1206000" y="3949200"/>
            <a:ext cx="737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"/>
          <p:cNvSpPr/>
          <p:nvPr/>
        </p:nvSpPr>
        <p:spPr>
          <a:xfrm>
            <a:off x="1334520" y="4051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"/>
          <p:cNvCxnSpPr>
            <a:stCxn id="277" idx="6"/>
            <a:endCxn id="279" idx="2"/>
          </p:cNvCxnSpPr>
          <p:nvPr/>
        </p:nvCxnSpPr>
        <p:spPr>
          <a:xfrm>
            <a:off x="2311200" y="3797280"/>
            <a:ext cx="198180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9" name=""/>
          <p:cNvSpPr/>
          <p:nvPr/>
        </p:nvSpPr>
        <p:spPr>
          <a:xfrm>
            <a:off x="2464920" y="3695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"/>
          <p:cNvCxnSpPr>
            <a:stCxn id="279" idx="3"/>
            <a:endCxn id="278" idx="7"/>
          </p:cNvCxnSpPr>
          <p:nvPr/>
        </p:nvCxnSpPr>
        <p:spPr>
          <a:xfrm flipH="1">
            <a:off x="3644280" y="4788000"/>
            <a:ext cx="711720" cy="55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3950640" y="4991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" name=""/>
          <p:cNvCxnSpPr>
            <a:stCxn id="278" idx="2"/>
            <a:endCxn id="281" idx="6"/>
          </p:cNvCxnSpPr>
          <p:nvPr/>
        </p:nvCxnSpPr>
        <p:spPr>
          <a:xfrm flipH="1">
            <a:off x="2310840" y="5498640"/>
            <a:ext cx="965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3" name=""/>
          <p:cNvSpPr/>
          <p:nvPr/>
        </p:nvSpPr>
        <p:spPr>
          <a:xfrm>
            <a:off x="2693520" y="5465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4" name=""/>
          <p:cNvCxnSpPr>
            <a:stCxn id="281" idx="7"/>
            <a:endCxn id="280" idx="3"/>
          </p:cNvCxnSpPr>
          <p:nvPr/>
        </p:nvCxnSpPr>
        <p:spPr>
          <a:xfrm flipV="1">
            <a:off x="2247840" y="3948840"/>
            <a:ext cx="1092960" cy="1397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5" name=""/>
          <p:cNvSpPr/>
          <p:nvPr/>
        </p:nvSpPr>
        <p:spPr>
          <a:xfrm>
            <a:off x="2706120" y="4622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6" name=""/>
          <p:cNvCxnSpPr>
            <a:stCxn id="280" idx="2"/>
            <a:endCxn id="282" idx="6"/>
          </p:cNvCxnSpPr>
          <p:nvPr/>
        </p:nvCxnSpPr>
        <p:spPr>
          <a:xfrm flipH="1">
            <a:off x="1269720" y="3797280"/>
            <a:ext cx="200736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7" name=""/>
          <p:cNvSpPr/>
          <p:nvPr/>
        </p:nvSpPr>
        <p:spPr>
          <a:xfrm>
            <a:off x="2018880" y="42418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D4B78-BE3B-407C-A088-270668CCE7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blema do Caixeiro Viajante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Heurística da Inserção Mais Bar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artir de uma sub-rota inicial envolvendo 3 cidades quaisquer. Por exempl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 primeira cidade é a cidade origem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 segunda cidade é a cidade mais próxima da cidade origem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a terceira é a que estiver a uma menor distância entre a segunda cidade e a cidade orig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 cada passo inserir uma cidad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(dentre as ainda não visitadas) entre as cidades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da sub-rota, de sorte que o custo da inserção, dado p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= d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Tahoma"/>
              </a:rPr>
              <a:t>ik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+ d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Tahoma"/>
              </a:rPr>
              <a:t>jk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- d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eja o menor dentre todas as possíveis inserçõ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ncerrar o método quando todas as cidades forem incluídas na rot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BF651-DC24-4B6E-A1BF-E9B9DC46AD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 – Inserção mais Barata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324000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3760" y="4800600"/>
            <a:ext cx="1981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"/>
          <p:cNvSpPr/>
          <p:nvPr/>
        </p:nvSpPr>
        <p:spPr>
          <a:xfrm>
            <a:off x="6944400" y="480060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06" idx="6"/>
            <a:endCxn id="304" idx="2"/>
          </p:cNvCxnSpPr>
          <p:nvPr/>
        </p:nvCxnSpPr>
        <p:spPr>
          <a:xfrm flipV="1">
            <a:off x="1270080" y="3796920"/>
            <a:ext cx="200736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304" idx="3"/>
            <a:endCxn id="305" idx="7"/>
          </p:cNvCxnSpPr>
          <p:nvPr/>
        </p:nvCxnSpPr>
        <p:spPr>
          <a:xfrm flipH="1">
            <a:off x="2247480" y="3949200"/>
            <a:ext cx="1092960" cy="1397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2" name=""/>
          <p:cNvCxnSpPr>
            <a:stCxn id="305" idx="1"/>
            <a:endCxn id="306" idx="5"/>
          </p:cNvCxnSpPr>
          <p:nvPr/>
        </p:nvCxnSpPr>
        <p:spPr>
          <a:xfrm flipH="1" flipV="1">
            <a:off x="1205640" y="4788000"/>
            <a:ext cx="737640" cy="55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3" name=""/>
          <p:cNvSpPr/>
          <p:nvPr/>
        </p:nvSpPr>
        <p:spPr>
          <a:xfrm>
            <a:off x="2057040" y="42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820600" y="4500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372680" y="500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41A90-FDFA-4E83-A4B1-EC26DBFFE9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 – Inserção mais Barata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6629400" y="1143000"/>
          <a:ext cx="2354400" cy="2773440"/>
        </p:xfrm>
        <a:graphic>
          <a:graphicData uri="http://schemas.openxmlformats.org/drawingml/2006/table">
            <a:tbl>
              <a:tblPr/>
              <a:tblGrid>
                <a:gridCol w="372960"/>
                <a:gridCol w="373320"/>
                <a:gridCol w="392040"/>
                <a:gridCol w="121608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k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j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+ 2 – 2 =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+ 5 – 2 = 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+ 9 – 2 =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+ 9 – 7 =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+ 8 – 7 =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+ 2 – 7 =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+ 1 – 2 =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+ 6 – 2 =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+ 6 – 2 =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</a:tbl>
          </a:graphicData>
        </a:graphic>
      </p:graphicFrame>
      <p:sp>
        <p:nvSpPr>
          <p:cNvPr id="320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5228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"/>
          <p:cNvSpPr/>
          <p:nvPr/>
        </p:nvSpPr>
        <p:spPr>
          <a:xfrm>
            <a:off x="6527880" y="1447920"/>
            <a:ext cx="255276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333760" y="4800600"/>
            <a:ext cx="1981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6945120" y="4800600"/>
            <a:ext cx="1012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1 + 1 = 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"/>
          <p:cNvCxnSpPr>
            <a:stCxn id="323" idx="6"/>
            <a:endCxn id="321" idx="2"/>
          </p:cNvCxnSpPr>
          <p:nvPr/>
        </p:nvCxnSpPr>
        <p:spPr>
          <a:xfrm flipV="1">
            <a:off x="1270080" y="3796920"/>
            <a:ext cx="2007360" cy="838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321" idx="3"/>
            <a:endCxn id="322" idx="7"/>
          </p:cNvCxnSpPr>
          <p:nvPr/>
        </p:nvCxnSpPr>
        <p:spPr>
          <a:xfrm flipH="1">
            <a:off x="2247480" y="3949200"/>
            <a:ext cx="1092960" cy="1397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0" name=""/>
          <p:cNvCxnSpPr>
            <a:stCxn id="322" idx="1"/>
            <a:endCxn id="323" idx="5"/>
          </p:cNvCxnSpPr>
          <p:nvPr/>
        </p:nvCxnSpPr>
        <p:spPr>
          <a:xfrm flipH="1" flipV="1">
            <a:off x="1205640" y="4788000"/>
            <a:ext cx="737640" cy="55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057040" y="4229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820600" y="4500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372680" y="500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"/>
          <p:cNvCxnSpPr>
            <a:stCxn id="323" idx="7"/>
            <a:endCxn id="317" idx="3"/>
          </p:cNvCxnSpPr>
          <p:nvPr/>
        </p:nvCxnSpPr>
        <p:spPr>
          <a:xfrm flipV="1">
            <a:off x="1206000" y="3949200"/>
            <a:ext cx="737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5" name=""/>
          <p:cNvSpPr/>
          <p:nvPr/>
        </p:nvSpPr>
        <p:spPr>
          <a:xfrm>
            <a:off x="1372680" y="4017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" name=""/>
          <p:cNvCxnSpPr>
            <a:stCxn id="317" idx="6"/>
            <a:endCxn id="321" idx="2"/>
          </p:cNvCxnSpPr>
          <p:nvPr/>
        </p:nvCxnSpPr>
        <p:spPr>
          <a:xfrm>
            <a:off x="2311200" y="3796920"/>
            <a:ext cx="965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2628360" y="3581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7A04C-A7D3-46C4-AFC9-8F0B62B7BAD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9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4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7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3b3b1"/>
                                      </p:to>
                                    </p:animClr>
                                    <p:set>
                                      <p:cBhvr>
                                        <p:cTn id="231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7720" y="22860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Aula 4 - Roteir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1447920" y="1066680"/>
            <a:ext cx="7010280" cy="56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spcBef>
                <a:spcPts val="1188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Problema do Caixeiro Viaja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Modelagem de programação matemátic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Modelagem heurística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37152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Vizinho mais próxim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37152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Inserção mais barat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88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Problema de Roteamento de Veícul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Modelagem heurística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37152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Vizinho mais próxim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37152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Heurística Clarke e Wrigh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71520" indent="-371520">
              <a:spcBef>
                <a:spcPts val="1188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Heurísticas de refinament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Método da Descid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Busca Tab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37152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Arial"/>
              </a:rPr>
              <a:t>Algoritmos Genétic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A9BA4-45B1-4B06-B25A-0CD82A4120E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 – Inserção mais Barata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6629400" y="1143000"/>
          <a:ext cx="2354400" cy="2498760"/>
        </p:xfrm>
        <a:graphic>
          <a:graphicData uri="http://schemas.openxmlformats.org/drawingml/2006/table">
            <a:tbl>
              <a:tblPr/>
              <a:tblGrid>
                <a:gridCol w="372960"/>
                <a:gridCol w="373320"/>
                <a:gridCol w="392040"/>
                <a:gridCol w="121608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k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j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+ 1 – 1 =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+ 4 – 1 = 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+ 5 – 2 =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+ 9 – 2 = 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+ 8 – 7 =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+ 2 – 7 =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+ 6 – 2 =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+ 6 – 2 =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</a:tbl>
          </a:graphicData>
        </a:graphic>
      </p:graphicFrame>
      <p:sp>
        <p:nvSpPr>
          <p:cNvPr id="342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5228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3760" y="4800600"/>
            <a:ext cx="1981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"/>
          <p:cNvSpPr/>
          <p:nvPr/>
        </p:nvSpPr>
        <p:spPr>
          <a:xfrm>
            <a:off x="6945120" y="4800600"/>
            <a:ext cx="1012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2 + 4 = 1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9" name=""/>
          <p:cNvCxnSpPr>
            <a:stCxn id="343" idx="3"/>
            <a:endCxn id="344" idx="7"/>
          </p:cNvCxnSpPr>
          <p:nvPr/>
        </p:nvCxnSpPr>
        <p:spPr>
          <a:xfrm flipH="1">
            <a:off x="2247480" y="3949200"/>
            <a:ext cx="1092960" cy="1397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4" idx="1"/>
            <a:endCxn id="345" idx="5"/>
          </p:cNvCxnSpPr>
          <p:nvPr/>
        </p:nvCxnSpPr>
        <p:spPr>
          <a:xfrm flipH="1" flipV="1">
            <a:off x="1205640" y="4788000"/>
            <a:ext cx="737640" cy="55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1" name=""/>
          <p:cNvSpPr/>
          <p:nvPr/>
        </p:nvSpPr>
        <p:spPr>
          <a:xfrm>
            <a:off x="2820600" y="4500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372680" y="500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"/>
          <p:cNvCxnSpPr>
            <a:stCxn id="345" idx="7"/>
            <a:endCxn id="339" idx="3"/>
          </p:cNvCxnSpPr>
          <p:nvPr/>
        </p:nvCxnSpPr>
        <p:spPr>
          <a:xfrm flipV="1">
            <a:off x="1206000" y="3949200"/>
            <a:ext cx="737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4" name=""/>
          <p:cNvSpPr/>
          <p:nvPr/>
        </p:nvSpPr>
        <p:spPr>
          <a:xfrm>
            <a:off x="1372680" y="4017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5" name=""/>
          <p:cNvCxnSpPr>
            <a:stCxn id="339" idx="6"/>
            <a:endCxn id="343" idx="2"/>
          </p:cNvCxnSpPr>
          <p:nvPr/>
        </p:nvCxnSpPr>
        <p:spPr>
          <a:xfrm>
            <a:off x="2311200" y="3796920"/>
            <a:ext cx="965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2628360" y="3581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527880" y="2006640"/>
            <a:ext cx="255276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"/>
          <p:cNvCxnSpPr>
            <a:stCxn id="339" idx="5"/>
            <a:endCxn id="342" idx="2"/>
          </p:cNvCxnSpPr>
          <p:nvPr/>
        </p:nvCxnSpPr>
        <p:spPr>
          <a:xfrm>
            <a:off x="2247840" y="3949200"/>
            <a:ext cx="2045520" cy="686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9" name=""/>
          <p:cNvCxnSpPr>
            <a:stCxn id="342" idx="1"/>
            <a:endCxn id="343" idx="5"/>
          </p:cNvCxnSpPr>
          <p:nvPr/>
        </p:nvCxnSpPr>
        <p:spPr>
          <a:xfrm flipH="1" flipV="1">
            <a:off x="3644280" y="3949200"/>
            <a:ext cx="71172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"/>
          <p:cNvSpPr/>
          <p:nvPr/>
        </p:nvSpPr>
        <p:spPr>
          <a:xfrm>
            <a:off x="3963600" y="4038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731680" y="3924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ABD24-2023-4A52-BD12-DC948C4F04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6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9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2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3b3b1"/>
                                      </p:to>
                                    </p:animClr>
                                    <p:set>
                                      <p:cBhvr>
                                        <p:cTn id="273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 – Inserção mais Barata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– Passo f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6629400" y="1143000"/>
          <a:ext cx="2354400" cy="1674720"/>
        </p:xfrm>
        <a:graphic>
          <a:graphicData uri="http://schemas.openxmlformats.org/drawingml/2006/table">
            <a:tbl>
              <a:tblPr/>
              <a:tblGrid>
                <a:gridCol w="372960"/>
                <a:gridCol w="373320"/>
                <a:gridCol w="392040"/>
                <a:gridCol w="121608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k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j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+ 4 – 1 = 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+ 3 – 1 =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+ 9 – 5 =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+ 2 – 7 =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+ 6 – 2 =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</a:tr>
            </a:tbl>
          </a:graphicData>
        </a:graphic>
      </p:graphicFrame>
      <p:sp>
        <p:nvSpPr>
          <p:cNvPr id="366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15228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33760" y="4800600"/>
            <a:ext cx="1981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"/>
          <p:cNvSpPr/>
          <p:nvPr/>
        </p:nvSpPr>
        <p:spPr>
          <a:xfrm>
            <a:off x="6945120" y="4800600"/>
            <a:ext cx="1012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6 + 4 = 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3" name=""/>
          <p:cNvCxnSpPr>
            <a:stCxn id="367" idx="3"/>
            <a:endCxn id="368" idx="7"/>
          </p:cNvCxnSpPr>
          <p:nvPr/>
        </p:nvCxnSpPr>
        <p:spPr>
          <a:xfrm flipH="1">
            <a:off x="2247480" y="3949200"/>
            <a:ext cx="1092960" cy="1397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"/>
          <p:cNvCxnSpPr>
            <a:stCxn id="368" idx="1"/>
            <a:endCxn id="369" idx="5"/>
          </p:cNvCxnSpPr>
          <p:nvPr/>
        </p:nvCxnSpPr>
        <p:spPr>
          <a:xfrm flipH="1" flipV="1">
            <a:off x="1205640" y="4788000"/>
            <a:ext cx="737640" cy="55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20600" y="4500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72680" y="500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7" name=""/>
          <p:cNvCxnSpPr>
            <a:stCxn id="369" idx="7"/>
            <a:endCxn id="363" idx="3"/>
          </p:cNvCxnSpPr>
          <p:nvPr/>
        </p:nvCxnSpPr>
        <p:spPr>
          <a:xfrm flipV="1">
            <a:off x="1206000" y="3949200"/>
            <a:ext cx="737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8" name=""/>
          <p:cNvSpPr/>
          <p:nvPr/>
        </p:nvSpPr>
        <p:spPr>
          <a:xfrm>
            <a:off x="1372680" y="4017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527880" y="2286000"/>
            <a:ext cx="255276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0" name=""/>
          <p:cNvCxnSpPr>
            <a:stCxn id="363" idx="5"/>
            <a:endCxn id="366" idx="2"/>
          </p:cNvCxnSpPr>
          <p:nvPr/>
        </p:nvCxnSpPr>
        <p:spPr>
          <a:xfrm>
            <a:off x="2247840" y="3949200"/>
            <a:ext cx="2045520" cy="686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66" idx="1"/>
            <a:endCxn id="367" idx="5"/>
          </p:cNvCxnSpPr>
          <p:nvPr/>
        </p:nvCxnSpPr>
        <p:spPr>
          <a:xfrm flipH="1" flipV="1">
            <a:off x="3644280" y="3949200"/>
            <a:ext cx="71172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3963600" y="4038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731680" y="3924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"/>
          <p:cNvCxnSpPr>
            <a:stCxn id="367" idx="4"/>
            <a:endCxn id="364" idx="0"/>
          </p:cNvCxnSpPr>
          <p:nvPr/>
        </p:nvCxnSpPr>
        <p:spPr>
          <a:xfrm>
            <a:off x="3492000" y="4013280"/>
            <a:ext cx="1080" cy="1270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5" name=""/>
          <p:cNvCxnSpPr>
            <a:stCxn id="364" idx="2"/>
            <a:endCxn id="368" idx="6"/>
          </p:cNvCxnSpPr>
          <p:nvPr/>
        </p:nvCxnSpPr>
        <p:spPr>
          <a:xfrm flipH="1">
            <a:off x="2310840" y="5498640"/>
            <a:ext cx="965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6" name=""/>
          <p:cNvSpPr/>
          <p:nvPr/>
        </p:nvSpPr>
        <p:spPr>
          <a:xfrm>
            <a:off x="3442680" y="4678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718720" y="5473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A3827-23FA-4DC6-AFC4-E542EAAA9F4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3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6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8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11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4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3b3b1"/>
                                      </p:to>
                                    </p:animClr>
                                    <p:set>
                                      <p:cBhvr>
                                        <p:cTn id="315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7543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blema de Roteamento de Veículos (PRV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235160" y="3751920"/>
            <a:ext cx="1117440" cy="29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Depósi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51160" y="30607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009800" y="31813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213200" y="27874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305440" y="317484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811600" y="34732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00520" y="286380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295800" y="298440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497400" y="32893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03840" y="322596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49640" y="40384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79760" y="43243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009800" y="470520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76560" y="433080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517760" y="477504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973520" y="49975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735640" y="445140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345120" y="38545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040200" y="472428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348000" y="2482920"/>
            <a:ext cx="12412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Consumidor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114360" y="267336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3444840" y="2711520"/>
            <a:ext cx="1144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647880" y="2711520"/>
            <a:ext cx="15228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952800" y="2711520"/>
            <a:ext cx="7632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00120" y="3321000"/>
            <a:ext cx="76320" cy="7923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676440" y="3803760"/>
            <a:ext cx="558720" cy="35532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65000" y="3244680"/>
            <a:ext cx="304920" cy="7632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1184040" y="304164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400040" y="3016080"/>
            <a:ext cx="190800" cy="71928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2212560" y="3409920"/>
            <a:ext cx="190440" cy="32400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H="1">
            <a:off x="2505240" y="3092400"/>
            <a:ext cx="457200" cy="17784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 flipV="1">
            <a:off x="3134160" y="3041640"/>
            <a:ext cx="214200" cy="8820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400" bIns="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 flipV="1">
            <a:off x="3488400" y="3217680"/>
            <a:ext cx="94680" cy="16164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3716280" y="3395160"/>
            <a:ext cx="270000" cy="6948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3553920" y="3474720"/>
            <a:ext cx="449640" cy="48636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 flipV="1">
            <a:off x="3033720" y="3695040"/>
            <a:ext cx="383400" cy="27396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2354040" y="3678840"/>
            <a:ext cx="541080" cy="120960"/>
          </a:xfrm>
          <a:prstGeom prst="line">
            <a:avLst/>
          </a:prstGeom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8840" y="3562200"/>
            <a:ext cx="6105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Rot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981000" y="4057560"/>
            <a:ext cx="609840" cy="3812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019160" y="4489560"/>
            <a:ext cx="3049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1197000" y="4552920"/>
            <a:ext cx="190440" cy="279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222200" y="4870440"/>
            <a:ext cx="368640" cy="507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743120" y="4971960"/>
            <a:ext cx="304920" cy="1526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2212920" y="4933440"/>
            <a:ext cx="914400" cy="2034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 flipV="1">
            <a:off x="1819080" y="4057560"/>
            <a:ext cx="990360" cy="5335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 flipH="1" flipV="1">
            <a:off x="2936520" y="4667040"/>
            <a:ext cx="190440" cy="177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918800" y="5156280"/>
            <a:ext cx="38484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pt-BR" sz="1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pt-BR" sz="13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724280" y="1371600"/>
            <a:ext cx="4191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ahoma"/>
              </a:rPr>
              <a:t>Restriçõ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ada rota começa e termina no depósito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Cada vértice, com exceção do depósito, é visitado uma única vez, por somente um veículo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ahoma"/>
              </a:rPr>
              <a:t>A demanda total de uma rota não deve superar a capacidade do veícul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E9037-16AF-4A33-BEC3-5A05FFACC0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0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3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9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5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9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2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5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0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1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4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15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roblema de Roteamento de Veículos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Heurística do Vizinho mais Próxi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struir uma rota para um veículo saindo do depósito da seguinte form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próximo cliente a ser visitado é aquele (dentre os ainda não visitados) mais próximo do último cliente inserido na rota cuja demanda possa ser atendi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 não existem clientes que possam ser atendidos pelo veículo, retornar ao depósi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ncerrar o método quando todos os clientes forem atendi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A178B-F5B6-4586-A907-C6CC68592E7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 flipH="1" rot="3568800">
            <a:off x="2395080" y="3982680"/>
            <a:ext cx="1356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"/>
          <p:cNvSpPr/>
          <p:nvPr/>
        </p:nvSpPr>
        <p:spPr>
          <a:xfrm>
            <a:off x="300348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635360" y="5664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3" name=""/>
          <p:cNvGraphicFramePr/>
          <p:nvPr/>
        </p:nvGraphicFramePr>
        <p:xfrm>
          <a:off x="7062840" y="1143000"/>
          <a:ext cx="1928880" cy="1674720"/>
        </p:xfrm>
        <a:graphic>
          <a:graphicData uri="http://schemas.openxmlformats.org/drawingml/2006/table">
            <a:tbl>
              <a:tblPr/>
              <a:tblGrid>
                <a:gridCol w="372960"/>
                <a:gridCol w="392040"/>
                <a:gridCol w="398520"/>
                <a:gridCol w="76536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∑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444" name=""/>
          <p:cNvSpPr/>
          <p:nvPr/>
        </p:nvSpPr>
        <p:spPr>
          <a:xfrm>
            <a:off x="551196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257720" y="3270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2920" y="566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22928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5228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449" name=""/>
          <p:cNvSpPr/>
          <p:nvPr/>
        </p:nvSpPr>
        <p:spPr>
          <a:xfrm>
            <a:off x="6997680" y="1447920"/>
            <a:ext cx="205740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53120" y="411480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"/>
          <p:cNvSpPr/>
          <p:nvPr/>
        </p:nvSpPr>
        <p:spPr>
          <a:xfrm>
            <a:off x="8202960" y="459756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783920" y="411480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64608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649560" y="279396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9BF49-0CFD-49C4-A12E-1C1916593B8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8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1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 rot="10623000">
            <a:off x="3304800" y="3282120"/>
            <a:ext cx="3405960" cy="253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961367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961367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314160" y="510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 rot="3568800">
            <a:off x="2395080" y="3982680"/>
            <a:ext cx="1356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64608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"/>
          <p:cNvSpPr/>
          <p:nvPr/>
        </p:nvSpPr>
        <p:spPr>
          <a:xfrm>
            <a:off x="300348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635360" y="5664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7062840" y="1143000"/>
          <a:ext cx="1928880" cy="1400040"/>
        </p:xfrm>
        <a:graphic>
          <a:graphicData uri="http://schemas.openxmlformats.org/drawingml/2006/table">
            <a:tbl>
              <a:tblPr/>
              <a:tblGrid>
                <a:gridCol w="372960"/>
                <a:gridCol w="392040"/>
                <a:gridCol w="398520"/>
                <a:gridCol w="76536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∑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463" name=""/>
          <p:cNvSpPr/>
          <p:nvPr/>
        </p:nvSpPr>
        <p:spPr>
          <a:xfrm>
            <a:off x="551196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257720" y="3270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2920" y="566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22928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15228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468" name=""/>
          <p:cNvSpPr/>
          <p:nvPr/>
        </p:nvSpPr>
        <p:spPr>
          <a:xfrm>
            <a:off x="6997680" y="2006640"/>
            <a:ext cx="205740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53120" y="411480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"/>
          <p:cNvSpPr/>
          <p:nvPr/>
        </p:nvSpPr>
        <p:spPr>
          <a:xfrm>
            <a:off x="8202960" y="459756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783920" y="411480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649560" y="252720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855EE-484E-46C1-BEE6-0028758F7E8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0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/>
          <p:nvPr/>
        </p:nvSpPr>
        <p:spPr>
          <a:xfrm rot="1365600">
            <a:off x="1916640" y="3201480"/>
            <a:ext cx="3157200" cy="414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844698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84469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10623000">
            <a:off x="3304800" y="3282120"/>
            <a:ext cx="3405960" cy="253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961367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961367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314160" y="510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 rot="3568800">
            <a:off x="2395080" y="3982680"/>
            <a:ext cx="1356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64608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300348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635360" y="5664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7062840" y="1143000"/>
          <a:ext cx="1928880" cy="1125360"/>
        </p:xfrm>
        <a:graphic>
          <a:graphicData uri="http://schemas.openxmlformats.org/drawingml/2006/table">
            <a:tbl>
              <a:tblPr/>
              <a:tblGrid>
                <a:gridCol w="372960"/>
                <a:gridCol w="392040"/>
                <a:gridCol w="398520"/>
                <a:gridCol w="76536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∑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551196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257720" y="3270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652920" y="566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22928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15228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487" name=""/>
          <p:cNvSpPr/>
          <p:nvPr/>
        </p:nvSpPr>
        <p:spPr>
          <a:xfrm>
            <a:off x="6997680" y="1447920"/>
            <a:ext cx="205740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153120" y="411480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"/>
          <p:cNvSpPr/>
          <p:nvPr/>
        </p:nvSpPr>
        <p:spPr>
          <a:xfrm>
            <a:off x="8202960" y="459756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776000" y="411480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914360" y="3822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649560" y="224784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6A072-9D77-4C6D-A5E2-F23F924EDF0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6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9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 rot="1365600">
            <a:off x="1916640" y="3201480"/>
            <a:ext cx="3157200" cy="414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844698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84469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 rot="19435800">
            <a:off x="4577760" y="32634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03956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10623000">
            <a:off x="3304800" y="3282120"/>
            <a:ext cx="3405960" cy="253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961367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961367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314160" y="510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 rot="3568800">
            <a:off x="2395080" y="3982680"/>
            <a:ext cx="1356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64608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300348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635360" y="5664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7062840" y="1143000"/>
          <a:ext cx="1928880" cy="851040"/>
        </p:xfrm>
        <a:graphic>
          <a:graphicData uri="http://schemas.openxmlformats.org/drawingml/2006/table">
            <a:tbl>
              <a:tblPr/>
              <a:tblGrid>
                <a:gridCol w="372960"/>
                <a:gridCol w="392040"/>
                <a:gridCol w="398520"/>
                <a:gridCol w="76536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∑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504" name=""/>
          <p:cNvSpPr/>
          <p:nvPr/>
        </p:nvSpPr>
        <p:spPr>
          <a:xfrm>
            <a:off x="551196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257720" y="3270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652920" y="566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22928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15228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153120" y="411480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8202960" y="459756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776000" y="411480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14360" y="3822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649560" y="196848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E59EE-3657-4C92-8096-20CB7570D69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0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3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5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 rot="1365600">
            <a:off x="1916640" y="3201480"/>
            <a:ext cx="3157200" cy="414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844698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84469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 rot="3205200">
            <a:off x="3761280" y="40536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80168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 rot="19435800">
            <a:off x="4577760" y="32634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03956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rot="10623000">
            <a:off x="3304800" y="3282120"/>
            <a:ext cx="3405960" cy="253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961367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961367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314160" y="510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 rot="3568800">
            <a:off x="2395080" y="3982680"/>
            <a:ext cx="1356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64608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300348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635360" y="5664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7062840" y="1143000"/>
          <a:ext cx="1928880" cy="851040"/>
        </p:xfrm>
        <a:graphic>
          <a:graphicData uri="http://schemas.openxmlformats.org/drawingml/2006/table">
            <a:tbl>
              <a:tblPr/>
              <a:tblGrid>
                <a:gridCol w="372960"/>
                <a:gridCol w="392040"/>
                <a:gridCol w="398520"/>
                <a:gridCol w="76536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∑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527" name=""/>
          <p:cNvSpPr/>
          <p:nvPr/>
        </p:nvSpPr>
        <p:spPr>
          <a:xfrm>
            <a:off x="551196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257720" y="3270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652920" y="566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22928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15228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153120" y="411480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8202960" y="459756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788960" y="411480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997680" y="1447920"/>
            <a:ext cx="205740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914360" y="3822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649560" y="196848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244BD-0A8F-4A6D-816D-00956D4CD9D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 rot="647400">
            <a:off x="4060440" y="4627440"/>
            <a:ext cx="1523880" cy="1752840"/>
          </a:xfrm>
          <a:custGeom>
            <a:avLst/>
            <a:gdLst/>
            <a:ahLst/>
            <a:rect l="l" t="t" r="r" b="b"/>
            <a:pathLst>
              <a:path w="1144" h="784">
                <a:moveTo>
                  <a:pt x="1104" y="0"/>
                </a:moveTo>
                <a:cubicBezTo>
                  <a:pt x="1124" y="280"/>
                  <a:pt x="1144" y="560"/>
                  <a:pt x="960" y="672"/>
                </a:cubicBezTo>
                <a:cubicBezTo>
                  <a:pt x="776" y="784"/>
                  <a:pt x="64" y="624"/>
                  <a:pt x="0" y="672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371560" y="582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rot="1365600">
            <a:off x="1916640" y="3201480"/>
            <a:ext cx="3157200" cy="414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844698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84469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 rot="3205200">
            <a:off x="3761280" y="40536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80168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 rot="19435800">
            <a:off x="4577760" y="32634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03956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rot="10623000">
            <a:off x="3304800" y="3282120"/>
            <a:ext cx="3405960" cy="253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961367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961367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314160" y="510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 rot="3568800">
            <a:off x="2395080" y="3982680"/>
            <a:ext cx="1356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64608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>
            <a:off x="300348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635360" y="5664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7062840" y="1143000"/>
          <a:ext cx="1928880" cy="576360"/>
        </p:xfrm>
        <a:graphic>
          <a:graphicData uri="http://schemas.openxmlformats.org/drawingml/2006/table">
            <a:tbl>
              <a:tblPr/>
              <a:tblGrid>
                <a:gridCol w="372960"/>
                <a:gridCol w="392040"/>
                <a:gridCol w="398520"/>
                <a:gridCol w="76536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∑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553" name=""/>
          <p:cNvSpPr/>
          <p:nvPr/>
        </p:nvSpPr>
        <p:spPr>
          <a:xfrm>
            <a:off x="551196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257720" y="3270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652920" y="566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22928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15228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153120" y="411480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8202960" y="459756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788960" y="411480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97680" y="1447920"/>
            <a:ext cx="2057400" cy="2286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914360" y="3822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649560" y="170172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26F0F-C6C2-4DD1-8AF5-620B0FFE132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blema do Caixeiro Viaja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siste em encontrar uma rota qu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rta de uma cidade orig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sse por todas as demais cidades uma única ve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torne à cidade origem ao final do percur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ercorra a menor distância possí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ota conhecida como ciclo hamiltonian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80279-88C2-4F7C-B129-E5A6681C16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 flipH="1" rot="20720400">
            <a:off x="3990600" y="4776120"/>
            <a:ext cx="1356120" cy="2895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rot="647400">
            <a:off x="4060440" y="4627440"/>
            <a:ext cx="1523880" cy="1752840"/>
          </a:xfrm>
          <a:custGeom>
            <a:avLst/>
            <a:gdLst/>
            <a:ahLst/>
            <a:rect l="l" t="t" r="r" b="b"/>
            <a:pathLst>
              <a:path w="1144" h="784">
                <a:moveTo>
                  <a:pt x="1104" y="0"/>
                </a:moveTo>
                <a:cubicBezTo>
                  <a:pt x="1124" y="280"/>
                  <a:pt x="1144" y="560"/>
                  <a:pt x="960" y="672"/>
                </a:cubicBezTo>
                <a:cubicBezTo>
                  <a:pt x="776" y="784"/>
                  <a:pt x="64" y="624"/>
                  <a:pt x="0" y="672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371560" y="582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rot="1365600">
            <a:off x="1916640" y="3201480"/>
            <a:ext cx="3157200" cy="414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844698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84469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 rot="3205200">
            <a:off x="3761280" y="40536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801680" y="429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H="1" rot="19435800">
            <a:off x="4577760" y="32634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03956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rot="10623000">
            <a:off x="3304800" y="3282120"/>
            <a:ext cx="3405960" cy="253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961367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961367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314160" y="51055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rot="3568800">
            <a:off x="2395080" y="3982680"/>
            <a:ext cx="1356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64608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– Vizinho mais Próximo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– Passo f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"/>
          <p:cNvSpPr/>
          <p:nvPr/>
        </p:nvSpPr>
        <p:spPr>
          <a:xfrm>
            <a:off x="300348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635360" y="5664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51196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257720" y="3270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652920" y="566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22928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15228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153120" y="411480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8202960" y="459756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788960" y="4114800"/>
            <a:ext cx="363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914360" y="3822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721320" y="498312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91840" y="303516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4D1B7-B6C9-4264-BD7F-FF0ADD1C415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5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15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blema de Roteamento de Veículos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eurística de Clarke and W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6964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struir uma rota para cada cli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sde que possível, unir duas rotas, envolvendo os clientes extremos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, que produzirem a maior economia segundo a expressã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= d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Tahoma"/>
              </a:rPr>
              <a:t>oi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+ d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Tahoma"/>
              </a:rPr>
              <a:t>jo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– d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ond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é o depósito 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são clientes que estão nas extremidades das rot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ncerrar o método quando não existirem rotas que possam ser uni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8DBF1-E01C-4233-B900-50D93E2114C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295280" y="274320"/>
            <a:ext cx="73152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blema de Roteamento de Veículos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eurística de Clarke and Wr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2666880" y="2209680"/>
            <a:ext cx="838440" cy="9907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257800" y="2209680"/>
            <a:ext cx="838080" cy="9907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886200" y="4114800"/>
            <a:ext cx="838080" cy="9907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400120" y="2510640"/>
            <a:ext cx="1981080" cy="3211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571" y="28"/>
                </a:moveTo>
                <a:arcTo wR="10800" hR="10800" stAng="-5154265" swAng="5235741"/>
                <a:lnTo>
                  <a:pt x="10800" y="10800"/>
                </a:lnTo>
                <a:close/>
              </a:path>
              <a:path fill="none" w="21600" h="21600">
                <a:moveTo>
                  <a:pt x="11571" y="28"/>
                </a:moveTo>
                <a:arcTo wR="10800" hR="10800" stAng="-5154265" swAng="5235741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rot="10800000">
            <a:off x="2672280" y="1561680"/>
            <a:ext cx="2590200" cy="285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66" y="6"/>
                </a:moveTo>
                <a:arcTo wR="10800" hR="10800" stAng="-5283463" swAng="5768349"/>
                <a:lnTo>
                  <a:pt x="10800" y="10800"/>
                </a:lnTo>
                <a:close/>
              </a:path>
              <a:path fill="none" w="21600" h="21600">
                <a:moveTo>
                  <a:pt x="11166" y="6"/>
                </a:moveTo>
                <a:arcTo wR="10800" hR="10800" stAng="-5283463" swAng="5768349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4419000" y="2743200"/>
            <a:ext cx="167580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33565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335656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H="1" rot="10489200">
            <a:off x="3142440" y="1663560"/>
            <a:ext cx="2741040" cy="274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189" y="7"/>
                </a:moveTo>
                <a:arcTo wR="10800" hR="10800" stAng="-5276200" swAng="4767988"/>
                <a:lnTo>
                  <a:pt x="10800" y="10800"/>
                </a:lnTo>
                <a:close/>
              </a:path>
              <a:path fill="none" w="21600" h="21600">
                <a:moveTo>
                  <a:pt x="11189" y="7"/>
                </a:moveTo>
                <a:arcTo wR="10800" hR="10800" stAng="-5276200" swAng="476798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895480" y="25146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562720" y="259092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191120" y="446400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962520" y="266688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pt-BR" sz="1600" spc="-1" strike="noStrike" baseline="-25000">
                <a:solidFill>
                  <a:srgbClr val="000000"/>
                </a:solidFill>
                <a:latin typeface="Arial"/>
              </a:rPr>
              <a:t>i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584600" y="304812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pt-BR" sz="1600" spc="-1" strike="noStrike" baseline="-25000">
                <a:solidFill>
                  <a:srgbClr val="000000"/>
                </a:solidFill>
                <a:latin typeface="Arial"/>
              </a:rPr>
              <a:t>o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562720" y="3695760"/>
            <a:ext cx="45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pt-BR" sz="1600" spc="-1" strike="noStrike" baseline="-25000">
                <a:solidFill>
                  <a:srgbClr val="000000"/>
                </a:solidFill>
                <a:latin typeface="Arial"/>
              </a:rPr>
              <a:t>j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857680" y="3657600"/>
            <a:ext cx="533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pt-BR" sz="1600" spc="-1" strike="noStrike" baseline="-25000">
                <a:solidFill>
                  <a:srgbClr val="000000"/>
                </a:solidFill>
                <a:latin typeface="Arial"/>
              </a:rPr>
              <a:t>0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7" name=""/>
          <p:cNvCxnSpPr>
            <a:stCxn id="593" idx="7"/>
            <a:endCxn id="594" idx="1"/>
          </p:cNvCxnSpPr>
          <p:nvPr/>
        </p:nvCxnSpPr>
        <p:spPr>
          <a:xfrm>
            <a:off x="3382920" y="2354040"/>
            <a:ext cx="199800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608" name=""/>
          <p:cNvSpPr/>
          <p:nvPr/>
        </p:nvSpPr>
        <p:spPr>
          <a:xfrm>
            <a:off x="4038480" y="2025720"/>
            <a:ext cx="533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pt-BR" sz="16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209680" y="5334120"/>
            <a:ext cx="4191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conomia s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= d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0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+ d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j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- d</a:t>
            </a:r>
            <a:r>
              <a:rPr b="0" i="1" lang="pt-BR" sz="18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37963-9829-4563-ADB0-79EF9C0CDF4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0" fill="hold">
                            <p:stCondLst>
                              <p:cond delay="500"/>
                            </p:stCondLst>
                            <p:childTnLst>
                              <p:par>
                                <p:cTn id="70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2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5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0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 flipH="1" rot="18619800">
            <a:off x="2368800" y="4274640"/>
            <a:ext cx="13568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rot="7528800">
            <a:off x="396360" y="3459600"/>
            <a:ext cx="13568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 flipH="1" rot="3205200">
            <a:off x="1107000" y="40536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 flipH="1" rot="14194200">
            <a:off x="2436120" y="2382120"/>
            <a:ext cx="135648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 flipH="1" rot="3568800">
            <a:off x="-220320" y="3982320"/>
            <a:ext cx="1356840" cy="289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 flipH="1" rot="14412600">
            <a:off x="1257840" y="242388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 flipH="1" rot="8874600">
            <a:off x="367560" y="1872720"/>
            <a:ext cx="1356840" cy="2895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- Clarke and Wright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297180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619" name=""/>
          <p:cNvSpPr/>
          <p:nvPr/>
        </p:nvSpPr>
        <p:spPr>
          <a:xfrm>
            <a:off x="37476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006640" y="5664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88288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H="1" rot="19435800">
            <a:off x="2000160" y="3263040"/>
            <a:ext cx="13568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628640" y="3270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flipH="1" rot="10249800">
            <a:off x="403920" y="2876760"/>
            <a:ext cx="1356120" cy="289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 flipH="1" rot="20720400">
            <a:off x="1374480" y="4776120"/>
            <a:ext cx="1356120" cy="2895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023840" y="5661000"/>
            <a:ext cx="43200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60020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46160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4256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02996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029960" y="4775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054440" y="52196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499040" y="5499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1753560" y="5295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234520" y="5232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236320" y="4280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350440" y="4780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467160" y="403848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"/>
          <p:cNvSpPr/>
          <p:nvPr/>
        </p:nvSpPr>
        <p:spPr>
          <a:xfrm>
            <a:off x="5090400" y="4038480"/>
            <a:ext cx="3884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(6 + 6) + (7 + 7) + (8 + 8) + (9 + 9) + (10 + 10) = 8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517000" y="452124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409560" y="303516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8AFEF-E2A4-4F39-821A-618B13CF779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6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3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6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9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2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5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8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1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4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7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0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3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6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9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2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5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8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1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4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7" dur="2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0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6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 flipH="1" rot="14194200">
            <a:off x="2436120" y="2382120"/>
            <a:ext cx="135648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 rot="10249800">
            <a:off x="403920" y="2876760"/>
            <a:ext cx="1356120" cy="289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rot="647400">
            <a:off x="1393560" y="4627440"/>
            <a:ext cx="1523880" cy="1752840"/>
          </a:xfrm>
          <a:custGeom>
            <a:avLst/>
            <a:gdLst/>
            <a:ahLst/>
            <a:rect l="l" t="t" r="r" b="b"/>
            <a:pathLst>
              <a:path w="1144" h="784">
                <a:moveTo>
                  <a:pt x="1104" y="0"/>
                </a:moveTo>
                <a:cubicBezTo>
                  <a:pt x="1124" y="280"/>
                  <a:pt x="1144" y="560"/>
                  <a:pt x="960" y="672"/>
                </a:cubicBezTo>
                <a:cubicBezTo>
                  <a:pt x="776" y="784"/>
                  <a:pt x="64" y="624"/>
                  <a:pt x="0" y="672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 rot="18619800">
            <a:off x="2394360" y="4274640"/>
            <a:ext cx="13568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 flipH="1" rot="7528800">
            <a:off x="421920" y="3459600"/>
            <a:ext cx="13568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 rot="3205200">
            <a:off x="1132200" y="4053600"/>
            <a:ext cx="13561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 rot="3568800">
            <a:off x="-194760" y="3982320"/>
            <a:ext cx="1356840" cy="289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 rot="14412600">
            <a:off x="1283760" y="2423880"/>
            <a:ext cx="13561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 rot="8874600">
            <a:off x="394200" y="1872360"/>
            <a:ext cx="135576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- Clarke and Wright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2" name=""/>
          <p:cNvGraphicFramePr/>
          <p:nvPr/>
        </p:nvGraphicFramePr>
        <p:xfrm>
          <a:off x="15228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653" name=""/>
          <p:cNvSpPr/>
          <p:nvPr/>
        </p:nvSpPr>
        <p:spPr>
          <a:xfrm>
            <a:off x="39996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031840" y="5664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5029200" y="1143000"/>
          <a:ext cx="3962520" cy="3048120"/>
        </p:xfrm>
        <a:graphic>
          <a:graphicData uri="http://schemas.openxmlformats.org/drawingml/2006/table">
            <a:tbl>
              <a:tblPr/>
              <a:tblGrid>
                <a:gridCol w="372960"/>
                <a:gridCol w="392040"/>
                <a:gridCol w="400320"/>
                <a:gridCol w="398520"/>
                <a:gridCol w="399960"/>
                <a:gridCol w="1236600"/>
                <a:gridCol w="76212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r>
                        <a:rPr b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 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i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∑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656" name=""/>
          <p:cNvSpPr/>
          <p:nvPr/>
        </p:nvSpPr>
        <p:spPr>
          <a:xfrm>
            <a:off x="290844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H="1" rot="19435800">
            <a:off x="2025000" y="32634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654200" y="3270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 rot="20720400">
            <a:off x="1398960" y="4776480"/>
            <a:ext cx="1356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049400" y="566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62576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48716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96812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05516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055160" y="4775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080000" y="52196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779120" y="5295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260080" y="5232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261520" y="4280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704680" y="582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952880" y="3657600"/>
            <a:ext cx="4114800" cy="2412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499040" y="5499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350440" y="4780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467160" y="472428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>
            <a:off x="5517000" y="520704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100840" y="4724280"/>
            <a:ext cx="113328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80 – </a:t>
            </a:r>
            <a:r>
              <a:rPr b="1" i="1" lang="pt-BR" sz="13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pt-BR" sz="1300" spc="-1" strike="noStrike" baseline="-25000">
                <a:solidFill>
                  <a:srgbClr val="000000"/>
                </a:solidFill>
                <a:latin typeface="Arial"/>
              </a:rPr>
              <a:t>35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 = 6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635160" y="416556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C1F7E-60C5-4090-9710-650905CF197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35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38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0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41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44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8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1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3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854" dur="2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 rot="10623000">
            <a:off x="703080" y="3294720"/>
            <a:ext cx="3406680" cy="253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961367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961367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rot="647400">
            <a:off x="1393560" y="4627440"/>
            <a:ext cx="1523880" cy="1752840"/>
          </a:xfrm>
          <a:custGeom>
            <a:avLst/>
            <a:gdLst/>
            <a:ahLst/>
            <a:rect l="l" t="t" r="r" b="b"/>
            <a:pathLst>
              <a:path w="1144" h="784">
                <a:moveTo>
                  <a:pt x="1104" y="0"/>
                </a:moveTo>
                <a:cubicBezTo>
                  <a:pt x="1124" y="280"/>
                  <a:pt x="1144" y="560"/>
                  <a:pt x="960" y="672"/>
                </a:cubicBezTo>
                <a:cubicBezTo>
                  <a:pt x="776" y="784"/>
                  <a:pt x="64" y="624"/>
                  <a:pt x="0" y="672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H="1" rot="18619800">
            <a:off x="2394360" y="4274640"/>
            <a:ext cx="13568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flipH="1" rot="7528800">
            <a:off x="421920" y="3459600"/>
            <a:ext cx="13568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H="1" rot="3205200">
            <a:off x="1132200" y="4053600"/>
            <a:ext cx="13561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flipH="1" rot="3568800">
            <a:off x="-194760" y="3982320"/>
            <a:ext cx="1356840" cy="289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H="1" rot="14412600">
            <a:off x="1283760" y="2423880"/>
            <a:ext cx="13561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H="1" rot="8874600">
            <a:off x="394200" y="1872360"/>
            <a:ext cx="135576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- Clarke and Wright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15228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688" name=""/>
          <p:cNvSpPr/>
          <p:nvPr/>
        </p:nvSpPr>
        <p:spPr>
          <a:xfrm>
            <a:off x="39996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2031840" y="5664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0" name=""/>
          <p:cNvGraphicFramePr/>
          <p:nvPr/>
        </p:nvGraphicFramePr>
        <p:xfrm>
          <a:off x="5029200" y="1143000"/>
          <a:ext cx="3962520" cy="2773440"/>
        </p:xfrm>
        <a:graphic>
          <a:graphicData uri="http://schemas.openxmlformats.org/drawingml/2006/table">
            <a:tbl>
              <a:tblPr/>
              <a:tblGrid>
                <a:gridCol w="372960"/>
                <a:gridCol w="392040"/>
                <a:gridCol w="400320"/>
                <a:gridCol w="398520"/>
                <a:gridCol w="399960"/>
                <a:gridCol w="1236600"/>
                <a:gridCol w="76212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r>
                        <a:rPr b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 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i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∑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691" name=""/>
          <p:cNvSpPr/>
          <p:nvPr/>
        </p:nvSpPr>
        <p:spPr>
          <a:xfrm>
            <a:off x="290844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H="1" rot="19435800">
            <a:off x="2025000" y="32634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654200" y="3270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rot="20720400">
            <a:off x="1398960" y="4776480"/>
            <a:ext cx="1356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049400" y="566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62576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48716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96812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05516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055160" y="4775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080000" y="52196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779120" y="5295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260080" y="5232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261520" y="4280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704680" y="582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467160" y="472428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>
            <a:off x="5517000" y="520704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5100840" y="4724280"/>
            <a:ext cx="113328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63 – </a:t>
            </a:r>
            <a:r>
              <a:rPr b="1" i="1" lang="pt-BR" sz="13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pt-BR" sz="13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 = 4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12440" y="5118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635160" y="389880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4952880" y="2006640"/>
            <a:ext cx="4114800" cy="2412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291B0-94DE-4827-B343-61A9BAD1240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5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89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92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95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898" dur="2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2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5" dur="2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6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7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908" dur="2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 rot="1365600">
            <a:off x="-649800" y="3201480"/>
            <a:ext cx="3157200" cy="414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844698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84469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rot="10623000">
            <a:off x="703080" y="3294720"/>
            <a:ext cx="3406680" cy="253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961367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961367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rot="647400">
            <a:off x="1393560" y="4627440"/>
            <a:ext cx="1523880" cy="1752840"/>
          </a:xfrm>
          <a:custGeom>
            <a:avLst/>
            <a:gdLst/>
            <a:ahLst/>
            <a:rect l="l" t="t" r="r" b="b"/>
            <a:pathLst>
              <a:path w="1144" h="784">
                <a:moveTo>
                  <a:pt x="1104" y="0"/>
                </a:moveTo>
                <a:cubicBezTo>
                  <a:pt x="1124" y="280"/>
                  <a:pt x="1144" y="560"/>
                  <a:pt x="960" y="672"/>
                </a:cubicBezTo>
                <a:cubicBezTo>
                  <a:pt x="776" y="784"/>
                  <a:pt x="64" y="624"/>
                  <a:pt x="0" y="672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H="1" rot="7528800">
            <a:off x="421920" y="3459600"/>
            <a:ext cx="135684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H="1" rot="3205200">
            <a:off x="1132200" y="4053600"/>
            <a:ext cx="13561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H="1" rot="3568800">
            <a:off x="-194760" y="3982320"/>
            <a:ext cx="1356840" cy="289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H="1" rot="8874600">
            <a:off x="394200" y="1872360"/>
            <a:ext cx="135576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– Clarke and Wright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- Passo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15228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721" name=""/>
          <p:cNvSpPr/>
          <p:nvPr/>
        </p:nvSpPr>
        <p:spPr>
          <a:xfrm>
            <a:off x="39996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031840" y="5664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3" name=""/>
          <p:cNvGraphicFramePr/>
          <p:nvPr/>
        </p:nvGraphicFramePr>
        <p:xfrm>
          <a:off x="5029200" y="1143000"/>
          <a:ext cx="3962520" cy="2498760"/>
        </p:xfrm>
        <a:graphic>
          <a:graphicData uri="http://schemas.openxmlformats.org/drawingml/2006/table">
            <a:tbl>
              <a:tblPr/>
              <a:tblGrid>
                <a:gridCol w="372960"/>
                <a:gridCol w="392040"/>
                <a:gridCol w="400320"/>
                <a:gridCol w="398520"/>
                <a:gridCol w="399960"/>
                <a:gridCol w="1236600"/>
                <a:gridCol w="76212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r>
                        <a:rPr b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 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i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∑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724" name=""/>
          <p:cNvSpPr/>
          <p:nvPr/>
        </p:nvSpPr>
        <p:spPr>
          <a:xfrm>
            <a:off x="290844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H="1" rot="19435800">
            <a:off x="2025000" y="32634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654200" y="3270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H="1" rot="20720400">
            <a:off x="1398960" y="4776480"/>
            <a:ext cx="1356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049400" y="566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62576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48716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96812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05516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080000" y="52196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260080" y="5232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2261520" y="4280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704680" y="582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467160" y="472428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8" name=""/>
          <p:cNvSpPr/>
          <p:nvPr/>
        </p:nvSpPr>
        <p:spPr>
          <a:xfrm>
            <a:off x="5517000" y="5207040"/>
            <a:ext cx="272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100840" y="4724280"/>
            <a:ext cx="113328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49 – </a:t>
            </a:r>
            <a:r>
              <a:rPr b="1" i="1" lang="pt-BR" sz="13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pt-BR" sz="1300" spc="-1" strike="noStrike" baseline="-25000">
                <a:solidFill>
                  <a:srgbClr val="000000"/>
                </a:solidFill>
                <a:latin typeface="Arial"/>
              </a:rPr>
              <a:t>24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 = 3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12440" y="5118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337840" y="3822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635160" y="361944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952880" y="2552760"/>
            <a:ext cx="4114800" cy="24120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D631B-9681-4F66-8A2F-CBC4DFA2BA1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43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46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49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952" dur="2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6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9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1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962" dur="2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"/>
          <p:cNvSpPr/>
          <p:nvPr/>
        </p:nvSpPr>
        <p:spPr>
          <a:xfrm rot="1365600">
            <a:off x="-649800" y="3201480"/>
            <a:ext cx="3157200" cy="4147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844698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84469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rot="10623000">
            <a:off x="703080" y="3294720"/>
            <a:ext cx="3406680" cy="2538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174" y="88"/>
                </a:moveTo>
                <a:arcTo wR="10800" hR="10800" stAng="-4961367" swAng="4961367"/>
                <a:lnTo>
                  <a:pt x="10800" y="10800"/>
                </a:lnTo>
                <a:close/>
              </a:path>
              <a:path fill="none" w="21600" h="21600">
                <a:moveTo>
                  <a:pt x="12174" y="88"/>
                </a:moveTo>
                <a:arcTo wR="10800" hR="10800" stAng="-4961367" swAng="4961367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rot="647400">
            <a:off x="1393560" y="4627440"/>
            <a:ext cx="1523880" cy="1752840"/>
          </a:xfrm>
          <a:custGeom>
            <a:avLst/>
            <a:gdLst/>
            <a:ahLst/>
            <a:rect l="l" t="t" r="r" b="b"/>
            <a:pathLst>
              <a:path w="1144" h="784">
                <a:moveTo>
                  <a:pt x="1104" y="0"/>
                </a:moveTo>
                <a:cubicBezTo>
                  <a:pt x="1124" y="280"/>
                  <a:pt x="1144" y="560"/>
                  <a:pt x="960" y="672"/>
                </a:cubicBezTo>
                <a:cubicBezTo>
                  <a:pt x="776" y="784"/>
                  <a:pt x="64" y="624"/>
                  <a:pt x="0" y="672"/>
                </a:cubicBez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 rot="3205200">
            <a:off x="1132200" y="4053600"/>
            <a:ext cx="13561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rot="3568800">
            <a:off x="-194760" y="3982320"/>
            <a:ext cx="1356840" cy="2895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V – Clarke and Wright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emplo – Passo f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152280" y="1143000"/>
          <a:ext cx="3456000" cy="1911240"/>
        </p:xfrm>
        <a:graphic>
          <a:graphicData uri="http://schemas.openxmlformats.org/drawingml/2006/table">
            <a:tbl>
              <a:tblPr/>
              <a:tblGrid>
                <a:gridCol w="466560"/>
                <a:gridCol w="392040"/>
                <a:gridCol w="399960"/>
                <a:gridCol w="398520"/>
                <a:gridCol w="400320"/>
                <a:gridCol w="398160"/>
                <a:gridCol w="400320"/>
                <a:gridCol w="600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751" name=""/>
          <p:cNvSpPr/>
          <p:nvPr/>
        </p:nvSpPr>
        <p:spPr>
          <a:xfrm>
            <a:off x="399960" y="443556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031840" y="5664240"/>
            <a:ext cx="432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3" name=""/>
          <p:cNvGraphicFramePr/>
          <p:nvPr/>
        </p:nvGraphicFramePr>
        <p:xfrm>
          <a:off x="5029200" y="1143000"/>
          <a:ext cx="3962520" cy="1373040"/>
        </p:xfrm>
        <a:graphic>
          <a:graphicData uri="http://schemas.openxmlformats.org/drawingml/2006/table">
            <a:tbl>
              <a:tblPr/>
              <a:tblGrid>
                <a:gridCol w="372960"/>
                <a:gridCol w="392040"/>
                <a:gridCol w="400320"/>
                <a:gridCol w="398520"/>
                <a:gridCol w="399960"/>
                <a:gridCol w="1236600"/>
                <a:gridCol w="76212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</a:t>
                      </a:r>
                      <a:r>
                        <a:rPr b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 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i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+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0</a:t>
                      </a:r>
                      <a:r>
                        <a:rPr b="1" i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d</a:t>
                      </a:r>
                      <a:r>
                        <a:rPr b="1" i="1" lang="pt-BR" sz="12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∑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754" name=""/>
          <p:cNvSpPr/>
          <p:nvPr/>
        </p:nvSpPr>
        <p:spPr>
          <a:xfrm>
            <a:off x="2908440" y="44355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H="1" rot="19435800">
            <a:off x="2025000" y="3263400"/>
            <a:ext cx="1356120" cy="289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654200" y="327024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H="1" rot="20720400">
            <a:off x="1398960" y="4776480"/>
            <a:ext cx="135684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3842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38428"/>
              </a:path>
            </a:pathLst>
          </a:cu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1049400" y="5661000"/>
            <a:ext cx="43164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625760" y="443700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487160" y="3873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055160" y="4267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1080000" y="521964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261520" y="42800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704680" y="5821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467160" y="4724280"/>
            <a:ext cx="2527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36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Número de Veículos =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2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6" name=""/>
          <p:cNvSpPr/>
          <p:nvPr/>
        </p:nvSpPr>
        <p:spPr>
          <a:xfrm>
            <a:off x="712440" y="5118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337840" y="3822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635160" y="2514600"/>
            <a:ext cx="24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</a:rPr>
              <a:t>Capacidade do Veículo: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FDF44-6F5B-4586-915F-61E149AD617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Heurísticas de refinam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aseadas na noção de vizinhanç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 cada solução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está associado um conjunto de vizinhos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’ definidos por um determinado tipo de movimento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’ =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 PCV, um movimento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pode ser a troca da ordem de visita entre duas c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F9C96-65E1-4FC8-9350-3D8AB25FBE9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Heurísticas de refinam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No PCV, um movimento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pode ser a troca da ordem de visita entre duas c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xempl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  = (6 1 3 2 5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’ = (6 1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2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’ = (6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3 2 </a:t>
            </a: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D3859-6D49-40FE-9464-3711DE1E12D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Formulação Matemática para o                                   Problema do Caixeiro Viajante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ados de entrad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junto de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cida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atriz de distâncias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entre el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Variáveis de decisã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= 1 se o arco (i,j) será usado; 0, caso contrár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= quantidade de fluxo de i para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9941D-D2C5-48B6-9FF1-BC2C32CC26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: Vizinhos de uma solução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4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0" name=""/>
          <p:cNvGraphicFramePr/>
          <p:nvPr/>
        </p:nvGraphicFramePr>
        <p:xfrm>
          <a:off x="15228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5333760" y="4800600"/>
            <a:ext cx="1981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pt-BR" sz="13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7243200" y="4800600"/>
            <a:ext cx="409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3" name=""/>
          <p:cNvCxnSpPr>
            <a:stCxn id="777" idx="3"/>
            <a:endCxn id="778" idx="7"/>
          </p:cNvCxnSpPr>
          <p:nvPr/>
        </p:nvCxnSpPr>
        <p:spPr>
          <a:xfrm flipH="1">
            <a:off x="2247480" y="3949200"/>
            <a:ext cx="1092960" cy="1397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4" name=""/>
          <p:cNvCxnSpPr>
            <a:stCxn id="778" idx="1"/>
            <a:endCxn id="779" idx="5"/>
          </p:cNvCxnSpPr>
          <p:nvPr/>
        </p:nvCxnSpPr>
        <p:spPr>
          <a:xfrm flipH="1" flipV="1">
            <a:off x="1205640" y="4788000"/>
            <a:ext cx="737640" cy="55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5" name=""/>
          <p:cNvSpPr/>
          <p:nvPr/>
        </p:nvSpPr>
        <p:spPr>
          <a:xfrm>
            <a:off x="2820600" y="4500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372680" y="500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7" name=""/>
          <p:cNvCxnSpPr>
            <a:stCxn id="779" idx="7"/>
            <a:endCxn id="774" idx="3"/>
          </p:cNvCxnSpPr>
          <p:nvPr/>
        </p:nvCxnSpPr>
        <p:spPr>
          <a:xfrm flipV="1">
            <a:off x="1206000" y="3949200"/>
            <a:ext cx="737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8" name=""/>
          <p:cNvSpPr/>
          <p:nvPr/>
        </p:nvSpPr>
        <p:spPr>
          <a:xfrm>
            <a:off x="1372680" y="4017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9" name=""/>
          <p:cNvCxnSpPr>
            <a:stCxn id="774" idx="5"/>
            <a:endCxn id="776" idx="2"/>
          </p:cNvCxnSpPr>
          <p:nvPr/>
        </p:nvCxnSpPr>
        <p:spPr>
          <a:xfrm>
            <a:off x="2247840" y="3949200"/>
            <a:ext cx="2045520" cy="6865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0" name=""/>
          <p:cNvCxnSpPr>
            <a:stCxn id="776" idx="1"/>
            <a:endCxn id="777" idx="5"/>
          </p:cNvCxnSpPr>
          <p:nvPr/>
        </p:nvCxnSpPr>
        <p:spPr>
          <a:xfrm flipH="1" flipV="1">
            <a:off x="3644280" y="3949200"/>
            <a:ext cx="71172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1" name=""/>
          <p:cNvSpPr/>
          <p:nvPr/>
        </p:nvSpPr>
        <p:spPr>
          <a:xfrm>
            <a:off x="3963600" y="4038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1680" y="39243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3" name=""/>
          <p:cNvCxnSpPr>
            <a:stCxn id="777" idx="4"/>
            <a:endCxn id="775" idx="0"/>
          </p:cNvCxnSpPr>
          <p:nvPr/>
        </p:nvCxnSpPr>
        <p:spPr>
          <a:xfrm>
            <a:off x="3492000" y="4013280"/>
            <a:ext cx="1080" cy="1270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5" idx="2"/>
            <a:endCxn id="778" idx="6"/>
          </p:cNvCxnSpPr>
          <p:nvPr/>
        </p:nvCxnSpPr>
        <p:spPr>
          <a:xfrm flipH="1">
            <a:off x="2310840" y="5498640"/>
            <a:ext cx="965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5" name=""/>
          <p:cNvSpPr/>
          <p:nvPr/>
        </p:nvSpPr>
        <p:spPr>
          <a:xfrm>
            <a:off x="3442680" y="4678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718720" y="5473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5257800" y="5257800"/>
            <a:ext cx="3124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5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= (6 1 3 2 5 4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89C3B-8CD8-47AF-9DD1-893E084D91E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: Vizinhos de uma solução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9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15228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333760" y="4800600"/>
            <a:ext cx="1981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spcBef>
                <a:spcPts val="32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pt-BR" sz="1300" spc="-1" strike="noStrike">
                <a:solidFill>
                  <a:srgbClr val="000000"/>
                </a:solidFill>
                <a:latin typeface="Tahoma"/>
              </a:rPr>
              <a:t>s’ </a:t>
            </a:r>
            <a:r>
              <a:rPr b="1" lang="pt-BR" sz="13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7" name=""/>
          <p:cNvSpPr/>
          <p:nvPr/>
        </p:nvSpPr>
        <p:spPr>
          <a:xfrm>
            <a:off x="7243200" y="4800600"/>
            <a:ext cx="409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8" name=""/>
          <p:cNvCxnSpPr>
            <a:stCxn id="803" idx="1"/>
            <a:endCxn id="804" idx="5"/>
          </p:cNvCxnSpPr>
          <p:nvPr/>
        </p:nvCxnSpPr>
        <p:spPr>
          <a:xfrm flipH="1" flipV="1">
            <a:off x="1205640" y="4788000"/>
            <a:ext cx="737640" cy="559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809" name=""/>
          <p:cNvSpPr/>
          <p:nvPr/>
        </p:nvSpPr>
        <p:spPr>
          <a:xfrm>
            <a:off x="1372680" y="5003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0" name=""/>
          <p:cNvCxnSpPr>
            <a:stCxn id="801" idx="1"/>
            <a:endCxn id="802" idx="5"/>
          </p:cNvCxnSpPr>
          <p:nvPr/>
        </p:nvCxnSpPr>
        <p:spPr>
          <a:xfrm flipH="1" flipV="1">
            <a:off x="3644280" y="3949200"/>
            <a:ext cx="71172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1" name=""/>
          <p:cNvSpPr/>
          <p:nvPr/>
        </p:nvSpPr>
        <p:spPr>
          <a:xfrm>
            <a:off x="3963600" y="4038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2" name=""/>
          <p:cNvCxnSpPr/>
          <p:nvPr/>
        </p:nvCxnSpPr>
        <p:spPr>
          <a:xfrm flipH="1">
            <a:off x="2310840" y="3809520"/>
            <a:ext cx="9658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3" name=""/>
          <p:cNvSpPr/>
          <p:nvPr/>
        </p:nvSpPr>
        <p:spPr>
          <a:xfrm>
            <a:off x="2718720" y="3581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257800" y="5257800"/>
            <a:ext cx="3124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500" spc="-1" strike="noStrike">
                <a:solidFill>
                  <a:srgbClr val="000000"/>
                </a:solidFill>
                <a:latin typeface="Arial"/>
              </a:rPr>
              <a:t>s’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= (6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3 2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4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flipV="1">
            <a:off x="2286000" y="4723920"/>
            <a:ext cx="205740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2235240" y="3975120"/>
            <a:ext cx="1066680" cy="1371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399760" y="4038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 flipH="1" flipV="1">
            <a:off x="1295280" y="4648320"/>
            <a:ext cx="198144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829880" y="4678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671280" y="4665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4F4B0-AC77-4AF1-9A52-E345D990A9A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CV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x: Vizinhos de uma solução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2" name=""/>
          <p:cNvSpPr/>
          <p:nvPr/>
        </p:nvSpPr>
        <p:spPr>
          <a:xfrm>
            <a:off x="1879560" y="3581280"/>
            <a:ext cx="43200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276720" y="5283360"/>
            <a:ext cx="43164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292640" y="4419720"/>
            <a:ext cx="43164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276720" y="3581280"/>
            <a:ext cx="431640" cy="43200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879560" y="528336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838080" y="4419720"/>
            <a:ext cx="432000" cy="431640"/>
          </a:xfrm>
          <a:prstGeom prst="ellipse">
            <a:avLst/>
          </a:prstGeom>
          <a:solidFill>
            <a:srgbClr val="63b3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8" name=""/>
          <p:cNvGraphicFramePr/>
          <p:nvPr/>
        </p:nvGraphicFramePr>
        <p:xfrm>
          <a:off x="152280" y="1143000"/>
          <a:ext cx="2855880" cy="1911240"/>
        </p:xfrm>
        <a:graphic>
          <a:graphicData uri="http://schemas.openxmlformats.org/drawingml/2006/table">
            <a:tbl>
              <a:tblPr/>
              <a:tblGrid>
                <a:gridCol w="466920"/>
                <a:gridCol w="392040"/>
                <a:gridCol w="399960"/>
                <a:gridCol w="398520"/>
                <a:gridCol w="399960"/>
                <a:gridCol w="398520"/>
                <a:gridCol w="399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5333760" y="4800600"/>
            <a:ext cx="1981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100" spc="-1" strike="noStrike">
                <a:solidFill>
                  <a:srgbClr val="000000"/>
                </a:solidFill>
                <a:latin typeface="Tahoma"/>
              </a:rPr>
              <a:t>Distância Total</a:t>
            </a:r>
            <a:r>
              <a:rPr b="0" lang="pt-BR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pt-BR" sz="11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pt-BR" sz="1100" spc="-1" strike="noStrike">
                <a:solidFill>
                  <a:srgbClr val="000000"/>
                </a:solidFill>
                <a:latin typeface="Tahoma"/>
              </a:rPr>
              <a:t>’= 26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830" name=""/>
          <p:cNvCxnSpPr>
            <a:stCxn id="825" idx="3"/>
            <a:endCxn id="826" idx="7"/>
          </p:cNvCxnSpPr>
          <p:nvPr/>
        </p:nvCxnSpPr>
        <p:spPr>
          <a:xfrm flipH="1">
            <a:off x="2247480" y="3949200"/>
            <a:ext cx="1092960" cy="13978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831" name=""/>
          <p:cNvSpPr/>
          <p:nvPr/>
        </p:nvSpPr>
        <p:spPr>
          <a:xfrm>
            <a:off x="2820600" y="4500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2" name=""/>
          <p:cNvCxnSpPr>
            <a:stCxn id="827" idx="7"/>
            <a:endCxn id="822" idx="3"/>
          </p:cNvCxnSpPr>
          <p:nvPr/>
        </p:nvCxnSpPr>
        <p:spPr>
          <a:xfrm flipV="1">
            <a:off x="1206000" y="3949200"/>
            <a:ext cx="73764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3" name=""/>
          <p:cNvSpPr/>
          <p:nvPr/>
        </p:nvSpPr>
        <p:spPr>
          <a:xfrm>
            <a:off x="1372680" y="40179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4" name=""/>
          <p:cNvCxnSpPr>
            <a:stCxn id="824" idx="1"/>
            <a:endCxn id="825" idx="5"/>
          </p:cNvCxnSpPr>
          <p:nvPr/>
        </p:nvCxnSpPr>
        <p:spPr>
          <a:xfrm flipH="1" flipV="1">
            <a:off x="3644280" y="3949200"/>
            <a:ext cx="711720" cy="5342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835" name=""/>
          <p:cNvSpPr/>
          <p:nvPr/>
        </p:nvSpPr>
        <p:spPr>
          <a:xfrm>
            <a:off x="3963600" y="40384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257800" y="5257800"/>
            <a:ext cx="3124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500" spc="-1" strike="noStrike">
                <a:solidFill>
                  <a:srgbClr val="000000"/>
                </a:solidFill>
                <a:latin typeface="Arial"/>
              </a:rPr>
              <a:t>s’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= (6 1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2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4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7" name=""/>
          <p:cNvCxnSpPr/>
          <p:nvPr/>
        </p:nvCxnSpPr>
        <p:spPr>
          <a:xfrm>
            <a:off x="2082600" y="4025880"/>
            <a:ext cx="1080" cy="12708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8" name=""/>
          <p:cNvSpPr/>
          <p:nvPr/>
        </p:nvSpPr>
        <p:spPr>
          <a:xfrm flipH="1">
            <a:off x="3669840" y="4775040"/>
            <a:ext cx="68580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1295280" y="4648320"/>
            <a:ext cx="1981440" cy="761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856960" y="5029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771360" y="4906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058480" y="44197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8AECD-C79E-4C03-A02C-7010B98304A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eurísticas de refinamento clássic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nalisam todos os possíveis vizinhos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’ da solução corrente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 o melhor vizinho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’ for melhor que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(em problemas de minimização: f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’) &lt; f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) então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’ passa a ser a nova solução corr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aso contrário, o método pá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étodo da Descida/Subida (Descent/UpHill Metho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03E7E-E548-45BD-BBAF-BABA72CA547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uncionamento da 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Heurística de Desci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6" name=""/>
          <p:cNvGrpSpPr/>
          <p:nvPr/>
        </p:nvGrpSpPr>
        <p:grpSpPr>
          <a:xfrm>
            <a:off x="2197080" y="2895120"/>
            <a:ext cx="5118120" cy="3033720"/>
            <a:chOff x="2197080" y="2895120"/>
            <a:chExt cx="5118120" cy="3033720"/>
          </a:xfrm>
        </p:grpSpPr>
        <p:sp>
          <p:nvSpPr>
            <p:cNvPr id="847" name=""/>
            <p:cNvSpPr/>
            <p:nvPr/>
          </p:nvSpPr>
          <p:spPr>
            <a:xfrm flipV="1">
              <a:off x="2609640" y="2895120"/>
              <a:ext cx="0" cy="30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940120" y="3457080"/>
              <a:ext cx="3830760" cy="1863720"/>
            </a:xfrm>
            <a:custGeom>
              <a:avLst/>
              <a:gdLst/>
              <a:ahLst/>
              <a:rect l="l" t="t" r="r" b="b"/>
              <a:pathLst>
                <a:path w="6033" h="2936">
                  <a:moveTo>
                    <a:pt x="0" y="0"/>
                  </a:moveTo>
                  <a:cubicBezTo>
                    <a:pt x="0" y="0"/>
                    <a:pt x="233" y="816"/>
                    <a:pt x="233" y="816"/>
                  </a:cubicBezTo>
                  <a:cubicBezTo>
                    <a:pt x="233" y="816"/>
                    <a:pt x="553" y="1656"/>
                    <a:pt x="553" y="1656"/>
                  </a:cubicBezTo>
                  <a:cubicBezTo>
                    <a:pt x="553" y="1656"/>
                    <a:pt x="976" y="2156"/>
                    <a:pt x="1193" y="2176"/>
                  </a:cubicBezTo>
                  <a:cubicBezTo>
                    <a:pt x="1410" y="2196"/>
                    <a:pt x="1680" y="1986"/>
                    <a:pt x="1853" y="1776"/>
                  </a:cubicBezTo>
                  <a:cubicBezTo>
                    <a:pt x="2026" y="1566"/>
                    <a:pt x="2070" y="1126"/>
                    <a:pt x="2233" y="916"/>
                  </a:cubicBezTo>
                  <a:cubicBezTo>
                    <a:pt x="2396" y="706"/>
                    <a:pt x="2606" y="526"/>
                    <a:pt x="2833" y="516"/>
                  </a:cubicBezTo>
                  <a:cubicBezTo>
                    <a:pt x="3060" y="506"/>
                    <a:pt x="3406" y="676"/>
                    <a:pt x="3593" y="856"/>
                  </a:cubicBezTo>
                  <a:cubicBezTo>
                    <a:pt x="3780" y="1036"/>
                    <a:pt x="3830" y="1353"/>
                    <a:pt x="3953" y="1596"/>
                  </a:cubicBezTo>
                  <a:cubicBezTo>
                    <a:pt x="4076" y="1839"/>
                    <a:pt x="4160" y="2093"/>
                    <a:pt x="4333" y="2316"/>
                  </a:cubicBezTo>
                  <a:cubicBezTo>
                    <a:pt x="4506" y="2539"/>
                    <a:pt x="4790" y="2896"/>
                    <a:pt x="4993" y="2936"/>
                  </a:cubicBezTo>
                  <a:cubicBezTo>
                    <a:pt x="5173" y="2914"/>
                    <a:pt x="5393" y="2656"/>
                    <a:pt x="5613" y="2276"/>
                  </a:cubicBezTo>
                  <a:cubicBezTo>
                    <a:pt x="5786" y="1983"/>
                    <a:pt x="5946" y="1405"/>
                    <a:pt x="6033" y="117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197080" y="5592240"/>
              <a:ext cx="51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3E154-C962-4FE0-839A-5B44B3EE4EE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uncionamento da 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Heurística de Desci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2197080" y="2908080"/>
            <a:ext cx="5118120" cy="3035160"/>
            <a:chOff x="2197080" y="2908080"/>
            <a:chExt cx="5118120" cy="3035160"/>
          </a:xfrm>
        </p:grpSpPr>
        <p:sp>
          <p:nvSpPr>
            <p:cNvPr id="852" name=""/>
            <p:cNvSpPr/>
            <p:nvPr/>
          </p:nvSpPr>
          <p:spPr>
            <a:xfrm flipV="1">
              <a:off x="2609640" y="2908080"/>
              <a:ext cx="0" cy="30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940120" y="3470400"/>
              <a:ext cx="3830760" cy="1864800"/>
            </a:xfrm>
            <a:custGeom>
              <a:avLst/>
              <a:gdLst/>
              <a:ahLst/>
              <a:rect l="l" t="t" r="r" b="b"/>
              <a:pathLst>
                <a:path w="6033" h="2936">
                  <a:moveTo>
                    <a:pt x="0" y="0"/>
                  </a:moveTo>
                  <a:cubicBezTo>
                    <a:pt x="0" y="0"/>
                    <a:pt x="233" y="816"/>
                    <a:pt x="233" y="816"/>
                  </a:cubicBezTo>
                  <a:cubicBezTo>
                    <a:pt x="233" y="816"/>
                    <a:pt x="553" y="1656"/>
                    <a:pt x="553" y="1656"/>
                  </a:cubicBezTo>
                  <a:cubicBezTo>
                    <a:pt x="553" y="1656"/>
                    <a:pt x="976" y="2156"/>
                    <a:pt x="1193" y="2176"/>
                  </a:cubicBezTo>
                  <a:cubicBezTo>
                    <a:pt x="1410" y="2196"/>
                    <a:pt x="1680" y="1986"/>
                    <a:pt x="1853" y="1776"/>
                  </a:cubicBezTo>
                  <a:cubicBezTo>
                    <a:pt x="2026" y="1566"/>
                    <a:pt x="2070" y="1126"/>
                    <a:pt x="2233" y="916"/>
                  </a:cubicBezTo>
                  <a:cubicBezTo>
                    <a:pt x="2396" y="706"/>
                    <a:pt x="2606" y="526"/>
                    <a:pt x="2833" y="516"/>
                  </a:cubicBezTo>
                  <a:cubicBezTo>
                    <a:pt x="3060" y="506"/>
                    <a:pt x="3406" y="676"/>
                    <a:pt x="3593" y="856"/>
                  </a:cubicBezTo>
                  <a:cubicBezTo>
                    <a:pt x="3780" y="1036"/>
                    <a:pt x="3830" y="1353"/>
                    <a:pt x="3953" y="1596"/>
                  </a:cubicBezTo>
                  <a:cubicBezTo>
                    <a:pt x="4076" y="1839"/>
                    <a:pt x="4160" y="2093"/>
                    <a:pt x="4333" y="2316"/>
                  </a:cubicBezTo>
                  <a:cubicBezTo>
                    <a:pt x="4506" y="2539"/>
                    <a:pt x="4790" y="2896"/>
                    <a:pt x="4993" y="2936"/>
                  </a:cubicBezTo>
                  <a:cubicBezTo>
                    <a:pt x="5173" y="2914"/>
                    <a:pt x="5393" y="2656"/>
                    <a:pt x="5613" y="2276"/>
                  </a:cubicBezTo>
                  <a:cubicBezTo>
                    <a:pt x="5786" y="1983"/>
                    <a:pt x="5946" y="1405"/>
                    <a:pt x="6033" y="117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97080" y="5606280"/>
              <a:ext cx="51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105000" y="4097880"/>
              <a:ext cx="147240" cy="147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22351-F167-4098-9D8B-C9A1D2A3B9C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uncionamento da 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Heurística de Desci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2197080" y="2908080"/>
            <a:ext cx="5118120" cy="3035160"/>
            <a:chOff x="2197080" y="2908080"/>
            <a:chExt cx="5118120" cy="3035160"/>
          </a:xfrm>
        </p:grpSpPr>
        <p:sp>
          <p:nvSpPr>
            <p:cNvPr id="858" name=""/>
            <p:cNvSpPr/>
            <p:nvPr/>
          </p:nvSpPr>
          <p:spPr>
            <a:xfrm>
              <a:off x="2857320" y="3825360"/>
              <a:ext cx="660240" cy="674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2609640" y="2908080"/>
              <a:ext cx="0" cy="30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40120" y="3470400"/>
              <a:ext cx="3830760" cy="1864800"/>
            </a:xfrm>
            <a:custGeom>
              <a:avLst/>
              <a:gdLst/>
              <a:ahLst/>
              <a:rect l="l" t="t" r="r" b="b"/>
              <a:pathLst>
                <a:path w="6033" h="2936">
                  <a:moveTo>
                    <a:pt x="0" y="0"/>
                  </a:moveTo>
                  <a:cubicBezTo>
                    <a:pt x="0" y="0"/>
                    <a:pt x="233" y="816"/>
                    <a:pt x="233" y="816"/>
                  </a:cubicBezTo>
                  <a:cubicBezTo>
                    <a:pt x="233" y="816"/>
                    <a:pt x="553" y="1656"/>
                    <a:pt x="553" y="1656"/>
                  </a:cubicBezTo>
                  <a:cubicBezTo>
                    <a:pt x="553" y="1656"/>
                    <a:pt x="976" y="2156"/>
                    <a:pt x="1193" y="2176"/>
                  </a:cubicBezTo>
                  <a:cubicBezTo>
                    <a:pt x="1410" y="2196"/>
                    <a:pt x="1680" y="1986"/>
                    <a:pt x="1853" y="1776"/>
                  </a:cubicBezTo>
                  <a:cubicBezTo>
                    <a:pt x="2026" y="1566"/>
                    <a:pt x="2070" y="1126"/>
                    <a:pt x="2233" y="916"/>
                  </a:cubicBezTo>
                  <a:cubicBezTo>
                    <a:pt x="2396" y="706"/>
                    <a:pt x="2606" y="526"/>
                    <a:pt x="2833" y="516"/>
                  </a:cubicBezTo>
                  <a:cubicBezTo>
                    <a:pt x="3060" y="506"/>
                    <a:pt x="3406" y="676"/>
                    <a:pt x="3593" y="856"/>
                  </a:cubicBezTo>
                  <a:cubicBezTo>
                    <a:pt x="3780" y="1036"/>
                    <a:pt x="3830" y="1353"/>
                    <a:pt x="3953" y="1596"/>
                  </a:cubicBezTo>
                  <a:cubicBezTo>
                    <a:pt x="4076" y="1839"/>
                    <a:pt x="4160" y="2093"/>
                    <a:pt x="4333" y="2316"/>
                  </a:cubicBezTo>
                  <a:cubicBezTo>
                    <a:pt x="4506" y="2539"/>
                    <a:pt x="4790" y="2896"/>
                    <a:pt x="4993" y="2936"/>
                  </a:cubicBezTo>
                  <a:cubicBezTo>
                    <a:pt x="5173" y="2914"/>
                    <a:pt x="5393" y="2656"/>
                    <a:pt x="5613" y="2276"/>
                  </a:cubicBezTo>
                  <a:cubicBezTo>
                    <a:pt x="5786" y="1983"/>
                    <a:pt x="5946" y="1405"/>
                    <a:pt x="6033" y="117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197080" y="5606280"/>
              <a:ext cx="51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105000" y="4097880"/>
              <a:ext cx="147240" cy="147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205440" y="4387320"/>
              <a:ext cx="147240" cy="147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2E351-F3A2-426D-B190-64FD3CE101E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uncionamento da 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Heurística de Desci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2197080" y="2908080"/>
            <a:ext cx="5118120" cy="3035160"/>
            <a:chOff x="2197080" y="2908080"/>
            <a:chExt cx="5118120" cy="3035160"/>
          </a:xfrm>
        </p:grpSpPr>
        <p:sp>
          <p:nvSpPr>
            <p:cNvPr id="866" name=""/>
            <p:cNvSpPr/>
            <p:nvPr/>
          </p:nvSpPr>
          <p:spPr>
            <a:xfrm>
              <a:off x="3435120" y="4461840"/>
              <a:ext cx="660240" cy="674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2609640" y="2908080"/>
              <a:ext cx="0" cy="30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940120" y="3470400"/>
              <a:ext cx="3830760" cy="1864440"/>
            </a:xfrm>
            <a:custGeom>
              <a:avLst/>
              <a:gdLst/>
              <a:ahLst/>
              <a:rect l="l" t="t" r="r" b="b"/>
              <a:pathLst>
                <a:path w="6033" h="2936">
                  <a:moveTo>
                    <a:pt x="0" y="0"/>
                  </a:moveTo>
                  <a:cubicBezTo>
                    <a:pt x="0" y="0"/>
                    <a:pt x="233" y="816"/>
                    <a:pt x="233" y="816"/>
                  </a:cubicBezTo>
                  <a:cubicBezTo>
                    <a:pt x="233" y="816"/>
                    <a:pt x="553" y="1656"/>
                    <a:pt x="553" y="1656"/>
                  </a:cubicBezTo>
                  <a:cubicBezTo>
                    <a:pt x="553" y="1656"/>
                    <a:pt x="976" y="2156"/>
                    <a:pt x="1193" y="2176"/>
                  </a:cubicBezTo>
                  <a:cubicBezTo>
                    <a:pt x="1410" y="2196"/>
                    <a:pt x="1680" y="1986"/>
                    <a:pt x="1853" y="1776"/>
                  </a:cubicBezTo>
                  <a:cubicBezTo>
                    <a:pt x="2026" y="1566"/>
                    <a:pt x="2070" y="1126"/>
                    <a:pt x="2233" y="916"/>
                  </a:cubicBezTo>
                  <a:cubicBezTo>
                    <a:pt x="2396" y="706"/>
                    <a:pt x="2606" y="526"/>
                    <a:pt x="2833" y="516"/>
                  </a:cubicBezTo>
                  <a:cubicBezTo>
                    <a:pt x="3060" y="506"/>
                    <a:pt x="3406" y="676"/>
                    <a:pt x="3593" y="856"/>
                  </a:cubicBezTo>
                  <a:cubicBezTo>
                    <a:pt x="3780" y="1036"/>
                    <a:pt x="3830" y="1353"/>
                    <a:pt x="3953" y="1596"/>
                  </a:cubicBezTo>
                  <a:cubicBezTo>
                    <a:pt x="4076" y="1839"/>
                    <a:pt x="4160" y="2093"/>
                    <a:pt x="4333" y="2316"/>
                  </a:cubicBezTo>
                  <a:cubicBezTo>
                    <a:pt x="4506" y="2539"/>
                    <a:pt x="4790" y="2896"/>
                    <a:pt x="4993" y="2936"/>
                  </a:cubicBezTo>
                  <a:cubicBezTo>
                    <a:pt x="5173" y="2914"/>
                    <a:pt x="5393" y="2656"/>
                    <a:pt x="5613" y="2276"/>
                  </a:cubicBezTo>
                  <a:cubicBezTo>
                    <a:pt x="5786" y="1983"/>
                    <a:pt x="5946" y="1405"/>
                    <a:pt x="6033" y="117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197080" y="5606280"/>
              <a:ext cx="51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700440" y="4764240"/>
              <a:ext cx="147240" cy="147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1" name=""/>
          <p:cNvSpPr/>
          <p:nvPr/>
        </p:nvSpPr>
        <p:spPr>
          <a:xfrm>
            <a:off x="1295280" y="601992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066680" y="60958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roblema: Fica-se </a:t>
            </a:r>
            <a:r>
              <a:rPr b="1" lang="pt-BR" sz="2400" spc="-1" strike="noStrike">
                <a:solidFill>
                  <a:srgbClr val="cc0000"/>
                </a:solidFill>
                <a:latin typeface="Times New Roman"/>
              </a:rPr>
              <a:t>preso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no primeiro ótimo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FA4B8-0C70-4C9B-9953-8727F92971F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Metaheuríst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Heurísticas genéricas dotadas de mecanismos que possibilitam escapar de ótimos loc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incípio básic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ceitar soluções de pi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xemplos de metaheurístic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Busca Tab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lgoritmos Genét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9F84C-7006-45FF-B506-A92CECB993EA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usca Tab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197080" y="2908080"/>
            <a:ext cx="5118120" cy="3035160"/>
            <a:chOff x="2197080" y="2908080"/>
            <a:chExt cx="5118120" cy="3035160"/>
          </a:xfrm>
        </p:grpSpPr>
        <p:sp>
          <p:nvSpPr>
            <p:cNvPr id="877" name=""/>
            <p:cNvSpPr/>
            <p:nvPr/>
          </p:nvSpPr>
          <p:spPr>
            <a:xfrm>
              <a:off x="2857320" y="3825360"/>
              <a:ext cx="660240" cy="674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2609640" y="2908080"/>
              <a:ext cx="0" cy="30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2940120" y="3470400"/>
              <a:ext cx="3830760" cy="1864800"/>
            </a:xfrm>
            <a:custGeom>
              <a:avLst/>
              <a:gdLst/>
              <a:ahLst/>
              <a:rect l="l" t="t" r="r" b="b"/>
              <a:pathLst>
                <a:path w="6033" h="2936">
                  <a:moveTo>
                    <a:pt x="0" y="0"/>
                  </a:moveTo>
                  <a:cubicBezTo>
                    <a:pt x="0" y="0"/>
                    <a:pt x="233" y="816"/>
                    <a:pt x="233" y="816"/>
                  </a:cubicBezTo>
                  <a:cubicBezTo>
                    <a:pt x="233" y="816"/>
                    <a:pt x="553" y="1656"/>
                    <a:pt x="553" y="1656"/>
                  </a:cubicBezTo>
                  <a:cubicBezTo>
                    <a:pt x="553" y="1656"/>
                    <a:pt x="976" y="2156"/>
                    <a:pt x="1193" y="2176"/>
                  </a:cubicBezTo>
                  <a:cubicBezTo>
                    <a:pt x="1410" y="2196"/>
                    <a:pt x="1680" y="1986"/>
                    <a:pt x="1853" y="1776"/>
                  </a:cubicBezTo>
                  <a:cubicBezTo>
                    <a:pt x="2026" y="1566"/>
                    <a:pt x="2070" y="1126"/>
                    <a:pt x="2233" y="916"/>
                  </a:cubicBezTo>
                  <a:cubicBezTo>
                    <a:pt x="2396" y="706"/>
                    <a:pt x="2606" y="526"/>
                    <a:pt x="2833" y="516"/>
                  </a:cubicBezTo>
                  <a:cubicBezTo>
                    <a:pt x="3060" y="506"/>
                    <a:pt x="3406" y="676"/>
                    <a:pt x="3593" y="856"/>
                  </a:cubicBezTo>
                  <a:cubicBezTo>
                    <a:pt x="3780" y="1036"/>
                    <a:pt x="3830" y="1353"/>
                    <a:pt x="3953" y="1596"/>
                  </a:cubicBezTo>
                  <a:cubicBezTo>
                    <a:pt x="4076" y="1839"/>
                    <a:pt x="4160" y="2093"/>
                    <a:pt x="4333" y="2316"/>
                  </a:cubicBezTo>
                  <a:cubicBezTo>
                    <a:pt x="4506" y="2539"/>
                    <a:pt x="4790" y="2896"/>
                    <a:pt x="4993" y="2936"/>
                  </a:cubicBezTo>
                  <a:cubicBezTo>
                    <a:pt x="5173" y="2914"/>
                    <a:pt x="5393" y="2656"/>
                    <a:pt x="5613" y="2276"/>
                  </a:cubicBezTo>
                  <a:cubicBezTo>
                    <a:pt x="5786" y="1983"/>
                    <a:pt x="5946" y="1405"/>
                    <a:pt x="6033" y="117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197080" y="5606280"/>
              <a:ext cx="51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105000" y="4097880"/>
              <a:ext cx="147240" cy="147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205440" y="4387320"/>
              <a:ext cx="147240" cy="147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"/>
          <p:cNvSpPr/>
          <p:nvPr/>
        </p:nvSpPr>
        <p:spPr>
          <a:xfrm>
            <a:off x="1295280" y="1447920"/>
            <a:ext cx="67820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imes New Roman"/>
              </a:rPr>
              <a:t>Princípio básico: Mover para o melhor vizinho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3E9E4-F0D9-47DC-9282-97A2E7750768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6218280"/>
            <a:ext cx="2057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47920" y="351000"/>
            <a:ext cx="73911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Formulação Matemática para o                                   Problema do Caixeiro Viajante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73160" y="15238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inimizar z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438280" y="2209680"/>
                <a:ext cx="32004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411280" y="4952880"/>
                <a:ext cx="473724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sub/>
                    </m:sSub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471760" y="5762520"/>
                <a:ext cx="156672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,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59520" y="21337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ujeito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590920" y="1219320"/>
                <a:ext cx="16272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514600" y="3121200"/>
                <a:ext cx="3200400" cy="97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2514600" y="3959280"/>
                <a:ext cx="371484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−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i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392720" y="5783400"/>
                <a:ext cx="107604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15000" y="2362320"/>
            <a:ext cx="228600" cy="76176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91320" y="3276720"/>
            <a:ext cx="228600" cy="76176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403848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86600" y="4952880"/>
            <a:ext cx="228600" cy="762120"/>
          </a:xfrm>
          <a:custGeom>
            <a:avLst/>
            <a:gdLst>
              <a:gd name="textAreaLeft" fmla="*/ 0 w 228600"/>
              <a:gd name="textAreaRight" fmla="*/ 8244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2575080"/>
            <a:ext cx="3048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De cada cidade 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 só sai um arco (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18040" y="3489480"/>
            <a:ext cx="3200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A cada cidade 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 só chega um arco (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48520" y="3962520"/>
            <a:ext cx="2895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A cada cidade 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, exceto a origem, a quantidade de fluxo que chega à cidade 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 menos a quantidade de fluxo que sai da cidade 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 é igual a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162920" y="5029200"/>
            <a:ext cx="18288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O máximo de fluxo no arco (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) é </a:t>
            </a:r>
            <a:r>
              <a:rPr b="0" i="1" lang="pt-BR" sz="15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pt-BR" sz="15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F5624-7F50-46A9-8A34-E7C78EA4CA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usca Tab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5" name=""/>
          <p:cNvGrpSpPr/>
          <p:nvPr/>
        </p:nvGrpSpPr>
        <p:grpSpPr>
          <a:xfrm>
            <a:off x="2197080" y="2908080"/>
            <a:ext cx="5118120" cy="3035160"/>
            <a:chOff x="2197080" y="2908080"/>
            <a:chExt cx="5118120" cy="3035160"/>
          </a:xfrm>
        </p:grpSpPr>
        <p:sp>
          <p:nvSpPr>
            <p:cNvPr id="886" name=""/>
            <p:cNvSpPr/>
            <p:nvPr/>
          </p:nvSpPr>
          <p:spPr>
            <a:xfrm>
              <a:off x="3435120" y="4461840"/>
              <a:ext cx="660240" cy="674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 flipV="1">
              <a:off x="2609640" y="2908080"/>
              <a:ext cx="0" cy="30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940120" y="3470400"/>
              <a:ext cx="3830760" cy="1864800"/>
            </a:xfrm>
            <a:custGeom>
              <a:avLst/>
              <a:gdLst/>
              <a:ahLst/>
              <a:rect l="l" t="t" r="r" b="b"/>
              <a:pathLst>
                <a:path w="6033" h="2936">
                  <a:moveTo>
                    <a:pt x="0" y="0"/>
                  </a:moveTo>
                  <a:cubicBezTo>
                    <a:pt x="0" y="0"/>
                    <a:pt x="233" y="816"/>
                    <a:pt x="233" y="816"/>
                  </a:cubicBezTo>
                  <a:cubicBezTo>
                    <a:pt x="233" y="816"/>
                    <a:pt x="553" y="1656"/>
                    <a:pt x="553" y="1656"/>
                  </a:cubicBezTo>
                  <a:cubicBezTo>
                    <a:pt x="553" y="1656"/>
                    <a:pt x="976" y="2156"/>
                    <a:pt x="1193" y="2176"/>
                  </a:cubicBezTo>
                  <a:cubicBezTo>
                    <a:pt x="1410" y="2196"/>
                    <a:pt x="1680" y="1986"/>
                    <a:pt x="1853" y="1776"/>
                  </a:cubicBezTo>
                  <a:cubicBezTo>
                    <a:pt x="2026" y="1566"/>
                    <a:pt x="2070" y="1126"/>
                    <a:pt x="2233" y="916"/>
                  </a:cubicBezTo>
                  <a:cubicBezTo>
                    <a:pt x="2396" y="706"/>
                    <a:pt x="2606" y="526"/>
                    <a:pt x="2833" y="516"/>
                  </a:cubicBezTo>
                  <a:cubicBezTo>
                    <a:pt x="3060" y="506"/>
                    <a:pt x="3406" y="676"/>
                    <a:pt x="3593" y="856"/>
                  </a:cubicBezTo>
                  <a:cubicBezTo>
                    <a:pt x="3780" y="1036"/>
                    <a:pt x="3830" y="1353"/>
                    <a:pt x="3953" y="1596"/>
                  </a:cubicBezTo>
                  <a:cubicBezTo>
                    <a:pt x="4076" y="1839"/>
                    <a:pt x="4160" y="2093"/>
                    <a:pt x="4333" y="2316"/>
                  </a:cubicBezTo>
                  <a:cubicBezTo>
                    <a:pt x="4506" y="2539"/>
                    <a:pt x="4790" y="2896"/>
                    <a:pt x="4993" y="2936"/>
                  </a:cubicBezTo>
                  <a:cubicBezTo>
                    <a:pt x="5173" y="2914"/>
                    <a:pt x="5393" y="2656"/>
                    <a:pt x="5613" y="2276"/>
                  </a:cubicBezTo>
                  <a:cubicBezTo>
                    <a:pt x="5786" y="1983"/>
                    <a:pt x="5946" y="1405"/>
                    <a:pt x="6033" y="117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197080" y="5606280"/>
              <a:ext cx="51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700440" y="4764240"/>
              <a:ext cx="147240" cy="147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012920" y="4568400"/>
              <a:ext cx="147240" cy="147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1295280" y="1447920"/>
            <a:ext cx="6782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imes New Roman"/>
              </a:rPr>
              <a:t>O melhor vizinho pode ser de piora!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79F79-C5F8-45F0-912B-6518B418796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usca Tab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2197080" y="2908080"/>
            <a:ext cx="5118120" cy="3035160"/>
            <a:chOff x="2197080" y="2908080"/>
            <a:chExt cx="5118120" cy="3035160"/>
          </a:xfrm>
        </p:grpSpPr>
        <p:sp>
          <p:nvSpPr>
            <p:cNvPr id="895" name=""/>
            <p:cNvSpPr/>
            <p:nvPr/>
          </p:nvSpPr>
          <p:spPr>
            <a:xfrm>
              <a:off x="3765240" y="4358520"/>
              <a:ext cx="660240" cy="674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2609640" y="2908080"/>
              <a:ext cx="0" cy="30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940120" y="3470400"/>
              <a:ext cx="3830760" cy="1864800"/>
            </a:xfrm>
            <a:custGeom>
              <a:avLst/>
              <a:gdLst/>
              <a:ahLst/>
              <a:rect l="l" t="t" r="r" b="b"/>
              <a:pathLst>
                <a:path w="6033" h="2936">
                  <a:moveTo>
                    <a:pt x="0" y="0"/>
                  </a:moveTo>
                  <a:cubicBezTo>
                    <a:pt x="0" y="0"/>
                    <a:pt x="233" y="816"/>
                    <a:pt x="233" y="816"/>
                  </a:cubicBezTo>
                  <a:cubicBezTo>
                    <a:pt x="233" y="816"/>
                    <a:pt x="553" y="1656"/>
                    <a:pt x="553" y="1656"/>
                  </a:cubicBezTo>
                  <a:cubicBezTo>
                    <a:pt x="553" y="1656"/>
                    <a:pt x="976" y="2156"/>
                    <a:pt x="1193" y="2176"/>
                  </a:cubicBezTo>
                  <a:cubicBezTo>
                    <a:pt x="1410" y="2196"/>
                    <a:pt x="1680" y="1986"/>
                    <a:pt x="1853" y="1776"/>
                  </a:cubicBezTo>
                  <a:cubicBezTo>
                    <a:pt x="2026" y="1566"/>
                    <a:pt x="2070" y="1126"/>
                    <a:pt x="2233" y="916"/>
                  </a:cubicBezTo>
                  <a:cubicBezTo>
                    <a:pt x="2396" y="706"/>
                    <a:pt x="2606" y="526"/>
                    <a:pt x="2833" y="516"/>
                  </a:cubicBezTo>
                  <a:cubicBezTo>
                    <a:pt x="3060" y="506"/>
                    <a:pt x="3406" y="676"/>
                    <a:pt x="3593" y="856"/>
                  </a:cubicBezTo>
                  <a:cubicBezTo>
                    <a:pt x="3780" y="1036"/>
                    <a:pt x="3830" y="1353"/>
                    <a:pt x="3953" y="1596"/>
                  </a:cubicBezTo>
                  <a:cubicBezTo>
                    <a:pt x="4076" y="1839"/>
                    <a:pt x="4160" y="2093"/>
                    <a:pt x="4333" y="2316"/>
                  </a:cubicBezTo>
                  <a:cubicBezTo>
                    <a:pt x="4506" y="2539"/>
                    <a:pt x="4790" y="2896"/>
                    <a:pt x="4993" y="2936"/>
                  </a:cubicBezTo>
                  <a:cubicBezTo>
                    <a:pt x="5173" y="2914"/>
                    <a:pt x="5393" y="2656"/>
                    <a:pt x="5613" y="2276"/>
                  </a:cubicBezTo>
                  <a:cubicBezTo>
                    <a:pt x="5786" y="1983"/>
                    <a:pt x="5946" y="1405"/>
                    <a:pt x="6033" y="117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197080" y="5606280"/>
              <a:ext cx="51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700440" y="4764240"/>
              <a:ext cx="147240" cy="147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012920" y="4568400"/>
              <a:ext cx="147240" cy="147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1" name=""/>
          <p:cNvSpPr/>
          <p:nvPr/>
        </p:nvSpPr>
        <p:spPr>
          <a:xfrm>
            <a:off x="1295280" y="1447920"/>
            <a:ext cx="67820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imes New Roman"/>
              </a:rPr>
              <a:t>Problema: ciclagem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2808C-0BEE-402A-918F-2D7E4658155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usca Tab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2197080" y="2908080"/>
            <a:ext cx="5118120" cy="3035160"/>
            <a:chOff x="2197080" y="2908080"/>
            <a:chExt cx="5118120" cy="3035160"/>
          </a:xfrm>
        </p:grpSpPr>
        <p:sp>
          <p:nvSpPr>
            <p:cNvPr id="904" name=""/>
            <p:cNvSpPr/>
            <p:nvPr/>
          </p:nvSpPr>
          <p:spPr>
            <a:xfrm>
              <a:off x="3765240" y="4358160"/>
              <a:ext cx="660240" cy="67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V="1">
              <a:off x="2609640" y="2908080"/>
              <a:ext cx="0" cy="30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940120" y="3470400"/>
              <a:ext cx="3830760" cy="1864800"/>
            </a:xfrm>
            <a:custGeom>
              <a:avLst/>
              <a:gdLst/>
              <a:ahLst/>
              <a:rect l="l" t="t" r="r" b="b"/>
              <a:pathLst>
                <a:path w="6033" h="2936">
                  <a:moveTo>
                    <a:pt x="0" y="0"/>
                  </a:moveTo>
                  <a:cubicBezTo>
                    <a:pt x="0" y="0"/>
                    <a:pt x="233" y="816"/>
                    <a:pt x="233" y="816"/>
                  </a:cubicBezTo>
                  <a:cubicBezTo>
                    <a:pt x="233" y="816"/>
                    <a:pt x="553" y="1656"/>
                    <a:pt x="553" y="1656"/>
                  </a:cubicBezTo>
                  <a:cubicBezTo>
                    <a:pt x="553" y="1656"/>
                    <a:pt x="976" y="2156"/>
                    <a:pt x="1193" y="2176"/>
                  </a:cubicBezTo>
                  <a:cubicBezTo>
                    <a:pt x="1410" y="2196"/>
                    <a:pt x="1680" y="1986"/>
                    <a:pt x="1853" y="1776"/>
                  </a:cubicBezTo>
                  <a:cubicBezTo>
                    <a:pt x="2026" y="1566"/>
                    <a:pt x="2070" y="1126"/>
                    <a:pt x="2233" y="916"/>
                  </a:cubicBezTo>
                  <a:cubicBezTo>
                    <a:pt x="2396" y="706"/>
                    <a:pt x="2606" y="526"/>
                    <a:pt x="2833" y="516"/>
                  </a:cubicBezTo>
                  <a:cubicBezTo>
                    <a:pt x="3060" y="506"/>
                    <a:pt x="3406" y="676"/>
                    <a:pt x="3593" y="856"/>
                  </a:cubicBezTo>
                  <a:cubicBezTo>
                    <a:pt x="3780" y="1036"/>
                    <a:pt x="3830" y="1353"/>
                    <a:pt x="3953" y="1596"/>
                  </a:cubicBezTo>
                  <a:cubicBezTo>
                    <a:pt x="4076" y="1839"/>
                    <a:pt x="4160" y="2093"/>
                    <a:pt x="4333" y="2316"/>
                  </a:cubicBezTo>
                  <a:cubicBezTo>
                    <a:pt x="4506" y="2539"/>
                    <a:pt x="4790" y="2896"/>
                    <a:pt x="4993" y="2936"/>
                  </a:cubicBezTo>
                  <a:cubicBezTo>
                    <a:pt x="5173" y="2914"/>
                    <a:pt x="5393" y="2656"/>
                    <a:pt x="5613" y="2276"/>
                  </a:cubicBezTo>
                  <a:cubicBezTo>
                    <a:pt x="5786" y="1983"/>
                    <a:pt x="5946" y="1405"/>
                    <a:pt x="6033" y="117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197080" y="5606280"/>
              <a:ext cx="51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700440" y="4764240"/>
              <a:ext cx="147240" cy="147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012920" y="4568400"/>
              <a:ext cx="147240" cy="147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187440" y="4951440"/>
              <a:ext cx="743040" cy="224640"/>
            </a:xfrm>
            <a:custGeom>
              <a:avLst/>
              <a:gdLst>
                <a:gd name="textAreaLeft" fmla="*/ 129960 w 743040"/>
                <a:gd name="textAreaRight" fmla="*/ 538920 w 743040"/>
                <a:gd name="textAreaTop" fmla="*/ 29880 h 224640"/>
                <a:gd name="textAreaBottom" fmla="*/ 194760 h 22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692440" y="4724640"/>
              <a:ext cx="74268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800000"/>
                  </a:solidFill>
                  <a:latin typeface="Times New Roman"/>
                </a:rPr>
                <a:t>TAB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2" name=""/>
          <p:cNvSpPr/>
          <p:nvPr/>
        </p:nvSpPr>
        <p:spPr>
          <a:xfrm>
            <a:off x="1295280" y="1447920"/>
            <a:ext cx="67820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Times New Roman"/>
              </a:rPr>
              <a:t>Para evitar ciclagem: Criar uma Lista Tabu (lista de soluções proibidas) e mover para o melhor vizinho que não esteja na Lista Tab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96659-BCC0-4517-9514-A58643BA1D7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usca Tab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2197080" y="2908080"/>
            <a:ext cx="5118120" cy="3035160"/>
            <a:chOff x="2197080" y="2908080"/>
            <a:chExt cx="5118120" cy="3035160"/>
          </a:xfrm>
        </p:grpSpPr>
        <p:sp>
          <p:nvSpPr>
            <p:cNvPr id="915" name=""/>
            <p:cNvSpPr/>
            <p:nvPr/>
          </p:nvSpPr>
          <p:spPr>
            <a:xfrm>
              <a:off x="3765240" y="4357800"/>
              <a:ext cx="660240" cy="674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2609640" y="2908080"/>
              <a:ext cx="0" cy="303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940120" y="3469680"/>
              <a:ext cx="3830760" cy="1864800"/>
            </a:xfrm>
            <a:custGeom>
              <a:avLst/>
              <a:gdLst/>
              <a:ahLst/>
              <a:rect l="l" t="t" r="r" b="b"/>
              <a:pathLst>
                <a:path w="6033" h="2936">
                  <a:moveTo>
                    <a:pt x="0" y="0"/>
                  </a:moveTo>
                  <a:cubicBezTo>
                    <a:pt x="0" y="0"/>
                    <a:pt x="233" y="816"/>
                    <a:pt x="233" y="816"/>
                  </a:cubicBezTo>
                  <a:cubicBezTo>
                    <a:pt x="233" y="816"/>
                    <a:pt x="553" y="1656"/>
                    <a:pt x="553" y="1656"/>
                  </a:cubicBezTo>
                  <a:cubicBezTo>
                    <a:pt x="553" y="1656"/>
                    <a:pt x="976" y="2156"/>
                    <a:pt x="1193" y="2176"/>
                  </a:cubicBezTo>
                  <a:cubicBezTo>
                    <a:pt x="1410" y="2196"/>
                    <a:pt x="1680" y="1986"/>
                    <a:pt x="1853" y="1776"/>
                  </a:cubicBezTo>
                  <a:cubicBezTo>
                    <a:pt x="2026" y="1566"/>
                    <a:pt x="2070" y="1126"/>
                    <a:pt x="2233" y="916"/>
                  </a:cubicBezTo>
                  <a:cubicBezTo>
                    <a:pt x="2396" y="706"/>
                    <a:pt x="2606" y="526"/>
                    <a:pt x="2833" y="516"/>
                  </a:cubicBezTo>
                  <a:cubicBezTo>
                    <a:pt x="3060" y="506"/>
                    <a:pt x="3406" y="676"/>
                    <a:pt x="3593" y="856"/>
                  </a:cubicBezTo>
                  <a:cubicBezTo>
                    <a:pt x="3780" y="1036"/>
                    <a:pt x="3830" y="1353"/>
                    <a:pt x="3953" y="1596"/>
                  </a:cubicBezTo>
                  <a:cubicBezTo>
                    <a:pt x="4076" y="1839"/>
                    <a:pt x="4160" y="2093"/>
                    <a:pt x="4333" y="2316"/>
                  </a:cubicBezTo>
                  <a:cubicBezTo>
                    <a:pt x="4506" y="2539"/>
                    <a:pt x="4790" y="2896"/>
                    <a:pt x="4993" y="2936"/>
                  </a:cubicBezTo>
                  <a:cubicBezTo>
                    <a:pt x="5173" y="2914"/>
                    <a:pt x="5393" y="2656"/>
                    <a:pt x="5613" y="2276"/>
                  </a:cubicBezTo>
                  <a:cubicBezTo>
                    <a:pt x="5786" y="1983"/>
                    <a:pt x="5946" y="1405"/>
                    <a:pt x="6033" y="1176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197080" y="5605560"/>
              <a:ext cx="511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700440" y="4763520"/>
              <a:ext cx="147240" cy="147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012920" y="4567680"/>
              <a:ext cx="147240" cy="147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165560" y="4274280"/>
              <a:ext cx="147240" cy="147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4343400" y="3937320"/>
              <a:ext cx="147240" cy="147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4673520" y="3712320"/>
              <a:ext cx="147240" cy="147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104080" y="3902400"/>
              <a:ext cx="147240" cy="147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333760" y="4274280"/>
              <a:ext cx="147240" cy="147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5516640" y="4720320"/>
              <a:ext cx="147240" cy="147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076800" y="5251320"/>
              <a:ext cx="147240" cy="1472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E402A-94E2-4764-9C4C-11A03FEB811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Algoritmos Genét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837720" y="1294920"/>
            <a:ext cx="80010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808080"/>
                </a:solidFill>
                <a:latin typeface="Arial"/>
              </a:rPr>
              <a:t>Os AGs fundamentam-se em uma analogia com processos naturais de evolução, nos quais, dada uma população, os indivíduos com características genéticas melhores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ff0000"/>
                </a:solidFill>
                <a:latin typeface="Arial"/>
              </a:rPr>
              <a:t>têm maiores chances de sobrevivência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808080"/>
                </a:solidFill>
                <a:latin typeface="Arial"/>
              </a:rPr>
              <a:t>e de produzirem filhos cada vez mais aptos, enquanto indivíduos menos aptos</a:t>
            </a: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500" spc="-1" strike="noStrike">
                <a:solidFill>
                  <a:srgbClr val="ff0000"/>
                </a:solidFill>
                <a:latin typeface="Arial"/>
              </a:rPr>
              <a:t>tendem a desaparec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24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808080"/>
                </a:solidFill>
                <a:latin typeface="Arial"/>
              </a:rPr>
              <a:t>As características dos indivíduos, registradas em seus genes, são transmitidas para seus descendentes e tendem a propagar-se por novas geraçõ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A7F0B-6A92-4E13-A025-E124BBFBA4DD}" type="slidenum">
              <a:t>54</a:t>
            </a:fld>
          </a:p>
        </p:txBody>
      </p:sp>
    </p:spTree>
  </p:cSld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Algoritmos Genét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808080"/>
                </a:solidFill>
                <a:latin typeface="Arial"/>
              </a:rPr>
              <a:t>Características dos descendentes são parcialmente herdadas de seus pais (</a:t>
            </a:r>
            <a:r>
              <a:rPr b="0" i="1" lang="pt-BR" sz="3600" spc="-1" strike="noStrike">
                <a:solidFill>
                  <a:srgbClr val="ff0000"/>
                </a:solidFill>
                <a:latin typeface="Arial"/>
              </a:rPr>
              <a:t>Crossover</a:t>
            </a:r>
            <a:r>
              <a:rPr b="0" lang="pt-BR" sz="3600" spc="-1" strike="noStrike">
                <a:solidFill>
                  <a:srgbClr val="808080"/>
                </a:solidFill>
                <a:latin typeface="Arial"/>
              </a:rPr>
              <a:t>) e parcialmente de novos genes criados durante o processo de reprodução (</a:t>
            </a:r>
            <a:r>
              <a:rPr b="0" i="1" lang="pt-BR" sz="3600" spc="-1" strike="noStrike">
                <a:solidFill>
                  <a:srgbClr val="ff0000"/>
                </a:solidFill>
                <a:latin typeface="Arial"/>
              </a:rPr>
              <a:t>Mutação</a:t>
            </a:r>
            <a:r>
              <a:rPr b="0" lang="pt-BR" sz="3600" spc="-1" strike="noStrike">
                <a:solidFill>
                  <a:srgbClr val="80808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B2FA1-97E5-415D-8909-ADE470F6268A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peradores genét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3" name=""/>
          <p:cNvSpPr/>
          <p:nvPr/>
        </p:nvSpPr>
        <p:spPr>
          <a:xfrm>
            <a:off x="914400" y="1600200"/>
            <a:ext cx="4572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1447920" y="1600200"/>
            <a:ext cx="4572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981080" y="1600200"/>
            <a:ext cx="4572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2514600" y="1600200"/>
            <a:ext cx="4572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3429000" y="3733920"/>
            <a:ext cx="4572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2895480" y="5791320"/>
            <a:ext cx="4572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5105520" y="1600200"/>
            <a:ext cx="45720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5638680" y="1600200"/>
            <a:ext cx="45720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172200" y="1600200"/>
            <a:ext cx="45720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705720" y="1600200"/>
            <a:ext cx="45720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495680" y="3733920"/>
            <a:ext cx="45720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5029200" y="3733920"/>
            <a:ext cx="45720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7238880" y="1600200"/>
            <a:ext cx="45720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3048120" y="1600200"/>
            <a:ext cx="4572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429000" y="5791320"/>
            <a:ext cx="457200" cy="1522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2895480" y="3733920"/>
            <a:ext cx="45720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3962520" y="3733920"/>
            <a:ext cx="45720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5029200" y="5791320"/>
            <a:ext cx="45720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4495680" y="5791320"/>
            <a:ext cx="45720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3962520" y="5791320"/>
            <a:ext cx="457200" cy="152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2057400"/>
            <a:ext cx="381240" cy="1371600"/>
          </a:xfrm>
          <a:prstGeom prst="downArrow">
            <a:avLst>
              <a:gd name="adj1" fmla="val 50000"/>
              <a:gd name="adj2" fmla="val 8994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191120"/>
            <a:ext cx="381240" cy="1371600"/>
          </a:xfrm>
          <a:prstGeom prst="downArrow">
            <a:avLst>
              <a:gd name="adj1" fmla="val 50000"/>
              <a:gd name="adj2" fmla="val 8994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4267080" y="2362320"/>
            <a:ext cx="20574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CROSSOVE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4343400" y="4572000"/>
            <a:ext cx="15238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100" spc="-1" strike="noStrike">
                <a:solidFill>
                  <a:srgbClr val="000000"/>
                </a:solidFill>
                <a:latin typeface="Arial"/>
              </a:rPr>
              <a:t>MUTAÇÃ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31E90-CDB2-4324-9A81-6C595421F82E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Arial"/>
              </a:rPr>
              <a:t>Algoritmos Genét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808080"/>
                </a:solidFill>
                <a:latin typeface="Arial"/>
              </a:rPr>
              <a:t>O objetivo de um AG é o de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ff0000"/>
                </a:solidFill>
                <a:latin typeface="Arial"/>
              </a:rPr>
              <a:t>tentar melhorar as qualidades genéticas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600" spc="-1" strike="noStrike">
                <a:solidFill>
                  <a:srgbClr val="808080"/>
                </a:solidFill>
                <a:latin typeface="Arial"/>
              </a:rPr>
              <a:t>de uma população através de um processo de renovação iterativa das populaçõ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057FA-22C1-4745-A433-C080678C5596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lação entre AG e 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blema de Otimiz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60" name=""/>
          <p:cNvGraphicFramePr/>
          <p:nvPr/>
        </p:nvGraphicFramePr>
        <p:xfrm>
          <a:off x="457200" y="1371600"/>
          <a:ext cx="8534520" cy="4632480"/>
        </p:xfrm>
        <a:graphic>
          <a:graphicData uri="http://schemas.openxmlformats.org/drawingml/2006/table">
            <a:tbl>
              <a:tblPr/>
              <a:tblGrid>
                <a:gridCol w="3463920"/>
                <a:gridCol w="5070600"/>
              </a:tblGrid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blema de Otimizaçã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divídu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lução de um problem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pulaçã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junto de soluçõ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omosso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presentação de uma soluçã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te da representação de uma soluçã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ossover / Mutaçã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peradores de bus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4EA6C-0851-481C-9DDA-2C2907EB3A96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trutura de um AG bás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2" name=""/>
          <p:cNvSpPr/>
          <p:nvPr/>
        </p:nvSpPr>
        <p:spPr>
          <a:xfrm>
            <a:off x="533520" y="1371600"/>
            <a:ext cx="167616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819520" y="1371600"/>
            <a:ext cx="167616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7162920" y="1371600"/>
            <a:ext cx="167616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4876920" y="1066680"/>
            <a:ext cx="1904760" cy="1143000"/>
          </a:xfrm>
          <a:prstGeom prst="diamond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4952880" y="2666880"/>
            <a:ext cx="167652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4952880" y="3429000"/>
            <a:ext cx="167652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4952880" y="4191120"/>
            <a:ext cx="167652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4952880" y="4952880"/>
            <a:ext cx="167652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4952880" y="5715000"/>
            <a:ext cx="1676520" cy="457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2209680" y="160020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4495680" y="162576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5816520" y="2209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6769080" y="16257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5029200" y="2743200"/>
            <a:ext cx="1523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Selecione os pa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029200" y="3506760"/>
            <a:ext cx="1523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Crossov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5029200" y="4267080"/>
            <a:ext cx="1523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Mutaçã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5029200" y="5272200"/>
            <a:ext cx="15238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4952880" y="5715000"/>
            <a:ext cx="1676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Defina a população sobreviven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2895480" y="133992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Avalie a populaçã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5105520" y="1293840"/>
            <a:ext cx="15238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Critérios de parada satisfeitos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7238880" y="137160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Liste os melhores indivídu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609480" y="1333440"/>
            <a:ext cx="152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Gere uma população inic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5029200" y="492768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Avalie a populaçã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4800600" y="2565360"/>
            <a:ext cx="1981080" cy="3733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4140360" y="6248520"/>
            <a:ext cx="3276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bc102d"/>
                </a:solidFill>
                <a:latin typeface="Arial"/>
              </a:rPr>
              <a:t>Geração de uma nova populaçã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5715000" y="2209680"/>
            <a:ext cx="609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Nã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629400" y="1371600"/>
            <a:ext cx="609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816520" y="3124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816520" y="38862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5816520" y="4648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816520" y="54100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871EF-4D07-400B-83C0-5D6AAFFA8462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blema do Caixeiro Viajante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mplex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siderando PCV simétrico (d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ij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= d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ji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), para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cidades há (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-1)!/2 rotas possíve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ara n = 20 cidades, há 10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rotas possíveis. Um computador que avalia uma rota em 10</a:t>
            </a:r>
            <a:r>
              <a:rPr b="0" lang="pt-BR" sz="2800" spc="-1" strike="noStrike" baseline="30000">
                <a:solidFill>
                  <a:srgbClr val="000000"/>
                </a:solidFill>
                <a:latin typeface="Tahoma"/>
              </a:rPr>
              <a:t>-8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segundos gastaria cerca de 19 anos para encontrar a melhor solução por enumeração comple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Métodos de enumeração implícita, tais como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branch-and-bound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, embutidos em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solver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Tahoma"/>
              </a:rPr>
              <a:t>podem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reduzir significativamente este temp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Não há garantia de que isso sempre ocor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34D6B-9F1A-419E-BE29-102B3F6CF3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valiação de cromossom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eita pela função de aptidão (fitn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m um problema de maximização pode ser a própria função objet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m um problema de minimização pode ser o inverso da função objet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0FD79-48C4-4535-BC1B-0707358CB238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ase de sele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Binary tournament selection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lecionar dois indivíduos aleatoriam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primeiro pai é o indivíduo com maior aptid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elecionar, aleatoriamente, outros dois p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 segundo pai é o indivíduo com maior aptidão nessa nova seleçã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leatór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oleta russ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F35B8-F5E1-4D11-BF56-C4DB32573B12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ase de reprodu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ois ou mais cromossomos passam por um processo de mutação e/ou recombinação para gerar novos cromossomos filhos (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offspring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perador mutação cláss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 = ( 0 1 </a:t>
            </a:r>
            <a:r>
              <a:rPr b="0" lang="pt-BR" sz="32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1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pt-BR" sz="3200" spc="-1" strike="noStrike">
                <a:solidFill>
                  <a:srgbClr val="ff0000"/>
                </a:solidFill>
                <a:latin typeface="Symbol"/>
                <a:ea typeface="Symbol"/>
              </a:rPr>
              <a:t>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 = ( 0 1 </a:t>
            </a:r>
            <a:r>
              <a:rPr b="0" lang="pt-BR" sz="3200" spc="-1" strike="noStrike">
                <a:solidFill>
                  <a:srgbClr val="ff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1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720DE-7211-40B7-9093-EC17D49529A5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ase de reprodu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perador crossover clássico (one point crossover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scendentes são formados a partir da reunião de segmentos de cada pa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= ( </a:t>
            </a:r>
            <a:r>
              <a:rPr b="0" lang="pt-BR" sz="2800" spc="-1" strike="noStrike">
                <a:solidFill>
                  <a:srgbClr val="808080"/>
                </a:solidFill>
                <a:latin typeface="Tahoma"/>
              </a:rPr>
              <a:t>0 1 1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66ff33"/>
                </a:solidFill>
                <a:latin typeface="Tahoma"/>
              </a:rPr>
              <a:t>1 0 0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= ( 1 0 1 </a:t>
            </a:r>
            <a:r>
              <a:rPr b="0" lang="pt-BR" sz="28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996633"/>
                </a:solidFill>
                <a:latin typeface="Tahoma"/>
              </a:rPr>
              <a:t>0 1 0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pt-BR" sz="2800" spc="-1" strike="noStrike">
                <a:solidFill>
                  <a:srgbClr val="ff0000"/>
                </a:solidFill>
                <a:latin typeface="Symbol"/>
                <a:ea typeface="Symbol"/>
              </a:rPr>
              <a:t>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= ( </a:t>
            </a:r>
            <a:r>
              <a:rPr b="0" lang="pt-BR" sz="2800" spc="-1" strike="noStrike">
                <a:solidFill>
                  <a:srgbClr val="808080"/>
                </a:solidFill>
                <a:latin typeface="Tahoma"/>
              </a:rPr>
              <a:t>0 1 1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996633"/>
                </a:solidFill>
                <a:latin typeface="Tahoma"/>
              </a:rPr>
              <a:t>0 1 0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= ( 1 0 1 </a:t>
            </a:r>
            <a:r>
              <a:rPr b="0" lang="pt-BR" sz="2800" spc="-1" strike="noStrike">
                <a:solidFill>
                  <a:srgbClr val="ff0000"/>
                </a:solidFill>
                <a:latin typeface="Tahoma"/>
              </a:rPr>
              <a:t>|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t-BR" sz="2800" spc="-1" strike="noStrike">
                <a:solidFill>
                  <a:srgbClr val="66ff33"/>
                </a:solidFill>
                <a:latin typeface="Tahoma"/>
              </a:rPr>
              <a:t>1 0 0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348D5-5E92-4BDA-924E-81BDF997FC2C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perador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crossover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para o PC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perador O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perador </a:t>
            </a:r>
            <a:r>
              <a:rPr b="0" i="1" lang="pt-BR" sz="2800" spc="-1" strike="noStrike">
                <a:solidFill>
                  <a:srgbClr val="000000"/>
                </a:solidFill>
                <a:latin typeface="Tahoma"/>
              </a:rPr>
              <a:t>crossover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 de dois pontos de cor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ruzamento entre os pais geram dois filh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Filhos herdam a ordem de visita dos p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5D5F3-2D77-411F-A124-C465683FAFDB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perador OX para o PC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6 3 8 | 2 4 1 | 5 7 9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1 2 7 | 4 6 5 | 8 9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x x x | 2 4 1 | x x 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rdem de visita de p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{8,9,3,1,2,7,4,6,5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B7B2D-BD47-46D0-BDF8-3EFC91EBC2A6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perador OX para o PC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6 3 8 | 2 4 1 | 5 7 9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1 2 7 | 4 6 5 | 8 9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x x x | 2 4 1 | x x 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rdem de visita de p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{8,9,3,1,2,7,4,6,5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x x x | 2 4 1 | 8 x 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640080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 flipV="1">
            <a:off x="678168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 flipV="1">
            <a:off x="746748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5F96A-266F-4371-9FE0-802C0CD2806C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perador OX para o PC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6 3 8 | 2 4 1 | 5 7 9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1 2 7 | 4 6 5 | 8 9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x x x | 2 4 1 | x x 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rdem de visita de p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{8,9,3,1,2,7,4,6,5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x x x | 2 4 1 | 8 9 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"/>
          <p:cNvSpPr/>
          <p:nvPr/>
        </p:nvSpPr>
        <p:spPr>
          <a:xfrm flipV="1">
            <a:off x="640080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678168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746748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5334120" y="4038480"/>
            <a:ext cx="30456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FF243-6FA9-436D-86F4-FA2BC5A3FC9B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perador OX para o PC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6 3 8 | 2 4 1 | 5 7 9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1 2 7 | 4 6 5 | 8 9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x x x | 2 4 1 | x x 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rdem de visita de p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{8,9,3,1,2,7,4,6,5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x x x | 2 4 1 | 8 9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8" name=""/>
          <p:cNvSpPr/>
          <p:nvPr/>
        </p:nvSpPr>
        <p:spPr>
          <a:xfrm flipV="1">
            <a:off x="640080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 flipV="1">
            <a:off x="678168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 flipV="1">
            <a:off x="746748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 flipV="1">
            <a:off x="5334120" y="4038480"/>
            <a:ext cx="30456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571500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6AC9B-7BE4-41B2-B500-D7E20FD0BF5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perador OX para o PC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6 3 8 | 2 4 1 | 5 7 9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1 2 7 | 4 6 5 | 8 9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x x x | 2 4 1 | x x 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rdem de visita de p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{8,9,3,1,2,7,4,6,5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7 x x | 2 4 1 | 8 9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"/>
          <p:cNvSpPr/>
          <p:nvPr/>
        </p:nvSpPr>
        <p:spPr>
          <a:xfrm flipV="1">
            <a:off x="640080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 flipV="1">
            <a:off x="678168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 flipV="1">
            <a:off x="746748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 flipV="1">
            <a:off x="5334120" y="4038480"/>
            <a:ext cx="30456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 flipV="1">
            <a:off x="571500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 flipV="1">
            <a:off x="609588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CF6AC-A180-40D9-A09C-8665E9B3A4C9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roblema do Caixeiro Viajante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mplex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ara dimensões mais elevadas (&gt; 50 cidades), a resolução por modelos de programação matemática é proibitiva em termos de tempos computaciona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CV é da classe NP-difícil: não existem algoritmos exatos que o resolvam em tempo polinom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À medida qu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cresce, o tempo cresce exponencialm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CV é resolvido por meio de heurístic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Procedimentos que seguem uma intuição para resolver o problema (forma humana de resolver o problema, fenômenos naturais, processos biológicos, etc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Não garantem a otimalidade da solução fi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Em geral, produzem soluções finais de boa qualidade rapidam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CFDF6-D6AD-4381-B5A1-D7BF6A033C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perador OX para o PC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6 3 8 | 2 4 1 | 5 7 9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1 2 7 | 4 6 5 | 8 9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x x x | 2 4 1 | x x 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rdem de visita de p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{8,9,3,1,2,7,4,6,5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7 6 x | 2 4 1 | 8 9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"/>
          <p:cNvSpPr/>
          <p:nvPr/>
        </p:nvSpPr>
        <p:spPr>
          <a:xfrm flipV="1">
            <a:off x="640080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 flipV="1">
            <a:off x="678168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 flipV="1">
            <a:off x="746748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 flipV="1">
            <a:off x="5334120" y="4038480"/>
            <a:ext cx="30456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71500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 flipV="1">
            <a:off x="609588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 flipV="1">
            <a:off x="708660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2E2F0-1F0C-414C-9CBD-337919C2C777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Operador OX para o PC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6 3 8 | 2 4 1 | 5 7 9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1 2 7 | 4 6 5 | 8 9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x x x | 2 4 1 | x x x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Ordem de visita de p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{8,9,3,1,2,7,4,6,5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= (7 6 5 | 2 4 1 | 8 9 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"/>
          <p:cNvSpPr/>
          <p:nvPr/>
        </p:nvSpPr>
        <p:spPr>
          <a:xfrm flipV="1">
            <a:off x="640080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 flipV="1">
            <a:off x="678168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746748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5334120" y="4038480"/>
            <a:ext cx="30456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571500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609588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708660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 flipV="1">
            <a:off x="7772400" y="4038480"/>
            <a:ext cx="30492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EF7E5-A6F6-4641-824C-75515AE8F4C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obrevivência / morte de cromossom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o selecionamos os cromossomos que devem sobreviv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obrevivem os que possuem os melhores níveis de aptidã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É importante permitir também a sobrevida de cromossomos menos aptos, do contrário o método ficaria preso em ótimos loc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ED634-83D7-49B2-AE63-24FA2979A863}" type="slidenum">
              <a:t>72</a:t>
            </a:fld>
          </a:p>
        </p:txBody>
      </p:sp>
    </p:spTree>
  </p:cSld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eleção de cromossomos sobreviven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53" name=""/>
          <p:cNvGraphicFramePr/>
          <p:nvPr/>
        </p:nvGraphicFramePr>
        <p:xfrm>
          <a:off x="988920" y="1631880"/>
          <a:ext cx="7697880" cy="397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1631880"/>
                    <a:ext cx="7697880" cy="39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AFC85-BBC1-45BB-A0D3-15E54AD53796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oleta russa: </a:t>
            </a:r>
            <a:br>
              <a:rPr sz="3200"/>
            </a:br>
            <a:r>
              <a:rPr b="0" lang="pt-BR" sz="1700" spc="-1" strike="noStrike">
                <a:solidFill>
                  <a:srgbClr val="000000"/>
                </a:solidFill>
                <a:latin typeface="Tahoma"/>
              </a:rPr>
              <a:t>mecanismo para selecionar os cromossomos sobrevivent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56" name=""/>
          <p:cNvGraphicFramePr/>
          <p:nvPr/>
        </p:nvGraphicFramePr>
        <p:xfrm>
          <a:off x="988920" y="1631880"/>
          <a:ext cx="7697880" cy="397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1631880"/>
                    <a:ext cx="7697880" cy="39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8" name=""/>
          <p:cNvSpPr/>
          <p:nvPr/>
        </p:nvSpPr>
        <p:spPr>
          <a:xfrm>
            <a:off x="4952880" y="33526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581280" y="4038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4191120" y="228600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505320" y="28954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E2C39-2476-43C0-8C7D-B8562F2ED2B8}" type="slidenum">
              <a:t>74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Heuríst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nstrutiv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stroem uma solução passo a passo, elemento por ele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De refinam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sistem em efetuar modificações na solução construída, de forma a tentar melhorá-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007E7-726F-4BB0-8315-E1B5924841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647676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eurísticas construtivas para o Problema do Caixeiro Viaja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Vizinho mais próxi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déia central: Construir uma rota passo a passo, adicionando à solução corrente a cidade mais próxima (ainda não visitada) da última cidade inserid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serção mais bar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déia central: Construir uma rota passo a passo, partindo de rota inicial envolvendo 3 cidades e adicionar a cada passo, a cidade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(ainda não visitada) entre a ligação (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i,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Tahoma"/>
              </a:rPr>
              <a:t>j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) de cidades já visitadas, cujo custo de inserção seja o mais bara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08DA4-4277-4FBB-B3FA-A4643DFFA59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2T04:06:18Z</dcterms:created>
  <dc:creator>carol</dc:creator>
  <dc:description/>
  <dc:language>en-US</dc:language>
  <cp:lastModifiedBy>Luciano</cp:lastModifiedBy>
  <dcterms:modified xsi:type="dcterms:W3CDTF">2006-03-02T10:37:09Z</dcterms:modified>
  <cp:revision>861</cp:revision>
  <dc:subject/>
  <dc:title>Slide 1</dc:title>
</cp:coreProperties>
</file>