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62FF-6AF9-49A1-AB02-DAAA605B9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7A49-D64F-46F8-BFC2-05FD4A1FB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BC4B-0398-4B63-BBD0-4DED070BE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82C5-5F42-4A19-A19D-CDB621E68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7CD80-FF57-4DD6-94DE-7F42DE3B6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4AB6D-F3B7-46BE-99D9-E8F7F2D22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A39E8-62EF-4247-B72F-259C901DD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0C571-C760-4772-864F-F8596047F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9AEF3-35A3-4561-B50B-847FDFD8D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A25DC-C49E-4B54-AB9B-A5C419BF0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44E8C-99D0-4DF8-AAE2-993E04183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5B5E-C4A2-4116-8C7C-8378302C3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90122-F508-4C1A-A7B0-CFDCABAEF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CAA67-D27D-4181-A5AA-907AB0AD6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A94C2-A72F-4545-8A94-BB8B56E6C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E1FDB-39D0-4092-842E-FF2286925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D72C8-C52D-4B73-B21F-A1C9E581D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BB94-C2BC-48E2-8A39-AA64D8D63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FD88-79FE-44FF-9950-84F01B70F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11CF-6111-4C7D-AD5A-3A13C95B0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9407-E923-4EDC-9E93-DC133D713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B057-2FAA-4FE5-9113-45B14CBB2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81C7-C921-4514-952D-BB0640F3B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560F-9C63-4F02-B96A-E1245BC07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463F6-B449-47EC-8AFF-3F71C095409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112D0-E8B1-4306-BE3F-7AF8E439A04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Simulação a Eventos Discretos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: Alexandre/DEC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DC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ivid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 algn="just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presentam estados de atividade do sistem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 algn="just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da atividade pode ter a participação de uma ou mais entidades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 algn="just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duração de cada atividade pode ser constante ou seguir uma distribuição de probabilidades predefinid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 algn="just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urante a execução de uma atividade, as entidades nela envolvidas ficam indisponíveis.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DC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presentam estados passivos de entidades que aguardam o atendimento das condições de início de uma atividade, para dela participarem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 tempo de permanência numa fila não é predeterminado.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DC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acteríst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ternância entre filas e atividad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ém dos três elementos básicos no DCA também pode ser mencionado o elemento fonte/sumidouro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DC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a empresa de mineração opera 7 escavadeiras. As escavadeiras trabalham em operação contínua, interrompendo seu funcionamento apenas para manutenção corretiva. O tempo entre falhas é descrito por uma distribuição exponencial negativa com média 7 dias. A manutenção é feita por uma única equipe e sua duração é também é exponencialmente distribuída com média de 1 dia. Deseja-se simular este problema para avaliar o tempo que as escavadeiras ficam paradas por falta de manutençã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Sumário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Generalid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minolog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iagrama de Ciclo de Ativid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Generalidad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prega a técnica do próximo evento para controlar o comportamento do modelo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balha com modelo que envolvem filas (óbvias ou nã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Terminologi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id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lementos individuais do sistema cujo comportamento se deseja analis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tidades permanen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tidades temporári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Terminologi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rganizaçã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lasses: Grupos permanentes de entidades idênticas ou similares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onjuntos: Grupos temporários de entidades idênticas ou similares. São usados para representar, por exemplo, um grupo de entidades em fila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tributos: São itens que informam determinadas características de uma entidade. Servem para 2 propósitos: Distinguir membros de uma mesma classe de entidades e controlar o comportamento das entidad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Terminologi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tos: É o instante do tempo no qual alguma troca significativa de estado ocorre no sistem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ividade: São as operações e procedimentos que são iniciados em cada ev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o: Às vezes, é usual agrupar uma seqüência de eventos na ordem cronológica que eles acontecem. Tal seqüência é conhecida como processo, e é utilizada para representar parte ou toda a “vida” de uma entidade dentro do sistema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Terminologi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ógio da Simulação: Representa o instante corrente da simulaçã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urso: Um recurso consiste em itens idênticos e o programa mantém um controle sobre quantos itens estão disponíveis a cada momento. O recurso é o que a entidade necessita para realizar alguma ativida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Diagrama de Ciclo de Atividad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resentação gráfica do sistema a ser modelado e constitui-se de um conjunto de elementos interligado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ão  três elementos básic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 entidad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 atividad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 fila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DC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id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stituem-se no elemento primário do modelo e representam as classes de entidades físicas do sistema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istem entidades permanentes e temporária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3T00:01:10Z</dcterms:created>
  <dc:creator>Computer</dc:creator>
  <dc:description/>
  <dc:language>en-US</dc:language>
  <cp:lastModifiedBy>Computer</cp:lastModifiedBy>
  <dcterms:modified xsi:type="dcterms:W3CDTF">2006-02-11T14:00:04Z</dcterms:modified>
  <cp:revision>14</cp:revision>
  <dc:subject/>
  <dc:title>Simulação a Eventos Discretos</dc:title>
</cp:coreProperties>
</file>