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C1F-3A71-4BC5-BE50-C06AA94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28B-533A-4AAF-819E-9E7A22F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69F-F24C-4CCE-A7D2-F9C47E4A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52C-987C-4E79-A509-0AE9EE59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6004-F780-4C8E-96F9-8CB30ED1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0297-14A1-4724-BF0C-6CA69DC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338-12A6-44DD-9104-78BBDAAE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F73-26A9-4CDC-AFCC-C541475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0CD-097C-4363-9319-F01329A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F6B5-0E94-4AE5-B409-DA77CE6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BBB-5A40-4A3C-8344-453FA1F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9F5-FBBC-45B0-A77D-E3870E14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D15D-1403-48D1-823F-32707B6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4A9-8F2A-44E8-8C9A-AC496665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3218-388C-4E2B-9C59-6DFED5C3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68E-DF49-4F21-8DC8-8432CD0A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D23-DF2C-47CB-871A-A80F3472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C64-0D5D-4853-8AB7-CBAE2983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54A-6DA1-4254-A278-CBA35D0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544-E696-4AF2-A3E8-11EFCC23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D39-0C2D-4A42-9F29-6B2C109D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B20-7F31-4353-AF9D-A61EDF85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C4D-3E8F-433B-8C57-B29DF84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040-3FA5-4562-BBF3-4AC4C68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4F60-44DA-42EA-9C70-AA5BC9FFE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173-84BB-402F-9886-BAA2F4E90D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24444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LIGÊNCIA COMPUTACIONAL PARA OTIMIZ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TEAMENTO DE VEÍCULOS COM FROTA HETEROGÊ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28800" y="1066680"/>
          <a:ext cx="5372280" cy="465300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  <a:gridCol w="1791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S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ÇÃO OBJETIV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MPO(min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2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523880" y="5867280"/>
            <a:ext cx="594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édia: 62              Desvio: 3,33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60958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drigo Oliveira Fur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ago Araújo N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difíci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como graf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écnica utilizad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agem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38480" y="3581280"/>
            <a:ext cx="83844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76520"/>
            <a:ext cx="11430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914400"/>
            <a:ext cx="129564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124080"/>
            <a:ext cx="1219320" cy="6098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724280"/>
            <a:ext cx="121896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029200"/>
            <a:ext cx="129564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24280" y="1828800"/>
            <a:ext cx="4572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76920" y="3504960"/>
            <a:ext cx="16761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038480"/>
            <a:ext cx="91440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3962520"/>
            <a:ext cx="121896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514240" y="2286000"/>
            <a:ext cx="16765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66880" y="1447920"/>
            <a:ext cx="205740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362320"/>
            <a:ext cx="228600" cy="236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4038480" cy="1143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362320"/>
            <a:ext cx="3353040" cy="3429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676520"/>
            <a:ext cx="1143000" cy="1447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30456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560" y="1676520"/>
            <a:ext cx="2361960" cy="3047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400440" y="3733920"/>
            <a:ext cx="60948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95480" y="3657600"/>
            <a:ext cx="381024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19520" y="5257800"/>
            <a:ext cx="2666880" cy="76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838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G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çã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Demand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iente 1 =&gt; 12          Cliente 2 =&gt; 15            Cliente 3 =&gt; 7             Cliente 4 =&gt;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iente 5 =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ossível  Solu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[-20,1,3,-10,4,-20,2,5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olução Inviáve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[-10,4,1,-20,5,-20,2,3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RIT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133720"/>
            <a:ext cx="69706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itur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a de 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 inici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imulated Annealing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I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z de distânci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dos cli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cidade dos 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dade de cada veículo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OLHA DOS VE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ferência para os de maior capacidad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em todos os veículos de mesma capacidade precisam ser utilizad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ÇÃO 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 se as demandas não superam as capacidades dos veículos nas respectivas rot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alidad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a das distância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23:24:01Z</dcterms:created>
  <dc:creator>deangelo.carvalho</dc:creator>
  <dc:description/>
  <dc:language>en-US</dc:language>
  <cp:lastModifiedBy>Rodrigo Oliveira Furtado</cp:lastModifiedBy>
  <dcterms:modified xsi:type="dcterms:W3CDTF">2003-02-14T03:55:02Z</dcterms:modified>
  <cp:revision>2</cp:revision>
  <dc:subject/>
  <dc:title>INTELIGÊNCIA COMPUTACIONAL PARA OTIMIZAÇÃO</dc:title>
</cp:coreProperties>
</file>