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FF03-632C-47C2-8431-57541686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9CE8-399F-4A85-B2F3-C2CF9367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B4FA-68D5-4E9B-91BC-2D2A3DDBD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CB0-1F10-4F97-AF8C-E98B9DD8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E68-34CC-49EB-B759-45C0E984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FF9-4F9D-4D77-B347-33813185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639-E322-4C33-AA38-E9379571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F9C-F243-45FA-B1F0-EE527907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1C8-3D4F-42FE-9A4D-80CF1AE6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DC5B-3F46-44EB-A939-C8D950DF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7615-1981-4381-82EE-1A09797B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4346-36B4-4D7F-A0F7-5C561B98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40A2-4A86-4D5C-8AD6-7895339B1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8288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BS00580_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685800" cy="577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71600" y="2819520"/>
            <a:ext cx="6400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Unbounded Knapsack Problem – UP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(Problema da Mochila Intei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 u="sng">
                <a:solidFill>
                  <a:srgbClr val="000000"/>
                </a:solidFill>
                <a:uFillTx/>
                <a:latin typeface="Times New Roman"/>
              </a:rPr>
              <a:t>TÓPICOS ESPECIAIS EM INTELIGÊNCIA ARTIFICIAL</a:t>
            </a:r>
            <a:endParaRPr b="0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S COMPUTACIONAIS PARA VND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143000" y="2209680"/>
          <a:ext cx="6543720" cy="2954160"/>
        </p:xfrm>
        <a:graphic>
          <a:graphicData uri="http://schemas.openxmlformats.org/drawingml/2006/table">
            <a:tbl>
              <a:tblPr/>
              <a:tblGrid>
                <a:gridCol w="625320"/>
                <a:gridCol w="1260720"/>
                <a:gridCol w="3054240"/>
                <a:gridCol w="706320"/>
                <a:gridCol w="897120"/>
              </a:tblGrid>
              <a:tr h="631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ia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u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2,  2,  0,  0,  0,  0,  0,  0,  2,  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3,  1,  0,  0,  1,  0,  2,  1,  1,  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2,  2,  0,  0,  0,  0,  2,  1,  1,  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3,  5,  0,  0,  1,  0,  1,  2,  0, 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0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4,  1,  0,  0,  1,  0,  1,  2,  1,  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286000" y="556272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édi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1,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vio Padrão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,18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S COMPUTACIONAIS PARA VNS</a:t>
            </a:r>
            <a:endParaRPr b="0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2590920"/>
          <a:ext cx="6543720" cy="2989080"/>
        </p:xfrm>
        <a:graphic>
          <a:graphicData uri="http://schemas.openxmlformats.org/drawingml/2006/table">
            <a:tbl>
              <a:tblPr/>
              <a:tblGrid>
                <a:gridCol w="625320"/>
                <a:gridCol w="1260720"/>
                <a:gridCol w="3054240"/>
                <a:gridCol w="706320"/>
                <a:gridCol w="897120"/>
              </a:tblGrid>
              <a:tr h="6314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viabi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u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4,  0,  0,  1,  1,  0,  3,  2,  0, 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3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4,  2,  0,  0,  0,  0,  3,  2,  0, 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4,  1,  0,  0,  1,  0,  3,  3,  0, 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4,  3,  0,  0,  1,  0,  3,  0,  0, 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[4,  0,  0,  1,  1,  0,  3,  2,  0,  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990720" y="1981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es executados em 5 segundos de V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94360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édi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3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vio Padrão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,44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ONENTE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riano Pedrosa Ma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-difíci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écnica utilizad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agem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O PROBLEMA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133720"/>
            <a:ext cx="76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itura dos d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agem do modelo de soluçã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ão da solução a uma heurístic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u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DELAGEM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82600" y="2133720"/>
            <a:ext cx="6970680" cy="39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itura dos Dad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ção dos movimen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ção inicia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ND ou V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ORITMO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tor de tipos de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tor de benefício dos objeto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tor de quantidade dos tipos de objet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ITURA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IMPLEMENTAÇÃO DOS MOVIMENTOS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362320"/>
            <a:ext cx="7162560" cy="52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s movimentos consistem em tirar ou acrescentar um objeto em uma dada posição, ou tirar um objeto de uma posição e acrescentar um outro objeto em uma outra posi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movimento básico foi implementado da seguinte manei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de: s = vetor soluçã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j = posição do vetor soluçã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q = quantidade a ser adicionada (1 ou –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lim = limite da quantidade existente do obje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MOVIMENTO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t troca_quantidade(s, j, q, lim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 (q &gt; 0)  { // if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 ((s[j]+q) &lt;= lim[j]) { // if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[j]+=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turn q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lse {// else if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[j]=lim[j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turn 0;  } //else if 2 }// if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lse { // else if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f ((s[j]+q) &lt; 0) {// if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int result =s[j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[j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turn (-1)*(result)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lse { // else if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[j]+=q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turn q; } //else if 3 } //if  3 } //if1 } // troca_quant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2590920"/>
            <a:ext cx="7772400" cy="30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erifica se o peso dos objetos não ultrapassa a capacidade da mochila (inviabilidad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 ultrapassar é aplicada uma penal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 = benefício – inviabilidade * penalidad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FUNÇÃO OBJETIVO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56565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 u="sng">
                <a:solidFill>
                  <a:srgbClr val="000000"/>
                </a:solidFill>
                <a:uFillTx/>
                <a:latin typeface="Times New Roman"/>
              </a:rPr>
              <a:t>RESULTADOS COMPUTACIONAIS</a:t>
            </a:r>
            <a:endParaRPr b="0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438280"/>
            <a:ext cx="7238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es realizados co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 = 50 (número de tipos de obje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= 100 (capacidade da mochi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rand = relógio do compu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5 testes para V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5 testes para V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18:59:56Z</dcterms:created>
  <dc:creator>apmaia</dc:creator>
  <dc:description/>
  <dc:language>en-US</dc:language>
  <cp:lastModifiedBy>Adriano</cp:lastModifiedBy>
  <dcterms:modified xsi:type="dcterms:W3CDTF">2003-02-21T02:57:55Z</dcterms:modified>
  <cp:revision>8</cp:revision>
  <dc:subject/>
  <dc:title>Apresentação do PowerPoint</dc:title>
</cp:coreProperties>
</file>