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851-F4E8-4C74-AF3E-8C06C70C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F1D-897D-413A-A07E-BDEBB2A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F06-893F-47E7-A4E7-9CEB53F8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871-EEEE-4CD6-A92F-8A2B3777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B84-7B2C-4A09-A3BC-0D7DEF9B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75F-948F-453A-B3E5-D882353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88E-9142-467B-AEBE-44FC324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A4A-2C43-4D88-BB86-7E6D55A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9DE-D09B-40D7-B52A-985636E5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F71-2F5E-4E0F-B675-01EFEF0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F12-C933-44C0-B88B-3477B5A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00A-D8C0-493A-A8FA-9DAA3003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126-1E94-40BF-9EA9-CB664AF6C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925560"/>
            <a:ext cx="6438960" cy="24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blema de Alocaçã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 Jogos d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mpeonato Brasilei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210320" y="3973680"/>
            <a:ext cx="43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u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brício Lacerda Biaj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-auto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ntônio Augusto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távio Massashi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ste" descr=""/>
          <p:cNvPicPr/>
          <p:nvPr/>
        </p:nvPicPr>
        <p:blipFill>
          <a:blip r:embed="rId2"/>
          <a:stretch/>
        </p:blipFill>
        <p:spPr>
          <a:xfrm>
            <a:off x="6095880" y="4025880"/>
            <a:ext cx="1968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1447920"/>
          <a:ext cx="8610840" cy="51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610840" cy="51051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676520"/>
            <a:ext cx="66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mpo médio de execução: ~8,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lhor Solução encontrada: 303.14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édia das Soluções: 340.700,3 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vio: 11,0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a pequena comp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20560" y="4635360"/>
          <a:ext cx="8305920" cy="15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4635360"/>
                    <a:ext cx="8305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440" y="399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121932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ão considerados 10 objetivos a serem atendidos, sendo 6 objetivos essenciais e 4 não-essenciais. São el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680" y="2225520"/>
            <a:ext cx="84740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ada time deve jogar uma única vez com cada um dos outr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 nº de jogos dentro de casa e fora de casa de cada time deve ser igua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ada time só deve jogar uma vez por roda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Não deve ter nenhum jogo entre clubes do mesmo estado na última roda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s dois primeiros jogos devem ter o mando de campo invertido (Ex: 1º jogo e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asa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, então 2º jogo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fora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s dois últimos jogos devem repetir o mando dos dois primeiros (Ex: 1º casa; 2º fora ; então 24º casa e 25º for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1440" y="399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362320"/>
            <a:ext cx="84582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Um time não pode jogar mais de 2 vezesconsecutivas                                                    dentro de cas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Um time não pode jogar mais de 2 vezesconsecutivas                                                    dentro de cas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Minimizar a distância total percorri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Minimizar a diferença entre a maior e a menor distância percorrida.</a:t>
            </a:r>
            <a:br>
              <a:rPr sz="2600"/>
            </a:b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040" y="1311120"/>
            <a:ext cx="351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bjetivos não essenciais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ÉTODO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TI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4800" y="1362240"/>
            <a:ext cx="6890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ão utilizadas duas metaheurísticas associa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Simulated Anneal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Busca Ta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Reaqueci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u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Busca Ta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imeiro Vizinho de Melho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nálise de Vizinhança Pa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8104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O problema consiste e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locar os jogos, montando a tabela do Campeonato Brasileiro, com o objetivo de minimizar a distância total percorrida pelos times, levando em consideração alguns requisi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m time não pode jogar mais de 1 vez na mesma rodad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m time deve jogar uma única vez com cada um dos outros tim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m time não pode jogar mais de 2 vezes consecutivas fora de ca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440" y="399960"/>
            <a:ext cx="30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509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Inicialmente temos um conjunto de 26 times, onde todos se enfrentam em turno único (único jog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definir todos os jogos possíveis sem gerar repetição, levando em conta ainda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9200" y="1413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onha que temos os seguintes times: Atlético, Gama, Goiás, Vasco e São Paulo; e desejamos definir todos os jogos possíveis entre 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91560" y="2959200"/>
            <a:ext cx="276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80880" y="3314880"/>
            <a:ext cx="25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2640" y="51814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s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9800" y="4813200"/>
            <a:ext cx="24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560" y="604836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95480"/>
            <a:ext cx="6553080" cy="281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1536840"/>
            <a:ext cx="847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problema do mando de campo nós resolvemos da seguinte manei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 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Atl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G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76312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am definidos dois tipos de mov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Troca de mando de campo(trocar sinal de um jog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oca de jogos entre roda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is tipos de inviabilidade foram consider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uma vez na mesma rodada (NI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duas vezes consecutivas fora de casa (NI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_Star = FO + NI2*P2 + NI3*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Jo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5120" y="120960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inição de uma 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5920" y="20574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88600" y="2535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od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ÉTOD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TI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720" y="1749600"/>
            <a:ext cx="859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Foi utilizado o Simulated Annealing para a resolução d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funci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arâmet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ficiênc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82440"/>
            <a:ext cx="839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ultados apresentados pela Tabela Oficial do Campeonato Brasileiro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5800" y="1832040"/>
            <a:ext cx="8531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0.613.55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ância Total Percorri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613.556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uma vez na mesma roda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duas vezes consecutivas fora de cas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1:35:39Z</dcterms:created>
  <dc:creator>Guto</dc:creator>
  <dc:description/>
  <dc:language>en-US</dc:language>
  <cp:lastModifiedBy>Fabrício Lacerda Biajoli</cp:lastModifiedBy>
  <dcterms:modified xsi:type="dcterms:W3CDTF">2003-10-08T16:09:16Z</dcterms:modified>
  <cp:revision>29</cp:revision>
  <dc:subject/>
  <dc:title>Apresentação do PowerPoint</dc:title>
</cp:coreProperties>
</file>