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8573-040E-4509-AC1F-B0882312A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9CD8-5F62-47D2-83D0-3394164A5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9AD2-65E7-4AAF-8E91-8A68D3F1F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42E7-6D3A-410D-BC02-E80C82591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6F79C-D034-45F6-8851-D99A4960C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84DA1-C4FB-492F-845A-10AA211B1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36BD2-8884-414C-A9DC-AFB70646A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A41BD-0A1C-4BD8-8CEF-0CF616F5E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77D50-7E71-4A65-8C09-8A39C89B3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1FA45-24FB-478D-B8B1-B8B666942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7A623-E134-4678-8823-2BD99694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6B56-4E4D-4E07-B8AD-87E85F4E3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E36DD-4F75-4EEF-BF5B-1E94B141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F6C54-BF24-4D84-B3D7-3A8C569A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EAC07-EE95-4AD6-AF66-17AE41F2B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DDE7B-16FB-4BC3-A454-24249B6E1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198C0-9878-4E0B-B552-9EEB3069B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9BDF-F722-4FD5-BD44-FCB93038B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7B8B-3037-4AE1-BDF0-368B5EABA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A9EA-B66B-40B7-AD3D-B65CDE902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DF64-58A3-43AE-9255-4B8A83DD7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CE46-DDE7-4E45-A8F6-5A40E1D7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6C05-F362-479E-B320-C6B542C0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9183-AFFF-4600-95C5-C7DF0B1D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88172-4187-4D82-B2C1-797D06B292D6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C123E-D077-4719-9C67-19D25227BA15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00200" y="2362320"/>
            <a:ext cx="68580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Universidade Federal de Ouro Preto</a:t>
            </a:r>
            <a:br>
              <a:rPr sz="2000"/>
            </a:br>
            <a:r>
              <a:rPr b="1" lang="pt-BR" sz="2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ICEB – Instituto de Ciências Exatas e Biológicas</a:t>
            </a:r>
            <a:br>
              <a:rPr sz="2000"/>
            </a:br>
            <a:r>
              <a:rPr b="1" lang="pt-BR" sz="2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DECOM - Departamento de Computação</a:t>
            </a:r>
            <a:br>
              <a:rPr sz="2000"/>
            </a:br>
            <a:r>
              <a:rPr b="1" lang="pt-BR" sz="2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Disciplina: Inteligência Computacional para Otimização</a:t>
            </a:r>
            <a:br>
              <a:rPr sz="2000"/>
            </a:br>
            <a:r>
              <a:rPr b="1" lang="pt-BR" sz="2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Professor: Marcone Jamilson Freitas Souza</a:t>
            </a:r>
            <a:br>
              <a:rPr sz="2000"/>
            </a:br>
            <a:r>
              <a:rPr b="1" lang="pt-BR" sz="2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422424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38" name="UFOPcmykeps" descr=""/>
          <p:cNvPicPr/>
          <p:nvPr/>
        </p:nvPicPr>
        <p:blipFill>
          <a:blip r:embed="rId2"/>
          <a:srcRect l="0" t="0" r="0" b="16783"/>
          <a:stretch/>
        </p:blipFill>
        <p:spPr>
          <a:xfrm>
            <a:off x="685800" y="2362320"/>
            <a:ext cx="11858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040" y="1905120"/>
            <a:ext cx="754380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O uso da Metaheurística </a:t>
            </a:r>
            <a:r>
              <a:rPr b="1" i="1" lang="pt-BR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Simulated Annealing</a:t>
            </a:r>
            <a:r>
              <a:rPr b="1" lang="pt-BR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para a resolução do problema de formulação do quadro de horário de ônibus para o sistema de transporte público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545472"/>
                </a:solidFill>
                <a:latin typeface="Tahoma"/>
              </a:rPr>
              <a:t>Helton Cristiano Gomes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545472"/>
                </a:solidFill>
                <a:latin typeface="Tahoma"/>
              </a:rPr>
              <a:t>Luiz Augusto Cocato Júnior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62120" y="762120"/>
            <a:ext cx="73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952560" y="1400040"/>
          <a:ext cx="7564320" cy="4930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52560" y="1400040"/>
                    <a:ext cx="7564320" cy="493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629400" y="4876920"/>
            <a:ext cx="838080" cy="228600"/>
          </a:xfrm>
          <a:custGeom>
            <a:avLst/>
            <a:gdLst>
              <a:gd name="textAreaLeft" fmla="*/ 14760 w 838080"/>
              <a:gd name="textAreaRight" fmla="*/ 823320 w 8380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9098" h="21600">
                <a:moveTo>
                  <a:pt x="0" y="0"/>
                </a:moveTo>
                <a:lnTo>
                  <a:pt x="79098" y="0"/>
                </a:lnTo>
                <a:lnTo>
                  <a:pt x="79098" y="21600"/>
                </a:lnTo>
                <a:lnTo>
                  <a:pt x="0" y="21600"/>
                </a:lnTo>
                <a:close/>
              </a:path>
              <a:path fill="lightenLess" w="79098" h="21600">
                <a:moveTo>
                  <a:pt x="0" y="0"/>
                </a:moveTo>
                <a:lnTo>
                  <a:pt x="79098" y="0"/>
                </a:lnTo>
                <a:lnTo>
                  <a:pt x="77698" y="1400"/>
                </a:lnTo>
                <a:lnTo>
                  <a:pt x="1400" y="1400"/>
                </a:lnTo>
                <a:close/>
              </a:path>
              <a:path fill="darken" w="79098" h="21600">
                <a:moveTo>
                  <a:pt x="79098" y="0"/>
                </a:moveTo>
                <a:lnTo>
                  <a:pt x="79098" y="21600"/>
                </a:lnTo>
                <a:lnTo>
                  <a:pt x="77698" y="20200"/>
                </a:lnTo>
                <a:lnTo>
                  <a:pt x="77698" y="1400"/>
                </a:lnTo>
                <a:close/>
              </a:path>
              <a:path fill="darkenLess" w="79098" h="21600">
                <a:moveTo>
                  <a:pt x="79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698" y="20200"/>
                </a:lnTo>
                <a:close/>
              </a:path>
              <a:path fill="lighten" w="79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79098" h="21600">
                <a:moveTo>
                  <a:pt x="34022" y="3985"/>
                </a:moveTo>
                <a:lnTo>
                  <a:pt x="41020" y="3985"/>
                </a:lnTo>
                <a:lnTo>
                  <a:pt x="45076" y="7484"/>
                </a:lnTo>
                <a:lnTo>
                  <a:pt x="45076" y="17615"/>
                </a:lnTo>
                <a:lnTo>
                  <a:pt x="34022" y="17615"/>
                </a:lnTo>
                <a:close/>
              </a:path>
              <a:path fill="darken" w="79098" h="21600">
                <a:moveTo>
                  <a:pt x="41020" y="3985"/>
                </a:moveTo>
                <a:lnTo>
                  <a:pt x="45076" y="7484"/>
                </a:lnTo>
                <a:lnTo>
                  <a:pt x="41020" y="7484"/>
                </a:ln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629400" y="4419720"/>
            <a:ext cx="838080" cy="228600"/>
          </a:xfrm>
          <a:custGeom>
            <a:avLst/>
            <a:gdLst>
              <a:gd name="textAreaLeft" fmla="*/ 14760 w 838080"/>
              <a:gd name="textAreaRight" fmla="*/ 823320 w 8380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9098" h="21600">
                <a:moveTo>
                  <a:pt x="0" y="0"/>
                </a:moveTo>
                <a:lnTo>
                  <a:pt x="79098" y="0"/>
                </a:lnTo>
                <a:lnTo>
                  <a:pt x="79098" y="21600"/>
                </a:lnTo>
                <a:lnTo>
                  <a:pt x="0" y="21600"/>
                </a:lnTo>
                <a:close/>
              </a:path>
              <a:path fill="lightenLess" w="79098" h="21600">
                <a:moveTo>
                  <a:pt x="0" y="0"/>
                </a:moveTo>
                <a:lnTo>
                  <a:pt x="79098" y="0"/>
                </a:lnTo>
                <a:lnTo>
                  <a:pt x="77698" y="1400"/>
                </a:lnTo>
                <a:lnTo>
                  <a:pt x="1400" y="1400"/>
                </a:lnTo>
                <a:close/>
              </a:path>
              <a:path fill="darken" w="79098" h="21600">
                <a:moveTo>
                  <a:pt x="79098" y="0"/>
                </a:moveTo>
                <a:lnTo>
                  <a:pt x="79098" y="21600"/>
                </a:lnTo>
                <a:lnTo>
                  <a:pt x="77698" y="20200"/>
                </a:lnTo>
                <a:lnTo>
                  <a:pt x="77698" y="1400"/>
                </a:lnTo>
                <a:close/>
              </a:path>
              <a:path fill="darkenLess" w="79098" h="21600">
                <a:moveTo>
                  <a:pt x="79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698" y="20200"/>
                </a:lnTo>
                <a:close/>
              </a:path>
              <a:path fill="lighten" w="79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79098" h="21600">
                <a:moveTo>
                  <a:pt x="34022" y="3985"/>
                </a:moveTo>
                <a:lnTo>
                  <a:pt x="41020" y="3985"/>
                </a:lnTo>
                <a:lnTo>
                  <a:pt x="45076" y="7484"/>
                </a:lnTo>
                <a:lnTo>
                  <a:pt x="45076" y="17615"/>
                </a:lnTo>
                <a:lnTo>
                  <a:pt x="34022" y="17615"/>
                </a:lnTo>
                <a:close/>
              </a:path>
              <a:path fill="darken" w="79098" h="21600">
                <a:moveTo>
                  <a:pt x="41020" y="3985"/>
                </a:moveTo>
                <a:lnTo>
                  <a:pt x="45076" y="7484"/>
                </a:lnTo>
                <a:lnTo>
                  <a:pt x="41020" y="7484"/>
                </a:ln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629400" y="3657600"/>
            <a:ext cx="838080" cy="228600"/>
          </a:xfrm>
          <a:custGeom>
            <a:avLst/>
            <a:gdLst>
              <a:gd name="textAreaLeft" fmla="*/ 14760 w 838080"/>
              <a:gd name="textAreaRight" fmla="*/ 823320 w 8380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9098" h="21600">
                <a:moveTo>
                  <a:pt x="0" y="0"/>
                </a:moveTo>
                <a:lnTo>
                  <a:pt x="79098" y="0"/>
                </a:lnTo>
                <a:lnTo>
                  <a:pt x="79098" y="21600"/>
                </a:lnTo>
                <a:lnTo>
                  <a:pt x="0" y="21600"/>
                </a:lnTo>
                <a:close/>
              </a:path>
              <a:path fill="lightenLess" w="79098" h="21600">
                <a:moveTo>
                  <a:pt x="0" y="0"/>
                </a:moveTo>
                <a:lnTo>
                  <a:pt x="79098" y="0"/>
                </a:lnTo>
                <a:lnTo>
                  <a:pt x="77698" y="1400"/>
                </a:lnTo>
                <a:lnTo>
                  <a:pt x="1400" y="1400"/>
                </a:lnTo>
                <a:close/>
              </a:path>
              <a:path fill="darken" w="79098" h="21600">
                <a:moveTo>
                  <a:pt x="79098" y="0"/>
                </a:moveTo>
                <a:lnTo>
                  <a:pt x="79098" y="21600"/>
                </a:lnTo>
                <a:lnTo>
                  <a:pt x="77698" y="20200"/>
                </a:lnTo>
                <a:lnTo>
                  <a:pt x="77698" y="1400"/>
                </a:lnTo>
                <a:close/>
              </a:path>
              <a:path fill="darkenLess" w="79098" h="21600">
                <a:moveTo>
                  <a:pt x="79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698" y="20200"/>
                </a:lnTo>
                <a:close/>
              </a:path>
              <a:path fill="lighten" w="79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79098" h="21600">
                <a:moveTo>
                  <a:pt x="34022" y="3985"/>
                </a:moveTo>
                <a:lnTo>
                  <a:pt x="41020" y="3985"/>
                </a:lnTo>
                <a:lnTo>
                  <a:pt x="45076" y="7484"/>
                </a:lnTo>
                <a:lnTo>
                  <a:pt x="45076" y="17615"/>
                </a:lnTo>
                <a:lnTo>
                  <a:pt x="34022" y="17615"/>
                </a:lnTo>
                <a:close/>
              </a:path>
              <a:path fill="darken" w="79098" h="21600">
                <a:moveTo>
                  <a:pt x="41020" y="3985"/>
                </a:moveTo>
                <a:lnTo>
                  <a:pt x="45076" y="7484"/>
                </a:lnTo>
                <a:lnTo>
                  <a:pt x="41020" y="7484"/>
                </a:ln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762120" y="762120"/>
            <a:ext cx="73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952560" y="1400040"/>
          <a:ext cx="7564320" cy="4930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52560" y="1400040"/>
                    <a:ext cx="7564320" cy="493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6858000" y="1447920"/>
            <a:ext cx="914400" cy="228600"/>
          </a:xfrm>
          <a:custGeom>
            <a:avLst/>
            <a:gdLst>
              <a:gd name="textAreaLeft" fmla="*/ 14760 w 914400"/>
              <a:gd name="textAreaRight" fmla="*/ 899640 w 914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86298" h="21600">
                <a:moveTo>
                  <a:pt x="0" y="0"/>
                </a:moveTo>
                <a:lnTo>
                  <a:pt x="86298" y="0"/>
                </a:lnTo>
                <a:lnTo>
                  <a:pt x="86298" y="21600"/>
                </a:lnTo>
                <a:lnTo>
                  <a:pt x="0" y="21600"/>
                </a:lnTo>
                <a:close/>
              </a:path>
              <a:path fill="lightenLess" w="86298" h="21600">
                <a:moveTo>
                  <a:pt x="0" y="0"/>
                </a:moveTo>
                <a:lnTo>
                  <a:pt x="86298" y="0"/>
                </a:lnTo>
                <a:lnTo>
                  <a:pt x="84898" y="1400"/>
                </a:lnTo>
                <a:lnTo>
                  <a:pt x="1400" y="1400"/>
                </a:lnTo>
                <a:close/>
              </a:path>
              <a:path fill="darken" w="86298" h="21600">
                <a:moveTo>
                  <a:pt x="86298" y="0"/>
                </a:moveTo>
                <a:lnTo>
                  <a:pt x="86298" y="21600"/>
                </a:lnTo>
                <a:lnTo>
                  <a:pt x="84898" y="20200"/>
                </a:lnTo>
                <a:lnTo>
                  <a:pt x="84898" y="1400"/>
                </a:lnTo>
                <a:close/>
              </a:path>
              <a:path fill="darkenLess" w="86298" h="21600">
                <a:moveTo>
                  <a:pt x="862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98" y="20200"/>
                </a:lnTo>
                <a:close/>
              </a:path>
              <a:path fill="lighten" w="862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86298" h="21600">
                <a:moveTo>
                  <a:pt x="37622" y="3985"/>
                </a:moveTo>
                <a:lnTo>
                  <a:pt x="44620" y="3985"/>
                </a:lnTo>
                <a:lnTo>
                  <a:pt x="48676" y="7484"/>
                </a:lnTo>
                <a:lnTo>
                  <a:pt x="48676" y="17615"/>
                </a:lnTo>
                <a:lnTo>
                  <a:pt x="37622" y="17615"/>
                </a:lnTo>
                <a:close/>
              </a:path>
              <a:path fill="darken" w="86298" h="21600">
                <a:moveTo>
                  <a:pt x="44620" y="3985"/>
                </a:moveTo>
                <a:lnTo>
                  <a:pt x="48676" y="7484"/>
                </a:lnTo>
                <a:lnTo>
                  <a:pt x="44620" y="7484"/>
                </a:ln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380988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545472"/>
                </a:solidFill>
                <a:latin typeface="Times New Roman"/>
              </a:rPr>
              <a:t>Dúvidas ?</a:t>
            </a:r>
            <a:endParaRPr b="0" lang="en-US" sz="7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676520" y="2895480"/>
            <a:ext cx="5333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7c7df"/>
                </a:solidFill>
                <a:latin typeface="Times New Roman"/>
              </a:rPr>
              <a:t>FIM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6T19:54:28Z</dcterms:created>
  <dc:creator>perfil_depro</dc:creator>
  <dc:description/>
  <dc:language>en-US</dc:language>
  <cp:lastModifiedBy>perfil_depro</cp:lastModifiedBy>
  <dcterms:modified xsi:type="dcterms:W3CDTF">2005-02-16T20:58:25Z</dcterms:modified>
  <cp:revision>3</cp:revision>
  <dc:subject/>
  <dc:title>Universidade Federal de Ouro Preto ICEB – Instituto de Ciências Exatas e Biológicas DECOM - Departamento de Computação Disciplina: Inteligência Computacional para Otimização Professor: Marcone Jamilson Freitas Souza   </dc:title>
</cp:coreProperties>
</file>