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5C2-8F47-48F2-AA1B-DD175BEC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ADC-B439-440F-B2CC-4A53EEB5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5E1-B212-4BA1-BE4D-BEE4C03E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CB7-B057-4E88-9F95-621FB22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20D-7EDB-4452-90B6-AC73AA56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80D-0A2A-4C66-BB82-C187D9B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397-6A99-4CEB-B3EE-9C51948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E34-15AA-4515-AECB-B882992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EE1-1AA5-492B-8DE5-21A3135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39D-24B4-4797-8C44-C4BC13D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F41-47FD-4A0F-90AD-CDD8AD99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244-BAD8-4234-89EF-34E486AE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DA6-18A9-4EB0-B24E-C2721599FAB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80880"/>
            <a:ext cx="79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teligência Computacion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280" y="224316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Simulated Annealing (SA)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Aplicado ao Problema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de K-Dispersão Discreta (PKD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1040" y="541008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Garamond"/>
                <a:ea typeface="Times New Roman"/>
              </a:rPr>
              <a:t>Gilmax de Oliveira Araújo</a:t>
            </a:r>
            <a:br>
              <a:rPr sz="2800"/>
            </a:br>
            <a:r>
              <a:rPr b="0" lang="pt-BR" sz="2800" spc="-1" strike="noStrike">
                <a:solidFill>
                  <a:srgbClr val="eaeaea"/>
                </a:solidFill>
                <a:latin typeface="Garamond"/>
              </a:rPr>
              <a:t>Luciana Batista de Li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finando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aso contrário o programa aceita a solução de piora com um probabilidade d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 = </a:t>
            </a:r>
            <a:r>
              <a:rPr b="0" lang="pt-BR" sz="3200" spc="-1" strike="noStrike">
                <a:solidFill>
                  <a:srgbClr val="ffff00"/>
                </a:solidFill>
                <a:latin typeface="TimesNewRoman,Bold"/>
                <a:ea typeface="Times New Roman"/>
              </a:rPr>
              <a:t>e </a:t>
            </a:r>
            <a:r>
              <a:rPr b="0" lang="pt-BR" sz="3200" spc="-1" strike="noStrike" baseline="30000">
                <a:solidFill>
                  <a:srgbClr val="ffff00"/>
                </a:solidFill>
                <a:latin typeface="TimesNewRoman,Bold"/>
                <a:ea typeface="Times New Roman"/>
              </a:rPr>
              <a:t>(  </a:t>
            </a:r>
            <a:r>
              <a:rPr b="0" lang="pt-BR" sz="3200" spc="-1" strike="noStrike" baseline="30000">
                <a:solidFill>
                  <a:srgbClr val="ffff00"/>
                </a:solidFill>
                <a:latin typeface="Fv"/>
                <a:ea typeface="Times New Roman"/>
              </a:rPr>
              <a:t>Δ/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té que a solução ótima seja encontrada ou o número máximo de interações (SAmax) seja atingido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Solução ótima encontrada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S = [0 1 0 1 0 1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Menor distância entre as arestas do polígono = 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clusão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olução satisfatória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mparação com o Problema d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k-dispersão resolvido pelo Ling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4400" y="407880"/>
            <a:ext cx="317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 Problem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60" y="170172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K – Dispersão Discre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2514600"/>
            <a:ext cx="860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Dado um conjunto de n possíveis candidatos sobre os nós de um grafo, deve-se em selecionar 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k facilidades dentre as n possíveis, de tal  modo que a distância mínima entre qualquer par das k facilidades selecionadas seja maximizada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743120"/>
            <a:ext cx="860112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Localização de reservatórios de combustível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Alocação de agentes competitivos como franquias etc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Distribuição de depósitos de lixo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Localização de silos de mísseis e instalações nuclear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Prisões e instalações militar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Tratamento de águas residuai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Distribuição de freqüências em sistemas de comunicaçõ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Experimentos estatístico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Exploração de madeira etc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7800" y="407880"/>
            <a:ext cx="280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plicaçõ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2286000"/>
            <a:ext cx="7272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Admite soluções de piora para escapar de ótimos locais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As soluções de piora são aceitas com uma certa probabilidade, a qual depende de um parâmetro, chamado de temperatura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O final do processo se dá quando a temperatura se aproxima de zero e nenhuma solução de piora é mais aceita, situação que evidencia o encontro de um ótimo local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2880" y="228600"/>
            <a:ext cx="756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Metaheurística Simulated Annealing (Têmpera Simulada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Caso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o Grafo abaixo, obter 3 cidades entre as 6 cidades possíveis, de tal forma que a menor distância entre ela seja maior que as menores distâncias dos possíveis polígonos formado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01640" y="2895480"/>
            <a:ext cx="5646600" cy="3089520"/>
            <a:chOff x="1601640" y="2895480"/>
            <a:chExt cx="5646600" cy="3089520"/>
          </a:xfrm>
        </p:grpSpPr>
        <p:sp>
          <p:nvSpPr>
            <p:cNvPr id="95" name=""/>
            <p:cNvSpPr/>
            <p:nvPr/>
          </p:nvSpPr>
          <p:spPr>
            <a:xfrm>
              <a:off x="1613880" y="4282200"/>
              <a:ext cx="33624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59560" y="3229560"/>
              <a:ext cx="335880" cy="38268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2440" y="3229560"/>
              <a:ext cx="335880" cy="38268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9560" y="5429880"/>
              <a:ext cx="33588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2440" y="5429880"/>
              <a:ext cx="33588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2000" y="4282200"/>
              <a:ext cx="33624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866240" y="3516120"/>
              <a:ext cx="1093320" cy="8607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2000" y="4569120"/>
              <a:ext cx="1261080" cy="9558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5800" y="5621040"/>
              <a:ext cx="218664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18320" y="4569120"/>
              <a:ext cx="1177560" cy="10519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0560" y="3516480"/>
              <a:ext cx="1345320" cy="9565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7680" y="3612240"/>
              <a:ext cx="0" cy="18172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5160" y="3564360"/>
              <a:ext cx="0" cy="18172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5800" y="3421440"/>
              <a:ext cx="218664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295800" y="3516120"/>
              <a:ext cx="2354760" cy="20084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11920" y="3516480"/>
              <a:ext cx="2438280" cy="20084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200" y="4536720"/>
              <a:ext cx="50454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1640" y="41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61000" y="5301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3880" y="5334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13440" y="41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3880" y="313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61000" y="313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58760" y="4856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87160" y="552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0680" y="361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0040" y="34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2960" y="4569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42240" y="404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95840" y="464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120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66600" y="493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1600" y="361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200400" y="4495680"/>
            <a:ext cx="3809880" cy="10670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828800" y="4495680"/>
            <a:ext cx="3733920" cy="10670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429000"/>
            <a:ext cx="3809880" cy="99072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505320"/>
            <a:ext cx="3962520" cy="99036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ahoma"/>
              </a:rPr>
              <a:t>Metodologia Aplica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Geração de uma solução aleatória inicia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A partir da tabela a seguir,que representa a matriz distância, obter um vetor de 6 elemento com valores booleanos 0 e 1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idade escolhida =&gt; “1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idade não escolhida =&gt; “0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Ex: s = [ 1 1 1 0 0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Tahoma"/>
              </a:rPr>
              <a:t>Tabela representativa da matriz distância:</a:t>
            </a: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81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imesNewRoman,Bold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65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imesNewRoman,Bold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981080"/>
            <a:ext cx="8000280" cy="4287960"/>
            <a:chOff x="457200" y="1981080"/>
            <a:chExt cx="8000280" cy="4287960"/>
          </a:xfrm>
        </p:grpSpPr>
        <p:grpSp>
          <p:nvGrpSpPr>
            <p:cNvPr id="139" name=""/>
            <p:cNvGrpSpPr/>
            <p:nvPr/>
          </p:nvGrpSpPr>
          <p:grpSpPr>
            <a:xfrm>
              <a:off x="457200" y="1981080"/>
              <a:ext cx="1142280" cy="630360"/>
              <a:chOff x="457200" y="1981080"/>
              <a:chExt cx="1142280" cy="630360"/>
            </a:xfrm>
          </p:grpSpPr>
          <p:sp>
            <p:nvSpPr>
              <p:cNvPr id="140" name=""/>
              <p:cNvSpPr/>
              <p:nvPr/>
            </p:nvSpPr>
            <p:spPr>
              <a:xfrm>
                <a:off x="471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eaeaea"/>
                    </a:solidFill>
                    <a:latin typeface="Tahoma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599840" y="1981080"/>
              <a:ext cx="1142640" cy="630360"/>
              <a:chOff x="1599840" y="1981080"/>
              <a:chExt cx="1142640" cy="63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1614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99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743200" y="1981080"/>
              <a:ext cx="1142280" cy="630360"/>
              <a:chOff x="2743200" y="1981080"/>
              <a:chExt cx="1142280" cy="630360"/>
            </a:xfrm>
          </p:grpSpPr>
          <p:sp>
            <p:nvSpPr>
              <p:cNvPr id="146" name=""/>
              <p:cNvSpPr/>
              <p:nvPr/>
            </p:nvSpPr>
            <p:spPr>
              <a:xfrm>
                <a:off x="2757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43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85840" y="1981080"/>
              <a:ext cx="1142640" cy="630360"/>
              <a:chOff x="3885840" y="1981080"/>
              <a:chExt cx="1142640" cy="6303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0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85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029200" y="1981080"/>
              <a:ext cx="1142280" cy="630360"/>
              <a:chOff x="5029200" y="1981080"/>
              <a:chExt cx="1142280" cy="63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043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29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171840" y="1981080"/>
              <a:ext cx="1142640" cy="630360"/>
              <a:chOff x="6171840" y="1981080"/>
              <a:chExt cx="1142640" cy="630360"/>
            </a:xfrm>
          </p:grpSpPr>
          <p:sp>
            <p:nvSpPr>
              <p:cNvPr id="155" name=""/>
              <p:cNvSpPr/>
              <p:nvPr/>
            </p:nvSpPr>
            <p:spPr>
              <a:xfrm>
                <a:off x="6186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71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315200" y="1981080"/>
              <a:ext cx="1142280" cy="630360"/>
              <a:chOff x="7315200" y="1981080"/>
              <a:chExt cx="1142280" cy="630360"/>
            </a:xfrm>
          </p:grpSpPr>
          <p:sp>
            <p:nvSpPr>
              <p:cNvPr id="158" name=""/>
              <p:cNvSpPr/>
              <p:nvPr/>
            </p:nvSpPr>
            <p:spPr>
              <a:xfrm>
                <a:off x="7329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5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57200" y="2620800"/>
              <a:ext cx="1142280" cy="600120"/>
              <a:chOff x="457200" y="2620800"/>
              <a:chExt cx="1142280" cy="600120"/>
            </a:xfrm>
          </p:grpSpPr>
          <p:sp>
            <p:nvSpPr>
              <p:cNvPr id="161" name=""/>
              <p:cNvSpPr/>
              <p:nvPr/>
            </p:nvSpPr>
            <p:spPr>
              <a:xfrm>
                <a:off x="471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99840" y="2620800"/>
              <a:ext cx="1142640" cy="600120"/>
              <a:chOff x="1599840" y="2620800"/>
              <a:chExt cx="1142640" cy="60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1614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99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3200" y="2620800"/>
              <a:ext cx="1142280" cy="600120"/>
              <a:chOff x="2743200" y="2620800"/>
              <a:chExt cx="1142280" cy="600120"/>
            </a:xfrm>
          </p:grpSpPr>
          <p:sp>
            <p:nvSpPr>
              <p:cNvPr id="167" name=""/>
              <p:cNvSpPr/>
              <p:nvPr/>
            </p:nvSpPr>
            <p:spPr>
              <a:xfrm>
                <a:off x="2757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43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85840" y="2620800"/>
              <a:ext cx="1142640" cy="600120"/>
              <a:chOff x="3885840" y="2620800"/>
              <a:chExt cx="1142640" cy="600120"/>
            </a:xfrm>
          </p:grpSpPr>
          <p:sp>
            <p:nvSpPr>
              <p:cNvPr id="170" name=""/>
              <p:cNvSpPr/>
              <p:nvPr/>
            </p:nvSpPr>
            <p:spPr>
              <a:xfrm>
                <a:off x="3900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85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029200" y="2620800"/>
              <a:ext cx="1142280" cy="600120"/>
              <a:chOff x="5029200" y="2620800"/>
              <a:chExt cx="1142280" cy="600120"/>
            </a:xfrm>
          </p:grpSpPr>
          <p:sp>
            <p:nvSpPr>
              <p:cNvPr id="173" name=""/>
              <p:cNvSpPr/>
              <p:nvPr/>
            </p:nvSpPr>
            <p:spPr>
              <a:xfrm>
                <a:off x="5043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29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71840" y="2620800"/>
              <a:ext cx="1142640" cy="600120"/>
              <a:chOff x="6171840" y="2620800"/>
              <a:chExt cx="1142640" cy="6001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86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71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315200" y="2620800"/>
              <a:ext cx="1142280" cy="600120"/>
              <a:chOff x="7315200" y="2620800"/>
              <a:chExt cx="1142280" cy="6001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29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15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7200" y="3230640"/>
              <a:ext cx="1142280" cy="599760"/>
              <a:chOff x="457200" y="3230640"/>
              <a:chExt cx="1142280" cy="59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471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599840" y="3230640"/>
              <a:ext cx="1142640" cy="599760"/>
              <a:chOff x="1599840" y="3230640"/>
              <a:chExt cx="1142640" cy="599760"/>
            </a:xfrm>
          </p:grpSpPr>
          <p:sp>
            <p:nvSpPr>
              <p:cNvPr id="185" name=""/>
              <p:cNvSpPr/>
              <p:nvPr/>
            </p:nvSpPr>
            <p:spPr>
              <a:xfrm>
                <a:off x="1614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99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43200" y="3230640"/>
              <a:ext cx="1142280" cy="599760"/>
              <a:chOff x="2743200" y="3230640"/>
              <a:chExt cx="1142280" cy="599760"/>
            </a:xfrm>
          </p:grpSpPr>
          <p:sp>
            <p:nvSpPr>
              <p:cNvPr id="188" name=""/>
              <p:cNvSpPr/>
              <p:nvPr/>
            </p:nvSpPr>
            <p:spPr>
              <a:xfrm>
                <a:off x="2757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3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885840" y="3230640"/>
              <a:ext cx="1142640" cy="599760"/>
              <a:chOff x="3885840" y="3230640"/>
              <a:chExt cx="1142640" cy="599760"/>
            </a:xfrm>
          </p:grpSpPr>
          <p:sp>
            <p:nvSpPr>
              <p:cNvPr id="191" name=""/>
              <p:cNvSpPr/>
              <p:nvPr/>
            </p:nvSpPr>
            <p:spPr>
              <a:xfrm>
                <a:off x="3900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85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029200" y="3230640"/>
              <a:ext cx="1142280" cy="599760"/>
              <a:chOff x="5029200" y="3230640"/>
              <a:chExt cx="1142280" cy="5997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43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29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171840" y="3230640"/>
              <a:ext cx="1142640" cy="599760"/>
              <a:chOff x="6171840" y="3230640"/>
              <a:chExt cx="1142640" cy="599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186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1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315200" y="3230640"/>
              <a:ext cx="1142280" cy="599760"/>
              <a:chOff x="7315200" y="3230640"/>
              <a:chExt cx="1142280" cy="599760"/>
            </a:xfrm>
          </p:grpSpPr>
          <p:sp>
            <p:nvSpPr>
              <p:cNvPr id="200" name=""/>
              <p:cNvSpPr/>
              <p:nvPr/>
            </p:nvSpPr>
            <p:spPr>
              <a:xfrm>
                <a:off x="7329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15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57200" y="3840120"/>
              <a:ext cx="1142280" cy="600120"/>
              <a:chOff x="457200" y="3840120"/>
              <a:chExt cx="1142280" cy="600120"/>
            </a:xfrm>
          </p:grpSpPr>
          <p:sp>
            <p:nvSpPr>
              <p:cNvPr id="203" name=""/>
              <p:cNvSpPr/>
              <p:nvPr/>
            </p:nvSpPr>
            <p:spPr>
              <a:xfrm>
                <a:off x="471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599840" y="3840120"/>
              <a:ext cx="1142640" cy="600120"/>
              <a:chOff x="1599840" y="3840120"/>
              <a:chExt cx="1142640" cy="6001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14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99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743200" y="3840120"/>
              <a:ext cx="1142280" cy="600120"/>
              <a:chOff x="2743200" y="3840120"/>
              <a:chExt cx="1142280" cy="600120"/>
            </a:xfrm>
          </p:grpSpPr>
          <p:sp>
            <p:nvSpPr>
              <p:cNvPr id="209" name=""/>
              <p:cNvSpPr/>
              <p:nvPr/>
            </p:nvSpPr>
            <p:spPr>
              <a:xfrm>
                <a:off x="2757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3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885840" y="3840120"/>
              <a:ext cx="1142640" cy="600120"/>
              <a:chOff x="3885840" y="3840120"/>
              <a:chExt cx="1142640" cy="600120"/>
            </a:xfrm>
          </p:grpSpPr>
          <p:sp>
            <p:nvSpPr>
              <p:cNvPr id="212" name=""/>
              <p:cNvSpPr/>
              <p:nvPr/>
            </p:nvSpPr>
            <p:spPr>
              <a:xfrm>
                <a:off x="3900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85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029200" y="3840120"/>
              <a:ext cx="1142280" cy="600120"/>
              <a:chOff x="5029200" y="3840120"/>
              <a:chExt cx="1142280" cy="600120"/>
            </a:xfrm>
          </p:grpSpPr>
          <p:sp>
            <p:nvSpPr>
              <p:cNvPr id="215" name=""/>
              <p:cNvSpPr/>
              <p:nvPr/>
            </p:nvSpPr>
            <p:spPr>
              <a:xfrm>
                <a:off x="5043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9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171840" y="3840120"/>
              <a:ext cx="1142640" cy="600120"/>
              <a:chOff x="6171840" y="3840120"/>
              <a:chExt cx="1142640" cy="600120"/>
            </a:xfrm>
          </p:grpSpPr>
          <p:sp>
            <p:nvSpPr>
              <p:cNvPr id="218" name=""/>
              <p:cNvSpPr/>
              <p:nvPr/>
            </p:nvSpPr>
            <p:spPr>
              <a:xfrm>
                <a:off x="6186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1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15200" y="3840120"/>
              <a:ext cx="1142280" cy="600120"/>
              <a:chOff x="7315200" y="3840120"/>
              <a:chExt cx="1142280" cy="60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7329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15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57200" y="4449600"/>
              <a:ext cx="1142280" cy="600120"/>
              <a:chOff x="457200" y="4449600"/>
              <a:chExt cx="1142280" cy="600120"/>
            </a:xfrm>
          </p:grpSpPr>
          <p:sp>
            <p:nvSpPr>
              <p:cNvPr id="224" name=""/>
              <p:cNvSpPr/>
              <p:nvPr/>
            </p:nvSpPr>
            <p:spPr>
              <a:xfrm>
                <a:off x="471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599840" y="4449600"/>
              <a:ext cx="1142640" cy="600120"/>
              <a:chOff x="1599840" y="4449600"/>
              <a:chExt cx="1142640" cy="600120"/>
            </a:xfrm>
          </p:grpSpPr>
          <p:sp>
            <p:nvSpPr>
              <p:cNvPr id="227" name=""/>
              <p:cNvSpPr/>
              <p:nvPr/>
            </p:nvSpPr>
            <p:spPr>
              <a:xfrm>
                <a:off x="1614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99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43200" y="4449600"/>
              <a:ext cx="1142280" cy="600120"/>
              <a:chOff x="2743200" y="4449600"/>
              <a:chExt cx="1142280" cy="60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2757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43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85840" y="4449600"/>
              <a:ext cx="1142640" cy="600120"/>
              <a:chOff x="3885840" y="4449600"/>
              <a:chExt cx="1142640" cy="600120"/>
            </a:xfrm>
          </p:grpSpPr>
          <p:sp>
            <p:nvSpPr>
              <p:cNvPr id="233" name=""/>
              <p:cNvSpPr/>
              <p:nvPr/>
            </p:nvSpPr>
            <p:spPr>
              <a:xfrm>
                <a:off x="3900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5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029200" y="4449600"/>
              <a:ext cx="1142280" cy="600120"/>
              <a:chOff x="5029200" y="4449600"/>
              <a:chExt cx="1142280" cy="600120"/>
            </a:xfrm>
          </p:grpSpPr>
          <p:sp>
            <p:nvSpPr>
              <p:cNvPr id="236" name=""/>
              <p:cNvSpPr/>
              <p:nvPr/>
            </p:nvSpPr>
            <p:spPr>
              <a:xfrm>
                <a:off x="5043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29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171840" y="4449600"/>
              <a:ext cx="1142640" cy="600120"/>
              <a:chOff x="6171840" y="4449600"/>
              <a:chExt cx="114264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6186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71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315200" y="4449600"/>
              <a:ext cx="1142280" cy="600120"/>
              <a:chOff x="7315200" y="4449600"/>
              <a:chExt cx="1142280" cy="600120"/>
            </a:xfrm>
          </p:grpSpPr>
          <p:sp>
            <p:nvSpPr>
              <p:cNvPr id="242" name=""/>
              <p:cNvSpPr/>
              <p:nvPr/>
            </p:nvSpPr>
            <p:spPr>
              <a:xfrm>
                <a:off x="7329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15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57200" y="5059440"/>
              <a:ext cx="1142280" cy="599760"/>
              <a:chOff x="457200" y="5059440"/>
              <a:chExt cx="1142280" cy="599760"/>
            </a:xfrm>
          </p:grpSpPr>
          <p:sp>
            <p:nvSpPr>
              <p:cNvPr id="245" name=""/>
              <p:cNvSpPr/>
              <p:nvPr/>
            </p:nvSpPr>
            <p:spPr>
              <a:xfrm>
                <a:off x="471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599840" y="5059440"/>
              <a:ext cx="1142640" cy="599760"/>
              <a:chOff x="1599840" y="5059440"/>
              <a:chExt cx="1142640" cy="599760"/>
            </a:xfrm>
          </p:grpSpPr>
          <p:sp>
            <p:nvSpPr>
              <p:cNvPr id="248" name=""/>
              <p:cNvSpPr/>
              <p:nvPr/>
            </p:nvSpPr>
            <p:spPr>
              <a:xfrm>
                <a:off x="1614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99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743200" y="5059440"/>
              <a:ext cx="1142280" cy="599760"/>
              <a:chOff x="2743200" y="5059440"/>
              <a:chExt cx="1142280" cy="599760"/>
            </a:xfrm>
          </p:grpSpPr>
          <p:sp>
            <p:nvSpPr>
              <p:cNvPr id="251" name=""/>
              <p:cNvSpPr/>
              <p:nvPr/>
            </p:nvSpPr>
            <p:spPr>
              <a:xfrm>
                <a:off x="2757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43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885840" y="5059440"/>
              <a:ext cx="1142640" cy="599760"/>
              <a:chOff x="3885840" y="5059440"/>
              <a:chExt cx="1142640" cy="599760"/>
            </a:xfrm>
          </p:grpSpPr>
          <p:sp>
            <p:nvSpPr>
              <p:cNvPr id="254" name=""/>
              <p:cNvSpPr/>
              <p:nvPr/>
            </p:nvSpPr>
            <p:spPr>
              <a:xfrm>
                <a:off x="3900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85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29200" y="5059440"/>
              <a:ext cx="1142280" cy="599760"/>
              <a:chOff x="5029200" y="5059440"/>
              <a:chExt cx="1142280" cy="599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043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29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1840" y="5059440"/>
              <a:ext cx="1142640" cy="599760"/>
              <a:chOff x="6171840" y="5059440"/>
              <a:chExt cx="1142640" cy="599760"/>
            </a:xfrm>
          </p:grpSpPr>
          <p:sp>
            <p:nvSpPr>
              <p:cNvPr id="260" name=""/>
              <p:cNvSpPr/>
              <p:nvPr/>
            </p:nvSpPr>
            <p:spPr>
              <a:xfrm>
                <a:off x="6186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1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315200" y="5059440"/>
              <a:ext cx="1142280" cy="599760"/>
              <a:chOff x="7315200" y="5059440"/>
              <a:chExt cx="1142280" cy="599760"/>
            </a:xfrm>
          </p:grpSpPr>
          <p:sp>
            <p:nvSpPr>
              <p:cNvPr id="263" name=""/>
              <p:cNvSpPr/>
              <p:nvPr/>
            </p:nvSpPr>
            <p:spPr>
              <a:xfrm>
                <a:off x="7329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15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57200" y="5668920"/>
              <a:ext cx="1142280" cy="600120"/>
              <a:chOff x="457200" y="5668920"/>
              <a:chExt cx="1142280" cy="600120"/>
            </a:xfrm>
          </p:grpSpPr>
          <p:sp>
            <p:nvSpPr>
              <p:cNvPr id="266" name=""/>
              <p:cNvSpPr/>
              <p:nvPr/>
            </p:nvSpPr>
            <p:spPr>
              <a:xfrm>
                <a:off x="471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599840" y="5668920"/>
              <a:ext cx="1142640" cy="600120"/>
              <a:chOff x="1599840" y="5668920"/>
              <a:chExt cx="1142640" cy="60012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4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99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743200" y="5668920"/>
              <a:ext cx="1142280" cy="600120"/>
              <a:chOff x="2743200" y="5668920"/>
              <a:chExt cx="1142280" cy="600120"/>
            </a:xfrm>
          </p:grpSpPr>
          <p:sp>
            <p:nvSpPr>
              <p:cNvPr id="272" name=""/>
              <p:cNvSpPr/>
              <p:nvPr/>
            </p:nvSpPr>
            <p:spPr>
              <a:xfrm>
                <a:off x="2757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43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85840" y="5668920"/>
              <a:ext cx="1142640" cy="600120"/>
              <a:chOff x="3885840" y="5668920"/>
              <a:chExt cx="1142640" cy="600120"/>
            </a:xfrm>
          </p:grpSpPr>
          <p:sp>
            <p:nvSpPr>
              <p:cNvPr id="275" name=""/>
              <p:cNvSpPr/>
              <p:nvPr/>
            </p:nvSpPr>
            <p:spPr>
              <a:xfrm>
                <a:off x="3900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85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200" y="5668920"/>
              <a:ext cx="1142280" cy="600120"/>
              <a:chOff x="5029200" y="5668920"/>
              <a:chExt cx="1142280" cy="600120"/>
            </a:xfrm>
          </p:grpSpPr>
          <p:sp>
            <p:nvSpPr>
              <p:cNvPr id="278" name=""/>
              <p:cNvSpPr/>
              <p:nvPr/>
            </p:nvSpPr>
            <p:spPr>
              <a:xfrm>
                <a:off x="5043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171840" y="5668920"/>
              <a:ext cx="1142640" cy="600120"/>
              <a:chOff x="6171840" y="5668920"/>
              <a:chExt cx="1142640" cy="60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6186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71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315200" y="5668920"/>
              <a:ext cx="1142280" cy="600120"/>
              <a:chOff x="7315200" y="5668920"/>
              <a:chExt cx="1142280" cy="600120"/>
            </a:xfrm>
          </p:grpSpPr>
          <p:sp>
            <p:nvSpPr>
              <p:cNvPr id="284" name=""/>
              <p:cNvSpPr/>
              <p:nvPr/>
            </p:nvSpPr>
            <p:spPr>
              <a:xfrm>
                <a:off x="7329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5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Função objetivo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onsiste na obtenção da menor distância das arestas do polígono formad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Ex:  dist (0,1) = 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dist (0,2) = 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dist (2,3) = 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Menor distância = 5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finando a solução – Simulated Annea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Gera um vizinho qualquer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Troca de posição de dois elemento quaisquer do vetor soluçã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Ex: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s = [1 1 1 0 0 0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s’= [1 0 1 1 0 0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alcula a função objetiv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Verifica se   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f(s’) &gt; f(s) 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se verdadeiro f(s) &lt;- f(s’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3T19:02:01Z</dcterms:created>
  <dc:creator>Fabrício Lacerda Biajoli</dc:creator>
  <dc:description/>
  <dc:language>en-US</dc:language>
  <cp:lastModifiedBy>Luciana</cp:lastModifiedBy>
  <dcterms:modified xsi:type="dcterms:W3CDTF">2005-02-17T22:06:34Z</dcterms:modified>
  <cp:revision>18</cp:revision>
  <dc:subject/>
  <dc:title>Apresentação do PowerPoint</dc:title>
</cp:coreProperties>
</file>