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71EA-FD3F-4D74-B455-B7D2B291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0880-03D1-4692-86F6-FD5A6576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8ACC-EC6E-4662-B3EC-83D243A5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3408-8012-41FB-9866-87F6EFB2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D59F-FD58-4F95-8138-B0AD4BF5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377A-B689-43D9-8D02-C25484F9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6E30-C6B7-4327-92BE-92537B72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D2BB-B366-4695-8EA7-4595761E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ABC6-E0CC-4A4C-9F79-9E756358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520E-6D53-4E7D-80AE-BE2CEF91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8247-2A30-44AC-9513-71CAACBE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747F-8095-4D32-ABEF-D9B97317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A954-D2B1-47C8-BC6C-333614BD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4196-AB7B-4FD3-8426-9D2B8A51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3CC8-7A6D-45C1-9315-D4BCE738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55C0-542B-4134-8DCD-31FDBDB5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6DF7-DAEC-4FBD-BFC6-2BEE7A38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3174-4391-41FE-A0F4-089BCD54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A84A-565E-49AE-BABC-6AC90FA1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5408-61E8-4EC4-90C2-2B5086B8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92E3-2D83-490C-B0E3-0FFFCC6D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7D6D-7A1C-4BA4-B674-67F2D703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6B72-80A6-484B-A2D0-042DE260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743C-3B4B-45A0-BD73-CBE315AE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66F8-4404-47B6-BD19-CC138123B7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8FE3-3B60-44B8-BA09-665B509550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Inteligência Computacional </a:t>
            </a:r>
            <a:br>
              <a:rPr sz="4400"/>
            </a:b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ara Otimização  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Bin Packing Probl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93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rnanda Sumika Hojo de Sou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ago Henrique Br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viane de Souza Coelh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mulated Annealin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 Inviabilid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45800"/>
            <a:ext cx="807732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balha no campo das soluções viáveis e inviáveis sendo que estas últimas são aceitas de acordo com uma certa probabilida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unção Objetivo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o = (nº de disquetes utilizados 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º mínimo de disquetes) +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(penalidade * </a:t>
            </a:r>
            <a:r>
              <a:rPr b="0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inviabilida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ultado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pt-B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tid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 testes foram feitos utilizando um total d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quivos de tamanhos aleatórios. Aplicando-se a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erentes técnica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am obtidos os seguintes result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t-BR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arquivos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t-BR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áximo de disquete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7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t-BR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ínimo de disquetes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ultado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pt-B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tid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33520" y="1219320"/>
          <a:ext cx="8305560" cy="5297400"/>
        </p:xfrm>
        <a:graphic>
          <a:graphicData uri="http://schemas.openxmlformats.org/drawingml/2006/table">
            <a:tbl>
              <a:tblPr/>
              <a:tblGrid>
                <a:gridCol w="2133360"/>
                <a:gridCol w="2590920"/>
                <a:gridCol w="1676520"/>
                <a:gridCol w="1904760"/>
              </a:tblGrid>
              <a:tr h="105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Método aplica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Melhor solução obtida (n</a:t>
                      </a:r>
                      <a:r>
                        <a:rPr b="1" lang="en-US" sz="2800" spc="-1" strike="noStrike" baseline="30000">
                          <a:solidFill>
                            <a:srgbClr val="ff99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 disq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Tempo de CP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No de sol. avaliad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F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~ 1 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F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~ 1 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 sem inviabilid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 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93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 com inviabilid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 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93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ultados obtido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ulated Annealing com inviabil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762120" y="1846440"/>
          <a:ext cx="4368600" cy="5011560"/>
        </p:xfrm>
        <a:graphic>
          <a:graphicData uri="http://schemas.openxmlformats.org/drawingml/2006/table">
            <a:tbl>
              <a:tblPr/>
              <a:tblGrid>
                <a:gridCol w="2184120"/>
                <a:gridCol w="2184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5638680" y="23623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1905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_star = 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_star = 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_melhor_obtido = 2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_medio = 25,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vio = (fo_medio - fo_star) / fo_star * 10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(25,8 - 24) / 25,8 * 100 = 6,98 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ultados obtido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99072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ulated Annealing com inviabil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crição do Proble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do um conjunto de n arquivos, com tamanhos t</a:t>
            </a:r>
            <a:r>
              <a:rPr b="0" lang="pt-BR" sz="32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, i = 1...n associados a eles, o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 Packing Problem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siste em arranjá-los no menor número de disquetes possív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 disquetes possuem capacidade b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delage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quivo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man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Índi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quete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a de Arquiv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úmero de Arquiv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paço total ocup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delag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743200"/>
            <a:ext cx="685800" cy="60948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3962520"/>
            <a:ext cx="685800" cy="60948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4572000"/>
            <a:ext cx="685800" cy="60948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5181480"/>
            <a:ext cx="685800" cy="60984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5791320"/>
            <a:ext cx="685800" cy="60948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3352680"/>
            <a:ext cx="685800" cy="60984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304812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2895480"/>
            <a:ext cx="457200" cy="38124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304812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2895480"/>
            <a:ext cx="457200" cy="38124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304812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2895480"/>
            <a:ext cx="457200" cy="38124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04812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2895480"/>
            <a:ext cx="457200" cy="38124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3048120"/>
            <a:ext cx="457200" cy="14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2895480"/>
            <a:ext cx="457200" cy="38124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3048120"/>
            <a:ext cx="304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30481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0" y="32767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487692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4724280"/>
            <a:ext cx="457200" cy="38124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487692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724280"/>
            <a:ext cx="457200" cy="38124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487692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4724280"/>
            <a:ext cx="457200" cy="38124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87692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4724280"/>
            <a:ext cx="457200" cy="38124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4876920"/>
            <a:ext cx="457200" cy="14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4724280"/>
            <a:ext cx="457200" cy="38124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4876920"/>
            <a:ext cx="304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34320" y="48769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5029200"/>
            <a:ext cx="304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0" y="51055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601992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867280"/>
            <a:ext cx="457200" cy="38124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71800" y="601992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5867280"/>
            <a:ext cx="457200" cy="38124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6019920"/>
            <a:ext cx="304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60199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6172200"/>
            <a:ext cx="304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62485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426708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4114800"/>
            <a:ext cx="457200" cy="38088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426708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4114800"/>
            <a:ext cx="457200" cy="38088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426708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114800"/>
            <a:ext cx="457200" cy="380880"/>
          </a:xfrm>
          <a:prstGeom prst="rect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057400" y="3657600"/>
            <a:ext cx="457200" cy="228600"/>
            <a:chOff x="2057400" y="3657600"/>
            <a:chExt cx="457200" cy="228600"/>
          </a:xfrm>
        </p:grpSpPr>
        <p:sp>
          <p:nvSpPr>
            <p:cNvPr id="148" name=""/>
            <p:cNvSpPr/>
            <p:nvPr/>
          </p:nvSpPr>
          <p:spPr>
            <a:xfrm>
              <a:off x="2057400" y="3657600"/>
              <a:ext cx="3049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62320" y="365760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10040" y="3809880"/>
              <a:ext cx="3045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0" y="3886200"/>
              <a:ext cx="1526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057400" y="5486400"/>
            <a:ext cx="457200" cy="228600"/>
            <a:chOff x="2057400" y="5486400"/>
            <a:chExt cx="457200" cy="228600"/>
          </a:xfrm>
        </p:grpSpPr>
        <p:sp>
          <p:nvSpPr>
            <p:cNvPr id="153" name=""/>
            <p:cNvSpPr/>
            <p:nvPr/>
          </p:nvSpPr>
          <p:spPr>
            <a:xfrm>
              <a:off x="2057400" y="5486400"/>
              <a:ext cx="3049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62320" y="548640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10040" y="5638680"/>
              <a:ext cx="3045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86000" y="5715000"/>
              <a:ext cx="1526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800600" y="4267080"/>
            <a:ext cx="457200" cy="228600"/>
            <a:chOff x="4800600" y="4267080"/>
            <a:chExt cx="457200" cy="228600"/>
          </a:xfrm>
        </p:grpSpPr>
        <p:sp>
          <p:nvSpPr>
            <p:cNvPr id="158" name=""/>
            <p:cNvSpPr/>
            <p:nvPr/>
          </p:nvSpPr>
          <p:spPr>
            <a:xfrm>
              <a:off x="4800600" y="4267080"/>
              <a:ext cx="3049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05520" y="4267080"/>
              <a:ext cx="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53240" y="4419360"/>
              <a:ext cx="3045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29200" y="4495680"/>
              <a:ext cx="1526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990720" y="1219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ução: Vetor de Disquet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2209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que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2286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22096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qu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ções Aplicad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urístic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construtiv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-Fit Decreasing (FF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st-Fit Decreasing (BFD)</a:t>
            </a:r>
            <a:r>
              <a:rPr b="0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heurística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ulated Annealing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 Inviabil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ulated Annealing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 Inviabil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rst-Fit Decreasing (FFD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todo gulo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 n itens são ordenados e tomados em ordem decrescente de tamanh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nenhum dos disquetes já utilizados tiver capacidade suficiente para acomodar o arquivo, um novo disquete é usado. Caso contrário, o arquivo é colocado no primeiro disquete com capacidade disponíve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st</a:t>
            </a:r>
            <a:r>
              <a:rPr b="0" lang="pt-B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Fit Decreasing (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</a:t>
            </a:r>
            <a:r>
              <a:rPr b="0" lang="pt-B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D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641600"/>
            <a:ext cx="807732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todo gulo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 n itens são ordenados e tomados em ordem decrescente de tamanh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nenhum dos disquetes já utilizados tiver capacidade suficiente para acomodar o arquivo, um novo disquete é usado. Caso contrário, o arquivo é colocad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isquete mais cheio mas que tenha espaço suficiente para armazenar o arquiv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mulated Anneal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81532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imento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atoriamente escolhe-se um disquete de orig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e disquete, escolhe-se um arquiv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ro disquete, diferente da orige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é então escolhido para ser o desti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arquivo escolhido é retirado do disquete de origem e inserido no disquete de desti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09120" y="1945800"/>
            <a:ext cx="8077320" cy="42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balha somente no campo das soluções viáve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unção objetiv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o = (nº de disquetes utilizados 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º mínimo de disque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mulated Annealin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em Inviabilid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3:54:58Z</dcterms:created>
  <dc:creator>Decom1</dc:creator>
  <dc:description/>
  <dc:language>en-US</dc:language>
  <cp:lastModifiedBy>Decom1</cp:lastModifiedBy>
  <dcterms:modified xsi:type="dcterms:W3CDTF">2003-02-19T11:16:19Z</dcterms:modified>
  <cp:revision>13</cp:revision>
  <dc:subject/>
  <dc:title>Inteligência Computacional  para Otimização    Bin Packing Problem</dc:title>
</cp:coreProperties>
</file>