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05C5-9D89-45D3-8653-14C46C0C0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CFE3-BEC5-4D7C-BF92-4B27882EE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3041-9C1C-4D6E-B9D4-FB32885E6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5DFD-A746-4714-A731-0108DA6BC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C610C-85FA-4271-B0DC-1C44EBD74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ED96A-5F6F-465C-9A49-9AB365D4D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AA528-28C4-4B33-9EFC-5762AB4B4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698A5-D698-4746-A0C7-EB5CB8E4C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DC55E-CC81-4F6A-B909-C3525566E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19FE1-F21E-43B3-A347-B3B33B052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62465-E50C-4C60-B32E-6D1328C1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526A-D5D1-423E-A9D3-B4F6465DE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B880A-8E28-4BA8-953D-80C68D310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ADE80-5097-4B7A-80DF-8CC880C7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298B8-3913-4DA0-932E-6A4BCD13A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32A2C-196F-42C5-A565-0D7D520FF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46678-90AB-4DD1-ABBE-8EF7C26F6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0769-6E4F-41B6-8D3C-AC13AD4C0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E3F1-C16C-4BAB-857D-B9E4E41B6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C3F7-1074-403A-965E-1CAE18236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45BC-8306-4C82-84A4-527D79540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CB08-2D7C-4D49-92E3-83C36FD8A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A131-D904-4BDA-BB22-54C82119F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167A-8AB7-4254-8BC3-DCA1BC89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18320" y="420120"/>
                <a:ext cx="426816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37000" y="840600"/>
                <a:ext cx="3431160" cy="31946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255320" y="1261080"/>
                <a:ext cx="2594520" cy="2354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590120" y="1597680"/>
                <a:ext cx="1924560" cy="1681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518640" y="3515400"/>
                <a:ext cx="3249000" cy="30268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837240" y="3830760"/>
                <a:ext cx="2611800" cy="23961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4410720" y="4398480"/>
                <a:ext cx="1464840" cy="12610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4851360" y="506880"/>
                <a:ext cx="3630960" cy="34052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207760" y="861480"/>
                <a:ext cx="291888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563440" y="1216080"/>
                <a:ext cx="2207160" cy="19864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0CD30-96A3-418A-8BC5-259C27BB684B}" type="slidenum">
              <a:rPr b="1" lang="pt-BR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418320" y="420120"/>
                  <a:ext cx="426816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837000" y="840600"/>
                  <a:ext cx="3431160" cy="31946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255320" y="1261080"/>
                  <a:ext cx="2594520" cy="2354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590120" y="1597680"/>
                  <a:ext cx="1924560" cy="1681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3518640" y="3515400"/>
                  <a:ext cx="3249000" cy="30268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837240" y="3830760"/>
                  <a:ext cx="2611800" cy="23961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4410720" y="4398480"/>
                  <a:ext cx="1464840" cy="12610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4851360" y="506880"/>
                  <a:ext cx="3630960" cy="34052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5207760" y="861480"/>
                  <a:ext cx="291888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563440" y="1216080"/>
                  <a:ext cx="2207160" cy="19864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0B64E-421A-441E-BE98-2F7EBF7FD454}" type="slidenum"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2057040"/>
            <a:ext cx="8686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Alocação de processos a computadores em uma rede em anel lógico utilizando Busca Tabu</a:t>
            </a:r>
            <a:r>
              <a:rPr b="1" lang="pt-BR" sz="4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0" y="487692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duardo Magno Lages Figueired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Courier New"/>
                <a:ea typeface="Courier New"/>
              </a:rPr>
              <a:t>&lt; emagno@iceb.ufop.br &gt;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</a:t>
            </a:r>
            <a:r>
              <a:rPr b="1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ibele Esteves Ram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Courier New"/>
                <a:ea typeface="Courier New"/>
              </a:rPr>
              <a:t>&lt; sibele.ramos@bol.com.br &gt;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-6840" y="0"/>
            <a:ext cx="5176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Universidade Federal de Ouro Pret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Instituto de Ciências Exatas e Biológica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Departamento de Computaçã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COM272 – Inteligência Computaciona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ourier New"/>
                <a:ea typeface="Courier New"/>
              </a:rPr>
              <a:t>Descrição do Problema</a:t>
            </a:r>
            <a:r>
              <a:rPr b="0" lang="pt-BR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9480" y="1905120"/>
            <a:ext cx="8077320" cy="3504960"/>
          </a:xfrm>
          <a:prstGeom prst="rect">
            <a:avLst/>
          </a:prstGeom>
          <a:solidFill>
            <a:srgbClr val="0033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648320" y="1905120"/>
            <a:ext cx="0" cy="3504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9480" y="3657600"/>
            <a:ext cx="80773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44400" y="1981080"/>
            <a:ext cx="57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44400" y="3733920"/>
            <a:ext cx="49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59200" y="3733920"/>
            <a:ext cx="49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759200" y="1981080"/>
            <a:ext cx="49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88360" y="1905120"/>
            <a:ext cx="58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TX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87280" y="2835360"/>
            <a:ext cx="65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La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031600" y="1905120"/>
            <a:ext cx="58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TX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030520" y="2835360"/>
            <a:ext cx="65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La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964680" y="3657600"/>
            <a:ext cx="58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TX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963600" y="4587840"/>
            <a:ext cx="65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La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031600" y="3657600"/>
            <a:ext cx="58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TX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9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030520" y="4587840"/>
            <a:ext cx="65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La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78320" y="228600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JobA (10, 7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601280" y="4572000"/>
            <a:ext cx="183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JobE (10, 16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640120" y="2286000"/>
            <a:ext cx="184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JobB (20, 12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744640" y="617220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JobF (30, 5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913640" y="6172200"/>
            <a:ext cx="18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JobG (30, 20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640120" y="2895480"/>
            <a:ext cx="184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JobC (10, 12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2000" y="3886200"/>
            <a:ext cx="18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JobD (15, 10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ourier New"/>
                <a:ea typeface="Courier New"/>
              </a:rPr>
              <a:t>Descrição do Problema</a:t>
            </a:r>
            <a:r>
              <a:rPr b="0" lang="pt-BR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905120"/>
            <a:ext cx="8077320" cy="3504960"/>
          </a:xfrm>
          <a:prstGeom prst="rect">
            <a:avLst/>
          </a:prstGeom>
          <a:solidFill>
            <a:srgbClr val="0033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648320" y="1905120"/>
            <a:ext cx="0" cy="3504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9480" y="3657600"/>
            <a:ext cx="80773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44400" y="1981080"/>
            <a:ext cx="57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44400" y="3733920"/>
            <a:ext cx="49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759200" y="3733920"/>
            <a:ext cx="49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759200" y="1981080"/>
            <a:ext cx="49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888360" y="1905120"/>
            <a:ext cx="58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TX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87280" y="2835360"/>
            <a:ext cx="65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La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031600" y="1905120"/>
            <a:ext cx="58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TX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030520" y="2835360"/>
            <a:ext cx="65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La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964680" y="3657600"/>
            <a:ext cx="58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TX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963600" y="4587840"/>
            <a:ext cx="65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La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031600" y="3657600"/>
            <a:ext cx="58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TX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030520" y="4587840"/>
            <a:ext cx="65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La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678320" y="228600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JobA (10, 7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1280" y="4572000"/>
            <a:ext cx="183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JobE (10, 16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40120" y="2286000"/>
            <a:ext cx="184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JobB (20, 12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16440" y="396252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JobF (30, 5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716800" y="4648320"/>
            <a:ext cx="18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JobG (30, 20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640120" y="2895480"/>
            <a:ext cx="184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JobC (10, 12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602000" y="3886200"/>
            <a:ext cx="18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JobD (15, 10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27920" y="5867280"/>
            <a:ext cx="615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Será que esta é a melhor solução ??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Redução ao problema da mochila</a:t>
            </a:r>
            <a:r>
              <a:rPr b="1" lang="pt-BR" sz="36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28600" y="2200320"/>
            <a:ext cx="8763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Cada </a:t>
            </a:r>
            <a:r>
              <a:rPr b="1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rocesso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(</a:t>
            </a:r>
            <a:r>
              <a:rPr b="0" i="1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job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) é um </a:t>
            </a:r>
            <a:r>
              <a:rPr b="1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bjeto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Cada </a:t>
            </a:r>
            <a:r>
              <a:rPr b="1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computador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(</a:t>
            </a:r>
            <a:r>
              <a:rPr b="0" i="1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C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) é uma </a:t>
            </a:r>
            <a:r>
              <a:rPr b="1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mochila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s objetos possuem um peso (</a:t>
            </a:r>
            <a:r>
              <a:rPr b="0" i="1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w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) que é o consumo de recursos computacionais e um benefício (</a:t>
            </a:r>
            <a:r>
              <a:rPr b="0" i="1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lan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) que é a taxa de utilização da rede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s mochilas possuem uma capacidade que é o desempenho do computador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Redução ao problema da mochila</a:t>
            </a:r>
            <a:r>
              <a:rPr b="1" lang="pt-BR" sz="36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" y="2743200"/>
            <a:ext cx="8763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Neste problema, não há apenas uma mochila. ( cada </a:t>
            </a:r>
            <a:r>
              <a:rPr b="0" i="1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C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é uma );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Todos os objetos (</a:t>
            </a:r>
            <a:r>
              <a:rPr b="0" i="1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jobs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) devem ser alocados a alguma das mochilas;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Neste  problema o objetivo não é conseguir o maior benefício possível, e sim distribuir de forma o mais igualitária possível os benefícios entre as mochilas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ourier New"/>
                <a:ea typeface="Courier New"/>
              </a:rPr>
              <a:t>Modelagem Matemátic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28600" y="1981080"/>
            <a:ext cx="8763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Uma solução é um </a:t>
            </a:r>
            <a:r>
              <a:rPr b="0" i="1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rray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de inteiros com </a:t>
            </a:r>
            <a:r>
              <a:rPr b="0" i="1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n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posições, onde </a:t>
            </a:r>
            <a:r>
              <a:rPr b="0" i="1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n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é o numero de processos (</a:t>
            </a:r>
            <a:r>
              <a:rPr b="0" i="1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job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);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Cada posição representa um processo e o conteúdo da posição diz a qual computador este processo está alocado;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Uma solução: </a:t>
            </a:r>
            <a:r>
              <a:rPr b="0" i="1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[1 – 2 – 2 – 3 – 3 – 4 – 4];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Um movimento um optimal (1-opt) é alocar um processo a outro computador;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Um vizinho da solução </a:t>
            </a:r>
            <a:r>
              <a:rPr b="0" i="1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: </a:t>
            </a:r>
            <a:r>
              <a:rPr b="0" i="1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’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[2 – 2 – 2 – 3 – 3 – 4 – 4]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ourier New"/>
                <a:ea typeface="Courier New"/>
              </a:rPr>
              <a:t>Modelagem Matemátic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28600" y="1828800"/>
            <a:ext cx="87631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 cálculo de f(s) para este problema é dividido em duas partes: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f(s) = </a:t>
            </a:r>
            <a:r>
              <a:rPr b="0" lang="pt-BR" sz="2400" spc="-1" strike="noStrike">
                <a:solidFill>
                  <a:srgbClr val="eaeaea"/>
                </a:solidFill>
                <a:latin typeface="Symbol"/>
                <a:ea typeface="Symbol"/>
              </a:rPr>
              <a:t>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f1(m) + f2(s)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0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e soma de pesos &lt;= capacidade PC (w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f1(m) = MEDIAPENAL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e w &lt; soma de pesos &lt;= 1,5 * w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MAXPENAL           se soma de pesos &gt; 1,5 *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w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f2(s) = maxLan – minLan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MAXPENAL e MEDIAPENAL são parâmetros do problema;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maxLan é o valor de </a:t>
            </a:r>
            <a:r>
              <a:rPr b="0" i="1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lan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do computador que possui maior acesso à rede e minLan o que possui o menor acesso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809720" y="30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Dados do Algoritmo</a:t>
            </a:r>
            <a:r>
              <a:rPr b="0" lang="pt-BR" sz="44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809720" y="30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33520" y="2368440"/>
            <a:ext cx="8153280" cy="41173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Tamanho 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Iteração s/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Função 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Total d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Lista Tabu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Melhora 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bjetivo 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Iteraçõ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1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10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20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268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4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2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50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20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176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5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3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50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30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161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9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4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50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200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158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33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5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50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1000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133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220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6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50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2000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132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4228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7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30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5000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138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558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8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60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5000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120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1183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9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100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10000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120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1671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546200" y="1523880"/>
            <a:ext cx="622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olução Inicial: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Função objetivo = </a:t>
            </a:r>
            <a:r>
              <a:rPr b="1" lang="pt-BR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481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Dados do Algoritmo</a:t>
            </a:r>
            <a:r>
              <a:rPr b="0" lang="pt-BR" sz="44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809720" y="30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495680" y="1828800"/>
            <a:ext cx="4343400" cy="44830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Função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Total de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bjetivo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Iteraçõ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1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120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1147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2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122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134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3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117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2148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4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132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3147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5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118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204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6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138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178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7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119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1627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8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124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1457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9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134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252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10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106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258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79080" y="1863720"/>
            <a:ext cx="352008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Tamanho da lista tabu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5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No de iterações s/ melhor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1000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Média da Função Objetiv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12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esvi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16,04 %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Conclusão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57200" y="18288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 algoritmo não é muito robusto porque as soluções iniciais são geradas de forma aleatória e a Busca Tabu é fortemente dependente da solução inicial;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52160" y="3581280"/>
            <a:ext cx="438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Melhorias propostas ao algoritmo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4320" y="4191120"/>
            <a:ext cx="880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 indent="292320">
              <a:lnSpc>
                <a:spcPct val="100000"/>
              </a:lnSpc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Utilização de uma lista tabu de tamanho dinâmico;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190440" indent="292320">
              <a:lnSpc>
                <a:spcPct val="100000"/>
              </a:lnSpc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Utilização de um algoritmo para gerar uma melhor solução inicial;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975000" y="6297480"/>
            <a:ext cx="186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imes New Roman"/>
              </a:rPr>
              <a:t>Fevereiro / 2003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ourier New"/>
              </a:rPr>
              <a:t>Introduçã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1905120"/>
            <a:ext cx="8763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presenta-se neste trabalho um algoritmo que implementa a busca por uma boa solução a problemas combinatórios (np-difíceis)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 problema consiste na alocação de um conjunto de processos a um conjunto de computadore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ois requisitos devem ser satisfeitos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4648320"/>
            <a:ext cx="8458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289080" algn="just"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Não sobrecarregar nenhum computador com excesso de processos;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76280" indent="-289080" algn="just"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 taxa de utilização da rede deve ser uniformemente distribuída entre todos os computadores 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76280" indent="-289080" algn="just"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ourier New"/>
                <a:ea typeface="Courier New"/>
              </a:rPr>
              <a:t>Descrição do Problema</a:t>
            </a:r>
            <a:r>
              <a:rPr b="0" lang="pt-BR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190512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ste problema descreve um sistema computacional composto de computadores (</a:t>
            </a:r>
            <a:r>
              <a:rPr b="0" i="1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C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) interligados fisicamente através de um barramento comum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371600" y="3505320"/>
            <a:ext cx="6171840" cy="1599840"/>
            <a:chOff x="1371600" y="3505320"/>
            <a:chExt cx="6171840" cy="1599840"/>
          </a:xfrm>
        </p:grpSpPr>
        <p:sp>
          <p:nvSpPr>
            <p:cNvPr id="133" name=""/>
            <p:cNvSpPr/>
            <p:nvPr/>
          </p:nvSpPr>
          <p:spPr>
            <a:xfrm>
              <a:off x="1633680" y="3505320"/>
              <a:ext cx="919440" cy="726840"/>
            </a:xfrm>
            <a:prstGeom prst="rect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eaeaea"/>
                  </a:solidFill>
                  <a:latin typeface="Times New Roman"/>
                </a:rPr>
                <a:t>PC1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209760" y="3505320"/>
              <a:ext cx="919440" cy="726840"/>
            </a:xfrm>
            <a:prstGeom prst="rect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eaeaea"/>
                  </a:solidFill>
                  <a:latin typeface="Times New Roman"/>
                </a:rPr>
                <a:t>PC2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785480" y="3505320"/>
              <a:ext cx="919440" cy="726840"/>
            </a:xfrm>
            <a:prstGeom prst="rect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eaeaea"/>
                  </a:solidFill>
                  <a:latin typeface="Times New Roman"/>
                </a:rPr>
                <a:t>PC3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361560" y="3505320"/>
              <a:ext cx="919440" cy="726840"/>
            </a:xfrm>
            <a:prstGeom prst="rect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eaeaea"/>
                  </a:solidFill>
                  <a:latin typeface="Times New Roman"/>
                </a:rPr>
                <a:t>PC4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371600" y="5105160"/>
              <a:ext cx="6171840" cy="0"/>
            </a:xfrm>
            <a:prstGeom prst="line">
              <a:avLst/>
            </a:prstGeom>
            <a:ln w="7632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071800" y="4232160"/>
              <a:ext cx="0" cy="87264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669480" y="4232160"/>
              <a:ext cx="0" cy="87264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245200" y="4232160"/>
              <a:ext cx="0" cy="87264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42880" y="4232160"/>
              <a:ext cx="0" cy="87264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228600" y="556272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Como o meio de transmissão é único, apenas um dos computadores poderá enviar ou receber mensagens por vez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ourier New"/>
                <a:ea typeface="Courier New"/>
              </a:rPr>
              <a:t>Descrição do Problema</a:t>
            </a:r>
            <a:r>
              <a:rPr b="0" lang="pt-BR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" y="182880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Uma solução para evitar colisão de mensagens enviadas por diferentes computadores é admitir que cada computador tenha seu momento de utilização da rede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4952880" y="3048120"/>
            <a:ext cx="3809880" cy="3200040"/>
            <a:chOff x="4952880" y="3048120"/>
            <a:chExt cx="3809880" cy="3200040"/>
          </a:xfrm>
        </p:grpSpPr>
        <p:sp>
          <p:nvSpPr>
            <p:cNvPr id="146" name=""/>
            <p:cNvSpPr/>
            <p:nvPr/>
          </p:nvSpPr>
          <p:spPr>
            <a:xfrm>
              <a:off x="6540120" y="3048120"/>
              <a:ext cx="740160" cy="499680"/>
            </a:xfrm>
            <a:prstGeom prst="rect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eaeaea"/>
                  </a:solidFill>
                  <a:latin typeface="Times New Roman"/>
                </a:rPr>
                <a:t>PC1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021880" y="4348440"/>
              <a:ext cx="740880" cy="499680"/>
            </a:xfrm>
            <a:prstGeom prst="rect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eaeaea"/>
                  </a:solidFill>
                  <a:latin typeface="Times New Roman"/>
                </a:rPr>
                <a:t>PC2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540120" y="5748480"/>
              <a:ext cx="740160" cy="499680"/>
            </a:xfrm>
            <a:prstGeom prst="rect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eaeaea"/>
                  </a:solidFill>
                  <a:latin typeface="Times New Roman"/>
                </a:rPr>
                <a:t>PC3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952880" y="4348440"/>
              <a:ext cx="740160" cy="499680"/>
            </a:xfrm>
            <a:prstGeom prst="rect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eaeaea"/>
                  </a:solidFill>
                  <a:latin typeface="Times New Roman"/>
                </a:rPr>
                <a:t>PC4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799240" y="3647880"/>
              <a:ext cx="2116440" cy="1999800"/>
            </a:xfrm>
            <a:prstGeom prst="ellipse">
              <a:avLst/>
            </a:prstGeom>
            <a:noFill/>
            <a:ln cap="rnd" w="9360">
              <a:solidFill>
                <a:srgbClr val="eaeaea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822360" y="4548240"/>
              <a:ext cx="105840" cy="10008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6875280" y="3664440"/>
              <a:ext cx="0" cy="900000"/>
            </a:xfrm>
            <a:prstGeom prst="line">
              <a:avLst/>
            </a:prstGeom>
            <a:ln w="1908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6513480" y="4174560"/>
              <a:ext cx="1100160" cy="1046880"/>
            </a:xfrm>
            <a:custGeom>
              <a:avLst/>
              <a:gdLst>
                <a:gd name="textAreaLeft" fmla="*/ 0 w 1100160"/>
                <a:gd name="textAreaRight" fmla="*/ 1100520 w 1100160"/>
                <a:gd name="textAreaTop" fmla="*/ 0 h 1046880"/>
                <a:gd name="textAreaBottom" fmla="*/ 1047240 h 104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10800000"/>
                  <a:lnTo>
                    <a:pt x="0" y="10800"/>
                  </a:lnTo>
                  <a:arcTo wR="10800" hR="10800" stAng="10800000" swAng="10800000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304920" y="3809880"/>
            <a:ext cx="4343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esta forma, foi implementada logicamente uma topologia em anel, onde cada computador tem um tempo (</a:t>
            </a:r>
            <a:r>
              <a:rPr b="0" i="1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t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) para transmissão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ourier New"/>
                <a:ea typeface="Courier New"/>
              </a:rPr>
              <a:t>Descrição do Problema</a:t>
            </a:r>
            <a:r>
              <a:rPr b="0" lang="pt-BR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" y="1828800"/>
            <a:ext cx="8763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ão consideradas para o problema, as características de cada máquina que compõe o sistema computacional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ara simplificar o problema, consideraremos apenas o desempenho medido em Milhões de Instruções por Segundo (MIPS), de cada um dos computadores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7" name="COMP046" descr=""/>
          <p:cNvPicPr/>
          <p:nvPr/>
        </p:nvPicPr>
        <p:blipFill>
          <a:blip r:embed="rId1"/>
          <a:stretch/>
        </p:blipFill>
        <p:spPr>
          <a:xfrm>
            <a:off x="533520" y="4421160"/>
            <a:ext cx="1904760" cy="1293840"/>
          </a:xfrm>
          <a:prstGeom prst="rect">
            <a:avLst/>
          </a:prstGeom>
          <a:ln w="0">
            <a:noFill/>
          </a:ln>
        </p:spPr>
      </p:pic>
      <p:pic>
        <p:nvPicPr>
          <p:cNvPr id="158" name="COMP005" descr=""/>
          <p:cNvPicPr/>
          <p:nvPr/>
        </p:nvPicPr>
        <p:blipFill>
          <a:blip r:embed="rId2"/>
          <a:stretch/>
        </p:blipFill>
        <p:spPr>
          <a:xfrm>
            <a:off x="3048120" y="4344840"/>
            <a:ext cx="1539720" cy="1362240"/>
          </a:xfrm>
          <a:prstGeom prst="rect">
            <a:avLst/>
          </a:prstGeom>
          <a:ln w="0">
            <a:noFill/>
          </a:ln>
        </p:spPr>
      </p:pic>
      <p:pic>
        <p:nvPicPr>
          <p:cNvPr id="159" name="COMP011" descr=""/>
          <p:cNvPicPr/>
          <p:nvPr/>
        </p:nvPicPr>
        <p:blipFill>
          <a:blip r:embed="rId3"/>
          <a:stretch/>
        </p:blipFill>
        <p:spPr>
          <a:xfrm>
            <a:off x="5105520" y="4421160"/>
            <a:ext cx="1447560" cy="1274760"/>
          </a:xfrm>
          <a:prstGeom prst="rect">
            <a:avLst/>
          </a:prstGeom>
          <a:ln w="0">
            <a:noFill/>
          </a:ln>
        </p:spPr>
      </p:pic>
      <p:pic>
        <p:nvPicPr>
          <p:cNvPr id="160" name="COMP022" descr=""/>
          <p:cNvPicPr/>
          <p:nvPr/>
        </p:nvPicPr>
        <p:blipFill>
          <a:blip r:embed="rId4"/>
          <a:stretch/>
        </p:blipFill>
        <p:spPr>
          <a:xfrm>
            <a:off x="7010280" y="4421160"/>
            <a:ext cx="1590840" cy="12654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748440" y="5908680"/>
            <a:ext cx="775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90 MIPS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        50 MIPS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30 MIPS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10 MIPS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ourier New"/>
                <a:ea typeface="Courier New"/>
              </a:rPr>
              <a:t>Descrição do Problema</a:t>
            </a:r>
            <a:r>
              <a:rPr b="0" lang="pt-BR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1981080"/>
            <a:ext cx="87631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Temos um conjunto de processos (</a:t>
            </a:r>
            <a:r>
              <a:rPr b="0" i="1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job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) que devem ser alocados aos computadore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Cada um destes processos consome uma quantidade (</a:t>
            </a:r>
            <a:r>
              <a:rPr b="0" i="1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w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) de recursos da máquina a qual for alocado. ( </a:t>
            </a:r>
            <a:r>
              <a:rPr b="0" i="1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w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medido em MIPS 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s processos possuem ainda uma taxa de utilização da rede (</a:t>
            </a:r>
            <a:r>
              <a:rPr b="0" i="1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lan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) medido em Megabits por segundo (Mb/s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Quando o processo for alocado a um computador, este terá uma taxa de utilização da rede definida pela </a:t>
            </a:r>
            <a:r>
              <a:rPr b="0" i="1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lan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de processo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ourier New"/>
                <a:ea typeface="Courier New"/>
              </a:rPr>
              <a:t>Descrição do Problema</a:t>
            </a:r>
            <a:r>
              <a:rPr b="0" lang="pt-BR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1905120"/>
            <a:ext cx="8077320" cy="3504960"/>
          </a:xfrm>
          <a:prstGeom prst="rect">
            <a:avLst/>
          </a:prstGeom>
          <a:solidFill>
            <a:srgbClr val="0033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648320" y="1905120"/>
            <a:ext cx="0" cy="3504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3657600"/>
            <a:ext cx="80773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44400" y="1981080"/>
            <a:ext cx="57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44400" y="3733920"/>
            <a:ext cx="49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759200" y="3733920"/>
            <a:ext cx="49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759200" y="1981080"/>
            <a:ext cx="49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88360" y="1905120"/>
            <a:ext cx="58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TX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87280" y="2835360"/>
            <a:ext cx="65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La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031600" y="1905120"/>
            <a:ext cx="58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TX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030520" y="2835360"/>
            <a:ext cx="65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La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964680" y="3657600"/>
            <a:ext cx="58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TX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963600" y="4587840"/>
            <a:ext cx="65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La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031600" y="3657600"/>
            <a:ext cx="58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TX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9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030520" y="4587840"/>
            <a:ext cx="65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La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35320" y="560376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JobA (10, 7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4600" y="6172200"/>
            <a:ext cx="183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JobE (10, 16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744640" y="5638680"/>
            <a:ext cx="184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JobB (20, 12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4640" y="617220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JobF (30, 5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13640" y="6172200"/>
            <a:ext cx="18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JobG (30, 20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78360" y="5638680"/>
            <a:ext cx="184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JobC (10, 12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971040" y="5638680"/>
            <a:ext cx="18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JobD (15, 10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ourier New"/>
                <a:ea typeface="Courier New"/>
              </a:rPr>
              <a:t>Descrição do Problema</a:t>
            </a:r>
            <a:r>
              <a:rPr b="0" lang="pt-BR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1905120"/>
            <a:ext cx="8077320" cy="3504960"/>
          </a:xfrm>
          <a:prstGeom prst="rect">
            <a:avLst/>
          </a:prstGeom>
          <a:solidFill>
            <a:srgbClr val="0033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48320" y="1905120"/>
            <a:ext cx="0" cy="3504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9480" y="3657600"/>
            <a:ext cx="80773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44400" y="1981080"/>
            <a:ext cx="57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44400" y="3733920"/>
            <a:ext cx="49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59200" y="3733920"/>
            <a:ext cx="49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59200" y="1981080"/>
            <a:ext cx="49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88360" y="1905120"/>
            <a:ext cx="58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TX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7280" y="2835360"/>
            <a:ext cx="65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La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031600" y="1905120"/>
            <a:ext cx="58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TX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030520" y="2835360"/>
            <a:ext cx="65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La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964680" y="3657600"/>
            <a:ext cx="58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TX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963600" y="4587840"/>
            <a:ext cx="65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La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031600" y="3657600"/>
            <a:ext cx="58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TX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9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030520" y="4587840"/>
            <a:ext cx="65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La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78320" y="228600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JobA (10, 7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4600" y="6172200"/>
            <a:ext cx="183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JobE (10, 16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744640" y="5638680"/>
            <a:ext cx="184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JobB (20, 12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744640" y="617220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JobF (30, 5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913640" y="6172200"/>
            <a:ext cx="18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JobG (30, 20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878360" y="5638680"/>
            <a:ext cx="184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JobC (10, 12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71040" y="5638680"/>
            <a:ext cx="18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JobD (15, 10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ourier New"/>
                <a:ea typeface="Courier New"/>
              </a:rPr>
              <a:t>Descrição do Problema</a:t>
            </a:r>
            <a:r>
              <a:rPr b="0" lang="pt-BR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09480" y="1905120"/>
            <a:ext cx="8077320" cy="3504960"/>
          </a:xfrm>
          <a:prstGeom prst="rect">
            <a:avLst/>
          </a:prstGeom>
          <a:solidFill>
            <a:srgbClr val="0033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648320" y="1905120"/>
            <a:ext cx="0" cy="3504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09480" y="3657600"/>
            <a:ext cx="80773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4400" y="1981080"/>
            <a:ext cx="57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4400" y="3733920"/>
            <a:ext cx="49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759200" y="3733920"/>
            <a:ext cx="49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759200" y="1981080"/>
            <a:ext cx="49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88360" y="1905120"/>
            <a:ext cx="58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TX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87280" y="2835360"/>
            <a:ext cx="65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La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031600" y="1905120"/>
            <a:ext cx="58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TX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030520" y="2835360"/>
            <a:ext cx="65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La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64680" y="3657600"/>
            <a:ext cx="58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TX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963600" y="4587840"/>
            <a:ext cx="65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La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031600" y="3657600"/>
            <a:ext cx="58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TX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9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030520" y="4587840"/>
            <a:ext cx="65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La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78320" y="228600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JobA (10, 7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34600" y="6172200"/>
            <a:ext cx="183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JobE (10, 16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640120" y="2286000"/>
            <a:ext cx="184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JobB (20, 12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744640" y="617220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JobF (30, 5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13640" y="6172200"/>
            <a:ext cx="18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JobG (30, 20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640120" y="2895480"/>
            <a:ext cx="184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JobC (10, 12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971040" y="5638680"/>
            <a:ext cx="18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JobD (15, 10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03:55:41Z</dcterms:created>
  <dc:creator>Administrador</dc:creator>
  <dc:description/>
  <dc:language>en-US</dc:language>
  <cp:lastModifiedBy>Decom</cp:lastModifiedBy>
  <dcterms:modified xsi:type="dcterms:W3CDTF">2003-02-19T12:34:06Z</dcterms:modified>
  <cp:revision>8</cp:revision>
  <dc:subject/>
  <dc:title>Alocação de processos a computadores em uma rede em anel lógico utilizando Busca Tabu </dc:title>
</cp:coreProperties>
</file>