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4F6-FA4E-4684-AA6C-8F735999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958-E756-47EA-8C5E-9A0EE08F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F23-20DF-4E62-ACBA-CF600C29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194-7C6E-4103-A2D4-C34FAFA6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7D0-4FB5-4749-8B41-6BEC6C8B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150C-0601-4136-AB95-9F037A2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CD5D-720B-4AB8-92EF-3FC90C1B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057E-0F7E-4543-9E96-47227A09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9A83-0765-4A65-A6A7-E9850BA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8A8-F429-488C-B8FF-FB9F7B5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72A-DE7F-4B2E-B6C2-157D6DFF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0FC-06D5-4F27-972A-CC42698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64A7-9D7D-47A2-B89E-19E685EA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1E0-6DE9-42F8-9B3D-583E878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C30-E25D-4D38-8C4C-D3CC1C5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EC65-E7BA-42E4-A888-7C2A535A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23DA-C5F6-4CE9-8390-287334C9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596-06E2-4F4D-ACE5-1375E6D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B57-8B79-46A0-A337-DE16BA9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9E2-CE77-45ED-B583-8B48BF2B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F01-ECD2-41E9-86D5-35B33451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30D-F2AC-4867-9E3A-5733BBF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8DA-DAF9-4F64-8454-E936018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9AF-D4BD-44C4-9ECE-19FAFAB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92D4-EEC6-4AA9-8E48-587AFF676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46A-D72E-4C38-821A-C1F63CDF1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1342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ff"/>
                </a:solidFill>
                <a:latin typeface="Arial"/>
              </a:rPr>
              <a:t>Alocação de Salas</a:t>
            </a:r>
            <a:br>
              <a:rPr sz="6600"/>
            </a:b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Via Simulated Anneal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16360" y="5516640"/>
            <a:ext cx="4137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Daniela Leal de Barce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Arial"/>
              </a:rPr>
              <a:t>Elayne Ferreira de Sou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Modelagem do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ecff"/>
                </a:solidFill>
                <a:latin typeface="Arial"/>
              </a:rPr>
              <a:t>Representação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A soluções inicial e final do problema são representadas por matrizes com 91 linhas e 8 colunas, onde as linhas representam os horários disponíveis e as colunas representam as salas. São definidas, respectivamente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abelaS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abelaSstar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Vizinhanç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considerada um vizinho da solução corrente, a solução criada através dos movimentos de troca e alocação, o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oca corresponde a inserção de um determinado elemento em uma posição vaz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locação corresponde a trocar a(s) sala(s) de uma turma por outra sala vazia no mesmo horá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função objetivo consiste no valor das penalidades referentes a não cumprimento de um requisi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considerado essencial o fato de uma sala não poder ter sobrecarga de alunos. Caso isso ocorra, é gerada uma inviabilidade na solu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utra penalidade que pode ser calculada é o fato de haver ociosidade de carteiras. Neste caso, o valor adicional à função objetiva será 1 e inviabilidades não serão ge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Função objetiv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cálculo da função objetivo é representado através do somatório de todas as penalidades sofr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Sendo pexcesso a penalidade por excesso e pociosidade, a penalidade por ociosidade, t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Courier New"/>
                <a:ea typeface="Times New Roman"/>
              </a:rPr>
              <a:t>int fo = ∑</a:t>
            </a:r>
            <a:r>
              <a:rPr b="0" lang="pt-BR" sz="2800" spc="-1" strike="noStrike">
                <a:solidFill>
                  <a:srgbClr val="ccecff"/>
                </a:solidFill>
                <a:latin typeface="Courier New"/>
              </a:rPr>
              <a:t>(pexcesso + pocis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inic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ão escolhidos, aleatoriamente, uma sala e um horário. Caso neste instante esta sala já esteja ocupada, uma nova escolha aleatória é efetu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É usada neste caso uma semente igual a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fi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É gerada utilizando o método de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imulated Annealing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com os seguintes parâmet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Número Máximo de iterações em uma dada temperatura – 5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Temperatura Inicial – obtida através de uma função auto-adaptati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Coeficiente de resfriamento – 0,99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lução fi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79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181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valor final da função objetivo é representada pelo menor valor das fo’s de todas as soluções encont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ccff"/>
                </a:solidFill>
                <a:latin typeface="Arial"/>
              </a:rPr>
              <a:t>Resultados Computacionai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14680" y="2093760"/>
            <a:ext cx="5715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s resultados obtidos com a utilização do método 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imulated Annealing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  foram satisfatórios. Porém, poderia ser interessante refinar a solução final deste problema utilizando uma outra metaheurística. Essa etapa ajustaria ainda mais as aulas às salas disponíve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imulated Anneal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Proposto por Kirkpatrick et al. (198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Simula o processo de recozimento de materi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Admite soluções de piora para escapar de ótimos loc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Técnica de pesqui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Sobre o problema: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cecff"/>
                </a:solidFill>
                <a:latin typeface="Arial"/>
              </a:rPr>
              <a:t>O problema de alocação de salas (PAS) diz respeito à distribuição de aulas, com horários previamente estabelecidos, a salas, respeitando-se um conjunto de restrições de várias naturezas (Schaefer 1999)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blema fictício com os seguintes atribu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salas  - 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ndo 7 reais e uma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horários –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7 horários de segunda a sexta-feira e 5 horários aos sáb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pacidade das Sa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84640"/>
          <a:ext cx="7283520" cy="2232000"/>
        </p:xfrm>
        <a:graphic>
          <a:graphicData uri="http://schemas.openxmlformats.org/drawingml/2006/table">
            <a:tbl>
              <a:tblPr/>
              <a:tblGrid>
                <a:gridCol w="1295280"/>
                <a:gridCol w="1260000"/>
                <a:gridCol w="736560"/>
                <a:gridCol w="629640"/>
                <a:gridCol w="735840"/>
                <a:gridCol w="736200"/>
                <a:gridCol w="629280"/>
                <a:gridCol w="631080"/>
                <a:gridCol w="629640"/>
              </a:tblGrid>
              <a:tr h="103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a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5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ap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úmero de aulas  -  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ndo 7 reais e uma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da aula tem como característic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gla que representa o departamento do qual faz par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ódigo da discipli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ódigo da turma matricul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dicador se a aula é teórica ou prát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ias em que é disponibiliza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rário de início e fi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emanda da tur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manalmente, o número de aulas de uma certa disciplina é de no máximo 6 horári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tri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sala não pode ser alocada para uma turma maior que sua capac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aula deve ser dada em, no máximo, 3 dias durante a seman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ff"/>
                </a:solidFill>
                <a:latin typeface="Arial"/>
              </a:rPr>
              <a:t>Descrição do problema em questã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turma não pode ocupar mais de uma sala em um mesmo intervalo de horári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vitar a ociosidade de carteiras em uma sal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ma mesma sala não pode ser ocupada por mais de uma turma ao mesmo t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22:21:44Z</dcterms:created>
  <dc:creator>com0314124</dc:creator>
  <dc:description/>
  <dc:language>en-US</dc:language>
  <cp:lastModifiedBy>com0314117</cp:lastModifiedBy>
  <dcterms:modified xsi:type="dcterms:W3CDTF">2005-02-18T12:42:42Z</dcterms:modified>
  <cp:revision>12</cp:revision>
  <dc:subject/>
  <dc:title>Alocação de Salas utilizando  Simulated Annealing</dc:title>
</cp:coreProperties>
</file>