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105-A581-4B8D-88B2-625BA67C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EE5-4BE4-47D4-8E94-C4F0515B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CE8C-A02E-44EA-B46E-B3C89CDCE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47E-4F0A-4EF2-961E-002A5DEF7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4F8A-C4F6-4AB0-863E-CE2FF7D7C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0E56-816C-4880-8345-B1D55B47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0F8-7700-4E47-A15D-86383122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1F2-301A-40A2-99F7-2138532E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6A66-A53C-491D-9BD6-D7B0A7F3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CBC-7101-4DB5-90CF-73BE9E48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5DC-909E-454E-B724-92426AEF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6CF-FF3B-4F6F-93F1-5E79B89C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1F7-81F0-4384-8A07-6563C3FDF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47920" y="1204920"/>
            <a:ext cx="6438960" cy="244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oblema de Alocaçã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de Jogos do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Campeonato Brasileir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1374840" y="445608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Grupo: Antônio Augusto Cha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abrício Lacerda Biaj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távio Massashi 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teste" descr=""/>
          <p:cNvPicPr/>
          <p:nvPr/>
        </p:nvPicPr>
        <p:blipFill>
          <a:blip r:embed="rId2"/>
          <a:stretch/>
        </p:blipFill>
        <p:spPr>
          <a:xfrm>
            <a:off x="6095880" y="4025880"/>
            <a:ext cx="19684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752480"/>
            <a:ext cx="861084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Um jogo é representado como um regist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Jogo =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1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2 : integ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e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A tabela de solução é do tipo Jogos X Rodadas preenchida com campos do tipo TJo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Tabela: array[1..13,1..29] of TJog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3640" y="47304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ÉTODO UTI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720" y="1749600"/>
            <a:ext cx="8595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Foi utilizado o Simulated Annealing para a resolução do probl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omo funcion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arâmetr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Eficiênc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4720" y="82440"/>
            <a:ext cx="839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ultados apresentados pela Tabela Oficial do Campeonato Brasileiro de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5800" y="1832040"/>
            <a:ext cx="85312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ção Objetivo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80.613.55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stância Total Percorrid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613.556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. de Times que jogaram mais de uma vez na mesma rodad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. de Times que jogaram mais de duas vezes consecutivas fora de casa: </a:t>
            </a:r>
            <a:r>
              <a:rPr b="1" lang="en-US" sz="2800" spc="-1" strike="noStrike">
                <a:solidFill>
                  <a:srgbClr val="fb660b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3640" y="47304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SS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80880" y="1447920"/>
          <a:ext cx="8610840" cy="5105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447920"/>
                    <a:ext cx="8610840" cy="510516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3640" y="47304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SSOS RESUL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1676520"/>
            <a:ext cx="6629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mpo médio de execução: ~8,5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lhor Solução encontrada: 303.143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édia das Soluções: 340.700,3 k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vio: 11,0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a pequena compa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20560" y="4635360"/>
          <a:ext cx="8305920" cy="152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0560" y="4635360"/>
                    <a:ext cx="8305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3640" y="47304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SIDERAÇÕES FIN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211608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xperiênci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blem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elhor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53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460520"/>
            <a:ext cx="8055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problema consiste 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ocar os jogos, montando a tabela do Campeonato Brasileiro, com o objetivo de minimizar a distância total percorrida pelos times, levando em consideração alguns requisitos, tai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m time não pode jogar mais de 1 vez na mesma rodad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Um time não pode jogar mais de 2 vezes consecutivas fora de c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31440" y="399960"/>
            <a:ext cx="300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6509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Inicialmente temos um conjunto de 26 times, onde todos se enfrentam em turno único (único jogo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Como definir todos os jogos possíveis sem gerar repetição, levando em conta ainda o mando de ca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9200" y="1413000"/>
            <a:ext cx="855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uponha que temos os seguintes times: Atlético, Gama, Goiás, Vasco e São Paulo; e desejamos definir todos os jogos possíveis entre e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91560" y="2959200"/>
            <a:ext cx="276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G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Goi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lético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80880" y="3314880"/>
            <a:ext cx="250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Goi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ama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22640" y="51814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asco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9800" y="4813200"/>
            <a:ext cx="24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iás X Va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Goiás X 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6560" y="6048360"/>
            <a:ext cx="33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 o mando de camp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2895480"/>
            <a:ext cx="6553080" cy="2819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1800" y="1536840"/>
            <a:ext cx="8474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 problema do mando de campo nós resolvemos da seguinte manei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+ Atlético X Gama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Mando de campo do Atlé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lético X Gama </a:t>
            </a:r>
            <a:r>
              <a:rPr b="0" lang="en-US" sz="2800" spc="-1" strike="noStrike">
                <a:solidFill>
                  <a:srgbClr val="ffff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Mando de campo do G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447920"/>
            <a:ext cx="876312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am definidos dois tipos de movim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 Troca de mando de campo(trocar sinal de um jogo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roca de jogos entre rodad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is tipos de inviabilidade foram consider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 um time joga mais de uma vez na mesma rodada (NI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 um time joga mais de duas vezes consecutivas fora de casa (NI3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nção Objetiv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_Star = FO + NI2*P2 + NI3*P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5120" y="120960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finição de uma solu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05920" y="20574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o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88600" y="25351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Rod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3640" y="473040"/>
            <a:ext cx="31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ODELAG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33520" y="3157560"/>
          <a:ext cx="8381880" cy="3105000"/>
        </p:xfrm>
        <a:graphic>
          <a:graphicData uri="http://schemas.openxmlformats.org/drawingml/2006/table">
            <a:tbl>
              <a:tblPr/>
              <a:tblGrid>
                <a:gridCol w="1143000"/>
                <a:gridCol w="1251000"/>
                <a:gridCol w="1198440"/>
                <a:gridCol w="1197000"/>
                <a:gridCol w="1198440"/>
                <a:gridCol w="1195560"/>
                <a:gridCol w="119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  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2360" y="1447920"/>
            <a:ext cx="8469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ara calcular e controlar as inviabilidades apresentadas durante a resolução do problema, foi definida a Matriz de contro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3600" y="309888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od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8640" y="33559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1216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44080" y="3657600"/>
            <a:ext cx="0" cy="259092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1523880"/>
            <a:ext cx="8915400" cy="51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Para entrada de dados, foi utilizado um arquivo do tipo texto com a seguinte estru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im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ime2                                       "VetorTimes: array[1..26] of string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tim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istancia time1 -&gt; tim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istancia time1 -&gt; time3        “MatDist: array[1..26,2..26] of integer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distancia time25 -&gt; time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1066680"/>
            <a:ext cx="86104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2666880"/>
            <a:ext cx="3733920" cy="40388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2666880"/>
            <a:ext cx="5105520" cy="4038840"/>
          </a:xfrm>
          <a:prstGeom prst="rect">
            <a:avLst/>
          </a:prstGeom>
          <a:noFill/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4572000"/>
            <a:ext cx="5105520" cy="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640" y="473040"/>
            <a:ext cx="611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LEMENT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1:35:39Z</dcterms:created>
  <dc:creator>Guto</dc:creator>
  <dc:description/>
  <dc:language>en-US</dc:language>
  <cp:lastModifiedBy>Guto</cp:lastModifiedBy>
  <dcterms:modified xsi:type="dcterms:W3CDTF">2003-02-28T12:49:43Z</dcterms:modified>
  <cp:revision>26</cp:revision>
  <dc:subject/>
  <dc:title>Apresentação do PowerPoint</dc:title>
</cp:coreProperties>
</file>